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BA1-657A-4E10-92C8-DCE0852D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C96-D929-4D4D-8664-AB4E9792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881-C9DE-4012-B32E-6AF18C29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56F-3F2D-4720-9EAE-3963ACD6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A5B-9817-41C2-A82E-04E01C1E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57A-3F2E-47AA-AE00-AC546918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290-4ED4-4757-8130-2AA9E605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6E3-126A-44CF-8C59-F75CE56A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7CC-D04B-4909-8CEA-E5C79A5A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6DB-4B3B-4409-A1B5-6419B26F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D41-4832-4210-8BB4-F8F1B68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82B-632C-4371-BD94-39453E86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7D98-93B1-40BA-BDD3-06CFE29DF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commons.wikimedia.org/wiki/File:Bestuzhev_by_Borovikovsky.jpg?uselang=ru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ru.wikipedia.org/wiki/5_&#1076;&#1077;&#1082;&#1072;&#1073;&#1088;&#1103;" TargetMode="External"/><Relationship Id="rId5" Type="http://schemas.openxmlformats.org/officeDocument/2006/relationships/hyperlink" Target="http://ru.wikipedia.org/wiki/1761_&#1075;&#1086;&#1076;" TargetMode="External"/><Relationship Id="rId6" Type="http://schemas.openxmlformats.org/officeDocument/2006/relationships/hyperlink" Target="http://ru.wikipedia.org/wiki/1_&#1072;&#1087;&#1088;&#1077;&#1083;&#1103;" TargetMode="External"/><Relationship Id="rId7" Type="http://schemas.openxmlformats.org/officeDocument/2006/relationships/hyperlink" Target="http://ru.wikipedia.org/wiki/1810_&#1075;&#1086;&#1076;" TargetMode="External"/><Relationship Id="rId8" Type="http://schemas.openxmlformats.org/officeDocument/2006/relationships/hyperlink" Target="http://ru.wikipedia.org/wiki/&#1057;&#1072;&#1085;&#1082;&#1090;-&#1055;&#1077;&#1090;&#1077;&#1088;&#1073;&#1091;&#1088;&#1075;" TargetMode="External"/><Relationship Id="rId9" Type="http://schemas.openxmlformats.org/officeDocument/2006/relationships/hyperlink" Target="http://ru.wikipedia.org/wiki/&#1041;&#1077;&#1089;&#1090;&#1091;&#1078;&#1077;&#1074;,_&#1053;&#1080;&#1082;&#1086;&#1083;&#1072;&#1081;_&#1040;&#1083;&#1077;&#1082;&#1089;&#1072;&#1085;&#1076;&#1088;&#1086;&#1074;&#1080;&#1095;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908000" y="476280"/>
            <a:ext cx="74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00000"/>
                </a:solidFill>
                <a:latin typeface="Candara"/>
              </a:rPr>
              <a:t>Мой город – Кириш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(символика нашего горо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-324000" y="6381720"/>
            <a:ext cx="73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Воспитатель: Дубовикова Наталья Владими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618694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01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blankbook-previ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0x08 graphic"/>
          <p:cNvPicPr/>
          <p:nvPr/>
        </p:nvPicPr>
        <p:blipFill>
          <a:blip r:embed="rId2"/>
          <a:stretch/>
        </p:blipFill>
        <p:spPr>
          <a:xfrm>
            <a:off x="611280" y="549360"/>
            <a:ext cx="3663720" cy="5054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716360" y="394920"/>
            <a:ext cx="4025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герба – французский щит. На лазоревом фоне изображение древних ладей, символизирующих два торговых пути, которые проходили по реке Волхов: из варяг в греки; из греков в арабы. Серебряный круг, в центре которого размещены лазоревые фигуры, символизирующие единство топливно-энергетического комплекса города Кириши, кроме того фигуры внутри круга символизируют пламя сердец комсомольцев-первостроителей и «Киришский факел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blankbook-previ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0x01 graphic"/>
          <p:cNvPicPr/>
          <p:nvPr/>
        </p:nvPicPr>
        <p:blipFill>
          <a:blip r:embed="rId2"/>
          <a:stretch/>
        </p:blipFill>
        <p:spPr>
          <a:xfrm>
            <a:off x="468360" y="1389240"/>
            <a:ext cx="3916440" cy="2625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932360" y="75996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л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авлен на основании герба, является официальным символом муниципального образования Киришское городское поселение Киришского муниципального района Ленинградской области и служит знаком единства его насе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Спасибо за внимани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хиль.wmv" descr="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blankbook-previ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11280" y="1484280"/>
            <a:ext cx="374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ndara"/>
                <a:ea typeface="Arial"/>
              </a:rPr>
              <a:t>Исток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ndara"/>
                <a:ea typeface="Arial"/>
              </a:rPr>
              <a:t>Киришской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ndara"/>
                <a:ea typeface="Arial"/>
              </a:rPr>
              <a:t>земл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5148360" y="1197000"/>
            <a:ext cx="309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Кириши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</a:rPr>
              <a:t> получило свое название по имени первого поселившегося здесь новгородца по прозвищу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Кирши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</a:rPr>
              <a:t>. Это было маленькое село расположенное на берегу ре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blankbook-previ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IMG_1579.JPG"/>
          <p:cNvPicPr/>
          <p:nvPr/>
        </p:nvPicPr>
        <p:blipFill>
          <a:blip r:embed="rId2"/>
          <a:stretch/>
        </p:blipFill>
        <p:spPr>
          <a:xfrm>
            <a:off x="395280" y="692280"/>
            <a:ext cx="4032360" cy="4249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5148360" y="184464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Со всех сторон это село окружал лес, а домой было всего 2о и проживало всего 106 челов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blankbook-previ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148360" y="1268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Bestuzhev by Borovikovsk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620640"/>
            <a:ext cx="3797280" cy="4897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32360" y="765000"/>
            <a:ext cx="3529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ександр Федосеевич Бестуже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та рождени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ноября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5 декабр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1761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та смерт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марта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1 апрел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1810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48 лет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сто смерт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Санкт-Петербур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Никола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Елена, Ольга, Мария, Александр, Михаил, Пётр, Пав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blankbook-previ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19253400">
            <a:off x="506520" y="1542600"/>
            <a:ext cx="355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Arial"/>
              </a:rPr>
              <a:t>киришский райо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3960720" cy="3887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blankbook-previ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260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Симво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47640" y="765000"/>
            <a:ext cx="568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ормы гербового щита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384720" cy="4781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59280" y="1341360"/>
            <a:ext cx="384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треугольная – </a:t>
            </a:r>
            <a:r>
              <a:rPr b="0" i="1" lang="en-US" sz="2400" spc="-1" strike="noStrike">
                <a:solidFill>
                  <a:srgbClr val="6600cc"/>
                </a:solidFill>
                <a:latin typeface="Arial"/>
              </a:rPr>
              <a:t>варяж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овальная </a:t>
            </a:r>
            <a:r>
              <a:rPr b="0" i="1" lang="en-US" sz="2400" spc="-1" strike="noStrike">
                <a:solidFill>
                  <a:srgbClr val="6600cc"/>
                </a:solidFill>
                <a:latin typeface="Arial"/>
              </a:rPr>
              <a:t>- итальян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квадратная, закругленная внизу – </a:t>
            </a:r>
            <a:r>
              <a:rPr b="0" i="1" lang="en-US" sz="2400" spc="-1" strike="noStrike">
                <a:solidFill>
                  <a:srgbClr val="6600cc"/>
                </a:solidFill>
                <a:latin typeface="Arial"/>
              </a:rPr>
              <a:t>испан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четырехугольная,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заостренная внизу – 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француз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вырезная - </a:t>
            </a:r>
            <a:r>
              <a:rPr b="0" i="1" lang="en-US" sz="2400" spc="-1" strike="noStrike">
                <a:solidFill>
                  <a:srgbClr val="6600cc"/>
                </a:solidFill>
                <a:latin typeface="Arial"/>
              </a:rPr>
              <a:t>герман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blankbook-preview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71640" y="33336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Символ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692280"/>
            <a:ext cx="4130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2cee"/>
                </a:solidFill>
                <a:latin typeface="Arial"/>
              </a:rPr>
              <a:t>Фла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122cee"/>
                </a:solidFill>
                <a:latin typeface="Arial"/>
              </a:rPr>
              <a:t>прикрепленное к древку или шну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2cee"/>
                </a:solidFill>
                <a:latin typeface="Arial"/>
              </a:rPr>
              <a:t>Полотнище , одноцветное или разноцветное, часто с эмблемой государства или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4032360" cy="4392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blankbook-previ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61128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504d"/>
                </a:solidFill>
                <a:latin typeface="Candara"/>
              </a:rPr>
              <a:t>Символика города Кириш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big22265711936963.jpg"/>
          <p:cNvPicPr/>
          <p:nvPr/>
        </p:nvPicPr>
        <p:blipFill>
          <a:blip r:embed="rId2"/>
          <a:stretch/>
        </p:blipFill>
        <p:spPr>
          <a:xfrm>
            <a:off x="611280" y="1197000"/>
            <a:ext cx="3546360" cy="446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1900080" y="210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4" descr="big22265711936963.jpg"/>
          <p:cNvPicPr/>
          <p:nvPr/>
        </p:nvPicPr>
        <p:blipFill>
          <a:blip r:embed="rId3"/>
          <a:stretch/>
        </p:blipFill>
        <p:spPr>
          <a:xfrm>
            <a:off x="-1900080" y="2108160"/>
            <a:ext cx="1349280" cy="170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43280" y="936360"/>
            <a:ext cx="3980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ер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Утвержден в 1997 г. Герб символизирует расположение города на реке Волхов. представляет собо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щи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на котором отражено прошлое и настоящее нашего кр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евнерусская ладь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поминает о великом торговом пути «из варяг в греки», частью которого является Волх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е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символ возрождения новой жизни, нового города на земле, опаленной вой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ужево киришско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поминает о старинном промысле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ужевоплет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blankbook-previ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герб киришей"/>
          <p:cNvPicPr/>
          <p:nvPr/>
        </p:nvPicPr>
        <p:blipFill>
          <a:blip r:embed="rId2"/>
          <a:stretch/>
        </p:blipFill>
        <p:spPr>
          <a:xfrm>
            <a:off x="611280" y="692280"/>
            <a:ext cx="3574800" cy="4895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43280" y="486360"/>
            <a:ext cx="40672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ерб (эмблем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города Кириши утвержден 24 апреля 1980 года решением №8/237 Совета народных депутатов. Автор герба - Т.М.Богомоло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Эмблема представляет собой стилизованный щит с названием города и изображением на нем символов: Пламя - символизирующее огонь тех сердец, на энтузиазме которых построен город, и дань тем, кто пал в ожесточенных боях Великой Отечественной войны, проходивших на территории будущего города. Колба, мастерок и синусоида в круге говорят об основных направлениях промышленности города: химии, стройиндустрии и энергетике. Ладьи по краям напоминают, что город лежит на древнем пути "из варяг в греки"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0:49:59Z</dcterms:created>
  <dc:creator>просто</dc:creator>
  <dc:description/>
  <dc:language>en-US</dc:language>
  <cp:lastModifiedBy>user</cp:lastModifiedBy>
  <dcterms:modified xsi:type="dcterms:W3CDTF">2013-11-10T21:36:24Z</dcterms:modified>
  <cp:revision>29</cp:revision>
  <dc:subject/>
  <dc:title>Слайд 1</dc:title>
</cp:coreProperties>
</file>