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27824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C98C0-4267-4E9E-8A2B-870872A9DE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398C8-DF86-4E53-A2F4-B0B6B581804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729EC-7EF2-4E0C-B848-D1BD1EA835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D7E3E-F31C-41C2-83D4-21764E3812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5560" cy="40021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BF7A8-379A-419C-887A-7F30ED1091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139" name="Text Box 2"/>
          <p:cNvSpPr/>
          <p:nvPr/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71569-FF19-426B-98F8-6CA4FE74CB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142" name="Text Box 2"/>
          <p:cNvSpPr/>
          <p:nvPr/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D3061-1DA0-49CD-AC97-D6AF62AA1F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145" name="Text Box 2"/>
          <p:cNvSpPr/>
          <p:nvPr/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38B6C-97BD-4523-87ED-389D631901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112" name="Text Box 2"/>
          <p:cNvSpPr/>
          <p:nvPr/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49444-CE8A-43F3-A108-197F599B76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115" name="Text Box 2"/>
          <p:cNvSpPr/>
          <p:nvPr/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74330-764A-4F5C-9C29-C101FEF238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118" name="Text Box 2"/>
          <p:cNvSpPr/>
          <p:nvPr/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6618E-516F-4EBD-A7A3-3C3B8CDEB1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121" name="Text Box 2"/>
          <p:cNvSpPr/>
          <p:nvPr/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AAD10-3944-4314-90C7-28CA9786CA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124" name="Text Box 2"/>
          <p:cNvSpPr/>
          <p:nvPr/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26053-2749-4048-BAA3-BA70A35B50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127" name="Text Box 2"/>
          <p:cNvSpPr/>
          <p:nvPr/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979CA-9D05-4193-AE19-78413C3275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130" name="Text Box 2"/>
          <p:cNvSpPr/>
          <p:nvPr/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CB056-9255-468A-8182-F351DA4A9C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133" name="Text Box 2"/>
          <p:cNvSpPr/>
          <p:nvPr/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AC5E7-1BBC-4825-98C6-1FD757181B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476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862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942920" y="4160880"/>
            <a:ext cx="65862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CE8A5-73AD-45E4-AD8A-B83851B9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476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3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17560" y="2133360"/>
            <a:ext cx="3213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42920" y="4160880"/>
            <a:ext cx="3213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317560" y="4160880"/>
            <a:ext cx="3213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21794-079B-4F5E-8EB3-A2FBB148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476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04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9880" y="2133360"/>
            <a:ext cx="21204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96480" y="2133360"/>
            <a:ext cx="21204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942920" y="4160880"/>
            <a:ext cx="21204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4169880" y="4160880"/>
            <a:ext cx="21204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396480" y="4160880"/>
            <a:ext cx="21204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59200-277D-4BB8-AF21-E07DBC7122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476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862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D16B8-F861-49C9-BBF6-96829922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476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862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55E1E-6833-4CDC-BE05-20C7ED89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476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3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17560" y="2133360"/>
            <a:ext cx="3213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B946E-F547-44D1-A470-98446A23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476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831C7-E2FD-4B07-AE58-0FCBBF2A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476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B64F2-E67E-42DE-A3DB-CCCCD9B1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476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3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17560" y="2133360"/>
            <a:ext cx="3213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942920" y="4160880"/>
            <a:ext cx="3213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97C98-0EED-4E6C-8E73-8097315A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476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3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17560" y="2133360"/>
            <a:ext cx="3213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317560" y="4160880"/>
            <a:ext cx="3213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60F2B-ED06-4F45-B1C3-98AF6C3E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476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3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317560" y="2133360"/>
            <a:ext cx="3213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942920" y="4160880"/>
            <a:ext cx="65862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37DF6-EFBF-4439-880E-138AE013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228600"/>
            <a:ext cx="1976400" cy="6634080"/>
            <a:chOff x="0" y="228600"/>
            <a:chExt cx="1976400" cy="6634080"/>
          </a:xfrm>
        </p:grpSpPr>
        <p:sp>
          <p:nvSpPr>
            <p:cNvPr id="1" name="Freeform 2"/>
            <p:cNvSpPr/>
            <p:nvPr/>
          </p:nvSpPr>
          <p:spPr>
            <a:xfrm>
              <a:off x="0" y="2575080"/>
              <a:ext cx="65160" cy="62208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2445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88920" y="3156120"/>
              <a:ext cx="444600" cy="231768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2445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60520" y="5446800"/>
              <a:ext cx="419040" cy="141588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2445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666720" y="6504120"/>
              <a:ext cx="114480" cy="358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2445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69840" y="3201840"/>
              <a:ext cx="566640" cy="332280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2445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15840" y="228600"/>
              <a:ext cx="68400" cy="29224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2445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54000" y="2944800"/>
              <a:ext cx="50760" cy="48888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2445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534960" y="5478480"/>
              <a:ext cx="127080" cy="102060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2445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538200" y="1398600"/>
              <a:ext cx="1438200" cy="404352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2445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641520" y="6529320"/>
              <a:ext cx="107640" cy="3333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2445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534960" y="5359320"/>
              <a:ext cx="20520" cy="2174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2445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590400" y="6245280"/>
              <a:ext cx="160560" cy="6174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2445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4"/>
          <p:cNvGrpSpPr/>
          <p:nvPr/>
        </p:nvGrpSpPr>
        <p:grpSpPr>
          <a:xfrm>
            <a:off x="20520" y="0"/>
            <a:ext cx="1947960" cy="6848640"/>
            <a:chOff x="20520" y="0"/>
            <a:chExt cx="1947960" cy="6848640"/>
          </a:xfrm>
        </p:grpSpPr>
        <p:sp>
          <p:nvSpPr>
            <p:cNvPr id="14" name="Freeform 15"/>
            <p:cNvSpPr/>
            <p:nvPr/>
          </p:nvSpPr>
          <p:spPr>
            <a:xfrm>
              <a:off x="20520" y="0"/>
              <a:ext cx="405000" cy="43959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2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453960" y="4316400"/>
              <a:ext cx="346320" cy="1576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2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831960" y="5862600"/>
              <a:ext cx="352440" cy="98604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2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430200" y="4363920"/>
              <a:ext cx="452520" cy="22320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2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85920" y="1289160"/>
              <a:ext cx="139680" cy="302256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2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>
              <a:off x="919080" y="6572160"/>
              <a:ext cx="106560" cy="27648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2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>
              <a:off x="414360" y="4106880"/>
              <a:ext cx="63360" cy="5079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2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>
              <a:off x="804960" y="3146400"/>
              <a:ext cx="1163520" cy="27115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2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>
              <a:off x="887400" y="6600960"/>
              <a:ext cx="95400" cy="24768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2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04960" y="5772240"/>
              <a:ext cx="27000" cy="2239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2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31960" y="6323040"/>
              <a:ext cx="169920" cy="5256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2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" name="Rectangle 27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476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862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308520" indent="-30852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308520" indent="-30852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308520" indent="-30852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308520" indent="-30852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308520" indent="-30852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308520" indent="-30852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 type="dt" idx="1"/>
          </p:nvPr>
        </p:nvSpPr>
        <p:spPr>
          <a:xfrm>
            <a:off x="777204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  <a:ea typeface="Segoe UI"/>
              </a:rPr>
              <a:t>20.11.1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 type="sldNum" idx="2"/>
          </p:nvPr>
        </p:nvSpPr>
        <p:spPr>
          <a:xfrm>
            <a:off x="511200" y="786960"/>
            <a:ext cx="581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5521226-E2A5-4022-9E4C-56904E75D6CE}" type="slidenum">
              <a:rPr b="0" lang="ru-RU" sz="2000" spc="-1" strike="noStrike">
                <a:solidFill>
                  <a:srgbClr val="feffff"/>
                </a:solidFill>
                <a:latin typeface="Times New Roman"/>
                <a:ea typeface="Segoe UI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431640" y="1028880"/>
            <a:ext cx="8568000" cy="22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Специальная индивидуальная программа развит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(СИПР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116000" y="3500280"/>
            <a:ext cx="684072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Calibri"/>
              </a:rPr>
              <a:t>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Работа учителя и воспитате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333333"/>
                </a:solidFill>
                <a:uFillTx/>
                <a:latin typeface="Calibri"/>
              </a:rPr>
              <a:t>ПОДГОТОВИЛА:    </a:t>
            </a:r>
            <a:r>
              <a:rPr b="1" lang="ru-RU" sz="1800" spc="-1" strike="noStrike">
                <a:solidFill>
                  <a:srgbClr val="333333"/>
                </a:solidFill>
                <a:latin typeface="Calibri"/>
              </a:rPr>
              <a:t>Пыринец Людмила Владимировна </a:t>
            </a:r>
            <a:r>
              <a:rPr b="1" lang="en-US" sz="1800" spc="-1" strike="noStrike">
                <a:solidFill>
                  <a:srgbClr val="333333"/>
                </a:solidFill>
                <a:latin typeface="Calibri"/>
              </a:rPr>
              <a:t>-</a:t>
            </a:r>
            <a:r>
              <a:rPr b="1" lang="ru-RU" sz="1800" spc="-1" strike="noStrike">
                <a:solidFill>
                  <a:srgbClr val="333333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333333"/>
                </a:solidFill>
                <a:latin typeface="Calibri"/>
              </a:rPr>
              <a:t>УЧИТЕ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rcRect l="11086" t="6852" r="5486" b="20474"/>
          <a:stretch/>
        </p:blipFill>
        <p:spPr>
          <a:xfrm>
            <a:off x="2335320" y="503280"/>
            <a:ext cx="4906800" cy="6048360"/>
          </a:xfrm>
          <a:prstGeom prst="rect">
            <a:avLst/>
          </a:prstGeom>
          <a:ln w="29160">
            <a:solidFill>
              <a:srgbClr val="000000"/>
            </a:solidFill>
            <a:round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2"/>
          <a:srcRect l="1297" t="2984" r="4824" b="25375"/>
          <a:stretch/>
        </p:blipFill>
        <p:spPr>
          <a:xfrm>
            <a:off x="506520" y="1079640"/>
            <a:ext cx="8543880" cy="4608360"/>
          </a:xfrm>
          <a:prstGeom prst="rect">
            <a:avLst/>
          </a:prstGeom>
          <a:ln w="29160">
            <a:solidFill>
              <a:srgbClr val="000000"/>
            </a:solidFill>
            <a:round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Дата 1"/>
          <p:cNvSpPr/>
          <p:nvPr/>
        </p:nvSpPr>
        <p:spPr>
          <a:xfrm>
            <a:off x="777240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  <a:ea typeface="Segoe UI"/>
              </a:rPr>
              <a:t>20.11.1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1287360" y="696960"/>
            <a:ext cx="65692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2"/>
          <a:srcRect l="1821" t="2351" r="1630" b="7064"/>
          <a:stretch/>
        </p:blipFill>
        <p:spPr>
          <a:xfrm>
            <a:off x="2428920" y="144360"/>
            <a:ext cx="4935600" cy="6551640"/>
          </a:xfrm>
          <a:prstGeom prst="rect">
            <a:avLst/>
          </a:prstGeom>
          <a:ln w="29160">
            <a:solidFill>
              <a:srgbClr val="000000"/>
            </a:solidFill>
            <a:round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1"/>
          <p:cNvSpPr/>
          <p:nvPr/>
        </p:nvSpPr>
        <p:spPr>
          <a:xfrm>
            <a:off x="777240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  <a:ea typeface="Segoe UI"/>
              </a:rPr>
              <a:t>20.11.1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Объект 2"/>
          <p:cNvGraphicFramePr/>
          <p:nvPr/>
        </p:nvGraphicFramePr>
        <p:xfrm>
          <a:off x="1763640" y="549360"/>
          <a:ext cx="6843960" cy="54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549360"/>
                    <a:ext cx="6843960" cy="547200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1"/>
          <p:cNvSpPr/>
          <p:nvPr/>
        </p:nvSpPr>
        <p:spPr>
          <a:xfrm>
            <a:off x="777240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  <a:ea typeface="Segoe UI"/>
              </a:rPr>
              <a:t>20.11.1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7200720" cy="5492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1"/>
          <p:cNvSpPr/>
          <p:nvPr/>
        </p:nvSpPr>
        <p:spPr>
          <a:xfrm>
            <a:off x="777240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  <a:ea typeface="Segoe UI"/>
              </a:rPr>
              <a:t>20.11.1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8136000" cy="6469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1"/>
          <p:cNvSpPr/>
          <p:nvPr/>
        </p:nvSpPr>
        <p:spPr>
          <a:xfrm>
            <a:off x="777240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  <a:ea typeface="Segoe UI"/>
              </a:rPr>
              <a:t>20.11.1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3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184960" cy="568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Дата 1"/>
          <p:cNvSpPr/>
          <p:nvPr/>
        </p:nvSpPr>
        <p:spPr>
          <a:xfrm>
            <a:off x="777240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  <a:ea typeface="Segoe UI"/>
              </a:rPr>
              <a:t>20.11.1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63640" y="1484280"/>
          <a:ext cx="5184720" cy="3778200"/>
        </p:xfrm>
        <a:graphic>
          <a:graphicData uri="http://schemas.openxmlformats.org/drawingml/2006/table">
            <a:tbl>
              <a:tblPr/>
              <a:tblGrid>
                <a:gridCol w="863640"/>
                <a:gridCol w="865080"/>
                <a:gridCol w="863640"/>
                <a:gridCol w="863640"/>
                <a:gridCol w="865080"/>
                <a:gridCol w="863640"/>
              </a:tblGrid>
              <a:tr h="140040"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едельни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орни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твер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ятниц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Предметно-практические действия </a:t>
                      </a:r>
                      <a:br>
                        <a:rPr sz="800"/>
                      </a:br>
                      <a:r>
                        <a:rPr b="1" i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08</a:t>
                      </a:r>
                      <a:r>
                        <a:rPr b="1" i="1" lang="ru-RU" sz="800" spc="-1" strike="noStrike" u="sng" baseline="30000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35</a:t>
                      </a:r>
                      <a:r>
                        <a:rPr b="1" i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 – 08</a:t>
                      </a:r>
                      <a:r>
                        <a:rPr b="1" i="1" lang="ru-RU" sz="800" spc="-1" strike="noStrike" u="sng" baseline="30000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5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1 урок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r>
                        <a:rPr b="1" lang="ru-RU" sz="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0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– 9</a:t>
                      </a:r>
                      <a:r>
                        <a:rPr b="1" lang="ru-RU" sz="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Физкультур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ружающий и природный ми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чь и альтернативная коммуникац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ружающий и природный ми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чь и альтернативная коммуникац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 rowSpan="2"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2 урок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r>
                        <a:rPr b="1" lang="ru-RU" sz="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10</a:t>
                      </a:r>
                      <a:r>
                        <a:rPr b="1" lang="ru-RU" sz="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чь и альтернативная коммуникац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Музыка и движен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Физкультур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матические представлен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ловек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СИХОЛО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СИХОЛОГ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 rowSpan="2"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3 урок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10</a:t>
                      </a:r>
                      <a:r>
                        <a:rPr b="1" lang="ru-RU" sz="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– 11</a:t>
                      </a:r>
                      <a:r>
                        <a:rPr b="1" lang="ru-RU" sz="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лове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матические представлен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лове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ружающий социальный ми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бразительная деятельност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ОГОПЕ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480">
                <a:tc rowSpan="2"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4 урок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11</a:t>
                      </a:r>
                      <a:r>
                        <a:rPr b="1" lang="ru-RU" sz="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12</a:t>
                      </a:r>
                      <a:r>
                        <a:rPr b="1" lang="ru-RU" sz="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бразительная деятельност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ружающий социальный ми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бразительная деятельност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ррекционно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вивающие занят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Физкультура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ОГОПЕ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480"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5  урок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r>
                        <a:rPr b="1" lang="ru-RU" sz="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– 13</a:t>
                      </a:r>
                      <a:r>
                        <a:rPr b="1" lang="ru-RU" sz="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ный ча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ррекционно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вивающие занят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6  урок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r>
                        <a:rPr b="1" lang="ru-RU" sz="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– 14</a:t>
                      </a:r>
                      <a:r>
                        <a:rPr b="1" lang="ru-RU" sz="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1" i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Двигательная активност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Музыкально-ритмичная деятельност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Сенсорное развитие </a:t>
                      </a:r>
                      <a:br>
                        <a:rPr sz="800"/>
                      </a:br>
                      <a:r>
                        <a:rPr b="1" i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13</a:t>
                      </a:r>
                      <a:r>
                        <a:rPr b="1" i="1" lang="ru-RU" sz="800" spc="-1" strike="noStrike" u="sng" baseline="30000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55</a:t>
                      </a:r>
                      <a:r>
                        <a:rPr b="1" i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 - 14</a:t>
                      </a:r>
                      <a:r>
                        <a:rPr b="1" i="1" lang="ru-RU" sz="800" spc="-1" strike="noStrike" u="sng" baseline="30000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Альтернативная коммуникация</a:t>
                      </a:r>
                      <a:br>
                        <a:rPr sz="800"/>
                      </a:br>
                      <a:r>
                        <a:rPr b="1" i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13</a:t>
                      </a:r>
                      <a:r>
                        <a:rPr b="1" i="1" lang="ru-RU" sz="800" spc="-1" strike="noStrike" u="sng" baseline="30000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55</a:t>
                      </a:r>
                      <a:r>
                        <a:rPr b="1" i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 - 14</a:t>
                      </a:r>
                      <a:r>
                        <a:rPr b="1" i="1" lang="ru-RU" sz="800" spc="-1" strike="noStrike" u="sng" baseline="30000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3"/>
          <p:cNvSpPr/>
          <p:nvPr/>
        </p:nvSpPr>
        <p:spPr>
          <a:xfrm>
            <a:off x="2830680" y="474120"/>
            <a:ext cx="4262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Й ПЛАН 2019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20 уч.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исание уроков и внеурочных занятий 2В  класс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Ученицы: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8000" y="2813040"/>
            <a:ext cx="81360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СПАСИБО ЗА ВНИМАНИЕ!!!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71640" y="231840"/>
            <a:ext cx="65880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бор и анализ данных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2"/>
          <a:srcRect l="1651" t="4475" r="2361" b="5972"/>
          <a:stretch/>
        </p:blipFill>
        <p:spPr>
          <a:xfrm>
            <a:off x="566640" y="1008000"/>
            <a:ext cx="8299440" cy="5472000"/>
          </a:xfrm>
          <a:prstGeom prst="rect">
            <a:avLst/>
          </a:prstGeom>
          <a:ln w="29160">
            <a:solidFill>
              <a:srgbClr val="000000"/>
            </a:solidFill>
            <a:round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2"/>
          <a:srcRect l="2557" t="5086" r="20996" b="17292"/>
          <a:stretch/>
        </p:blipFill>
        <p:spPr>
          <a:xfrm>
            <a:off x="687240" y="525600"/>
            <a:ext cx="8226720" cy="5903640"/>
          </a:xfrm>
          <a:prstGeom prst="rect">
            <a:avLst/>
          </a:prstGeom>
          <a:ln w="29160">
            <a:solidFill>
              <a:srgbClr val="000000"/>
            </a:solidFill>
            <a:round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2"/>
          <a:srcRect l="2708" t="5796" r="8182" b="8698"/>
          <a:stretch/>
        </p:blipFill>
        <p:spPr>
          <a:xfrm>
            <a:off x="576360" y="576360"/>
            <a:ext cx="8281800" cy="5616360"/>
          </a:xfrm>
          <a:prstGeom prst="rect">
            <a:avLst/>
          </a:prstGeom>
          <a:ln w="29160">
            <a:solidFill>
              <a:srgbClr val="000000"/>
            </a:solidFill>
            <a:round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rcRect l="2314" t="4480" r="5845" b="8889"/>
          <a:stretch/>
        </p:blipFill>
        <p:spPr>
          <a:xfrm>
            <a:off x="647640" y="576360"/>
            <a:ext cx="8101080" cy="5400720"/>
          </a:xfrm>
          <a:prstGeom prst="rect">
            <a:avLst/>
          </a:prstGeom>
          <a:ln w="29160">
            <a:solidFill>
              <a:srgbClr val="000000"/>
            </a:solidFill>
            <a:round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2"/>
          <a:srcRect l="2328" t="4414" r="5103" b="29360"/>
          <a:stretch/>
        </p:blipFill>
        <p:spPr>
          <a:xfrm>
            <a:off x="728640" y="576360"/>
            <a:ext cx="8116920" cy="4103640"/>
          </a:xfrm>
          <a:prstGeom prst="rect">
            <a:avLst/>
          </a:prstGeom>
          <a:ln w="29160">
            <a:solidFill>
              <a:srgbClr val="000000"/>
            </a:solidFill>
            <a:round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2"/>
          <a:srcRect l="1651" t="5967" r="6579" b="28359"/>
          <a:stretch/>
        </p:blipFill>
        <p:spPr>
          <a:xfrm>
            <a:off x="587520" y="647640"/>
            <a:ext cx="8256600" cy="4176720"/>
          </a:xfrm>
          <a:prstGeom prst="rect">
            <a:avLst/>
          </a:prstGeom>
          <a:ln w="29160">
            <a:solidFill>
              <a:srgbClr val="000000"/>
            </a:solidFill>
            <a:round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2"/>
          <a:srcRect l="1991" t="4542" r="4847" b="43940"/>
          <a:stretch/>
        </p:blipFill>
        <p:spPr>
          <a:xfrm>
            <a:off x="863640" y="1295280"/>
            <a:ext cx="7923240" cy="3095640"/>
          </a:xfrm>
          <a:prstGeom prst="rect">
            <a:avLst/>
          </a:prstGeom>
          <a:ln w="29160">
            <a:solidFill>
              <a:srgbClr val="000000"/>
            </a:solidFill>
            <a:round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2"/>
          <a:srcRect l="846" t="4614" r="4487" b="49192"/>
          <a:stretch/>
        </p:blipFill>
        <p:spPr>
          <a:xfrm>
            <a:off x="776160" y="1008000"/>
            <a:ext cx="7936200" cy="2735280"/>
          </a:xfrm>
          <a:prstGeom prst="rect">
            <a:avLst/>
          </a:prstGeom>
          <a:ln w="29160">
            <a:solidFill>
              <a:srgbClr val="000000"/>
            </a:solidFill>
            <a:round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0T07:43:07Z</dcterms:created>
  <dc:creator>Компас</dc:creator>
  <dc:description/>
  <dc:language>en-US</dc:language>
  <cp:lastModifiedBy>User</cp:lastModifiedBy>
  <dcterms:modified xsi:type="dcterms:W3CDTF">2021-09-29T10:57:03Z</dcterms:modified>
  <cp:revision>9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3</vt:r8>
  </property>
</Properties>
</file>