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8.jpeg" ContentType="image/jpeg"/>
  <Override PartName="/ppt/media/image37.gif" ContentType="image/gif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4617b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39DE-305B-4DD6-8A9E-A97058E9B8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1BF4-F7A9-4133-AF78-7F44ACF63E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0B16-DA41-4B40-A9D4-94E2BD8A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0E7AB-3471-41D3-8143-D66165C9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1EAF-CE5F-49D2-8C25-091FAFA0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DA953-638F-480B-A5D5-8A48E2BC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7EFD-90A8-47AF-959A-488BD89E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D66F-0EE3-4C6C-B0E5-2217600F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4C11-E77C-4C71-9F7C-B8EC2471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8293-3A22-4C0B-8B96-651C7173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95C3-4839-443A-89FE-C40CA5FC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8351-E74E-4B1F-B972-79F8A635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DDB4-0E9F-4F86-9117-608CAF53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7A370-0C82-47A8-B75C-D9F2D991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DC39-6F54-4DD1-B6D2-F1F8DAD5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933F-30F6-47A0-91A5-4B7132D1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04DF-3A2B-4EFA-8727-78E36404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C68C-1C03-48E4-964F-4D5739AC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E607-2F7B-4B79-8FE8-29C3332A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A5DC1-CB40-4492-B51A-ACB0976B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188E-DA2C-42B0-A64E-F37CF069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AD6E-7B53-4876-8594-3E384675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F5A02-CF41-4271-9442-FFC18D03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98938-46DE-479E-861B-862A8947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D0E6A-B3A0-4261-8915-09E2F55E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B51D9-F44A-4FF2-AD3B-61EE37F5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9dd9"/>
                </a:gs>
                <a:gs pos="100000">
                  <a:srgbClr val="0fa3d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bad0d3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dc1c4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d4edf1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d4edf1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9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9dd9"/>
                </a:gs>
                <a:gs pos="50000">
                  <a:srgbClr val="08a0da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5df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1DC0-290B-48C6-8770-C215700B4E4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9dd9"/>
                </a:gs>
                <a:gs pos="100000">
                  <a:srgbClr val="0fa3d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bad0d3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dc1c4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d4edf1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d4edf1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9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9dd9"/>
                </a:gs>
                <a:gs pos="50000">
                  <a:srgbClr val="08a0da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5df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F399-4703-4DC3-89C5-7C7DD1934DB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2d700"/>
                </a:solidFill>
                <a:latin typeface="Arial"/>
              </a:rPr>
              <a:t>Презентация из опыта работы театральной студии «Играем в сказку»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700"/>
                </a:solidFill>
                <a:latin typeface="Arial"/>
              </a:rPr>
              <a:t>Руководитель:</a:t>
            </a:r>
            <a:r>
              <a:rPr b="0" lang="ru-RU" sz="2400" spc="-1" strike="noStrike">
                <a:solidFill>
                  <a:srgbClr val="e2d700"/>
                </a:solidFill>
                <a:latin typeface="Tahoma"/>
              </a:rPr>
              <a:t> Голубева И.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d700"/>
                </a:solidFill>
                <a:latin typeface="Arial"/>
              </a:rPr>
              <a:t>с.Костин Лог  </a:t>
            </a:r>
            <a:r>
              <a:rPr b="0" lang="ru-RU" sz="1800" spc="-1" strike="noStrike">
                <a:solidFill>
                  <a:srgbClr val="e2d700"/>
                </a:solidFill>
                <a:latin typeface="Tahoma"/>
              </a:rPr>
              <a:t>2022</a:t>
            </a:r>
            <a:r>
              <a:rPr b="0" lang="ru-RU" sz="1800" spc="-1" strike="noStrike">
                <a:solidFill>
                  <a:srgbClr val="e2d7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807732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ahoma"/>
              </a:rPr>
              <a:t>Конусный театр по сказке</a:t>
            </a:r>
            <a:r>
              <a:rPr b="0" lang="ru-RU" sz="3600" spc="-1" strike="noStrike">
                <a:solidFill>
                  <a:srgbClr val="6600ff"/>
                </a:solidFill>
                <a:latin typeface="Arial"/>
              </a:rPr>
              <a:t> «Морозко»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50" name="Picture 4" descr="C:\Users\Admin\Desktop\театр\WhatsApp Image 2022-10-26 at 15.56.49.jpeg"/>
          <p:cNvPicPr/>
          <p:nvPr/>
        </p:nvPicPr>
        <p:blipFill>
          <a:blip r:embed="rId1"/>
          <a:srcRect l="29377" t="0" r="0" b="0"/>
          <a:stretch/>
        </p:blipFill>
        <p:spPr>
          <a:xfrm>
            <a:off x="1828800" y="1219320"/>
            <a:ext cx="5740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990720" y="152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ahoma"/>
              </a:rPr>
              <a:t>Драматизация ска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ahoma"/>
              </a:rPr>
              <a:t>«Репка», «Кот, Петух и Лиса», «Колобок – колючий бок» и басни «Стрекоза и Муравей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C:\Users\Admin\Desktop\театр\WhatsApp Image 2022-10-26 at 15.49.26.jpeg"/>
          <p:cNvPicPr/>
          <p:nvPr/>
        </p:nvPicPr>
        <p:blipFill>
          <a:blip r:embed="rId1"/>
          <a:stretch/>
        </p:blipFill>
        <p:spPr>
          <a:xfrm>
            <a:off x="4800600" y="1523880"/>
            <a:ext cx="3776760" cy="212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Users\Admin\Desktop\театр\WhatsApp Image 2022-10-27 at 10.53.27.jpeg"/>
          <p:cNvPicPr/>
          <p:nvPr/>
        </p:nvPicPr>
        <p:blipFill>
          <a:blip r:embed="rId2"/>
          <a:srcRect l="19473" t="7690" r="13461" b="0"/>
          <a:stretch/>
        </p:blipFill>
        <p:spPr>
          <a:xfrm>
            <a:off x="685800" y="3809880"/>
            <a:ext cx="2895480" cy="2241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Admin\Desktop\театр\WhatsApp Image 2022-10-31 at 14.21.47 (1).jpeg"/>
          <p:cNvPicPr/>
          <p:nvPr/>
        </p:nvPicPr>
        <p:blipFill>
          <a:blip r:embed="rId3"/>
          <a:srcRect l="0" t="13523" r="4136" b="0"/>
          <a:stretch/>
        </p:blipFill>
        <p:spPr>
          <a:xfrm>
            <a:off x="4038480" y="3886200"/>
            <a:ext cx="4419720" cy="217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Admin\Desktop\театр\WhatsApp Image 2022-10-31 at 14.21.48 (1).jpeg"/>
          <p:cNvPicPr/>
          <p:nvPr/>
        </p:nvPicPr>
        <p:blipFill>
          <a:blip r:embed="rId4"/>
          <a:stretch/>
        </p:blipFill>
        <p:spPr>
          <a:xfrm>
            <a:off x="609480" y="1523880"/>
            <a:ext cx="381024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Tahoma"/>
              </a:rPr>
              <a:t>Взаимодействие с родителями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Консультации для родителей на тем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оиграйте с ребёнком в сказку!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Влияние пальчикового театра на развитие мелкой моторики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Дети и театр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Совместные творческие мастерские по изготовлению декораци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остюмов и атрибуто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Пополнение группы новыми видами театро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Мини-музей «Куклы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Мини - музей кукол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59" name="Picture 5" descr="DSC_0616"/>
          <p:cNvPicPr/>
          <p:nvPr/>
        </p:nvPicPr>
        <p:blipFill>
          <a:blip r:embed="rId2"/>
          <a:stretch/>
        </p:blipFill>
        <p:spPr>
          <a:xfrm>
            <a:off x="228600" y="1371600"/>
            <a:ext cx="2674800" cy="356868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5"/>
          <p:cNvSpPr/>
          <p:nvPr/>
        </p:nvSpPr>
        <p:spPr>
          <a:xfrm>
            <a:off x="2437560" y="144792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Tahoma"/>
              </a:rPr>
              <a:t>Музей современных ку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5457240" y="1828800"/>
            <a:ext cx="34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Tahoma"/>
              </a:rPr>
              <a:t>Музей резиновой игр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C:\Users\Admin\Desktop\театр\WhatsApp Image 2022-10-27 at 14.45.25.jpeg"/>
          <p:cNvPicPr/>
          <p:nvPr/>
        </p:nvPicPr>
        <p:blipFill>
          <a:blip r:embed="rId3"/>
          <a:stretch/>
        </p:blipFill>
        <p:spPr>
          <a:xfrm>
            <a:off x="5105520" y="2209680"/>
            <a:ext cx="3860640" cy="2895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C:\Users\Admin\Desktop\театр\WhatsApp Image 2022-10-27 at 14.45.24.jpeg"/>
          <p:cNvPicPr/>
          <p:nvPr/>
        </p:nvPicPr>
        <p:blipFill>
          <a:blip r:embed="rId4"/>
          <a:srcRect l="0" t="27882" r="0" b="0"/>
          <a:stretch/>
        </p:blipFill>
        <p:spPr>
          <a:xfrm>
            <a:off x="304920" y="4591080"/>
            <a:ext cx="4190760" cy="226692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9"/>
          <p:cNvSpPr/>
          <p:nvPr/>
        </p:nvSpPr>
        <p:spPr>
          <a:xfrm>
            <a:off x="4590360" y="594360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Музей театральной кук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2"/>
          <a:srcRect l="0" t="10458" r="0" b="13730"/>
          <a:stretch/>
        </p:blipFill>
        <p:spPr>
          <a:xfrm>
            <a:off x="380880" y="533520"/>
            <a:ext cx="3886200" cy="2209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4343400" y="609480"/>
            <a:ext cx="39625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Tahoma"/>
              </a:rPr>
              <a:t>Музей русской кук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648320" y="1066680"/>
            <a:ext cx="3962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C:\Users\Admin\Desktop\театр\WhatsApp Image 2022-10-27 at 14.45.12.jpeg"/>
          <p:cNvPicPr/>
          <p:nvPr/>
        </p:nvPicPr>
        <p:blipFill>
          <a:blip r:embed="rId3"/>
          <a:srcRect l="0" t="19150" r="0" b="0"/>
          <a:stretch/>
        </p:blipFill>
        <p:spPr>
          <a:xfrm>
            <a:off x="4191120" y="1676520"/>
            <a:ext cx="4775040" cy="2895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C:\Users\Admin\Desktop\театр\WhatsApp Image 2022-10-27 at 14.45.14.jpeg"/>
          <p:cNvPicPr/>
          <p:nvPr/>
        </p:nvPicPr>
        <p:blipFill>
          <a:blip r:embed="rId4"/>
          <a:stretch/>
        </p:blipFill>
        <p:spPr>
          <a:xfrm>
            <a:off x="380880" y="2666880"/>
            <a:ext cx="2895840" cy="386100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7"/>
          <p:cNvSpPr/>
          <p:nvPr/>
        </p:nvSpPr>
        <p:spPr>
          <a:xfrm>
            <a:off x="3668400" y="518148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Музей бумжной кук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ff"/>
                </a:solidFill>
                <a:latin typeface="Tahoma"/>
              </a:rPr>
              <a:t>Театр масок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72" name="Picture 4" descr="DSC_1129"/>
          <p:cNvPicPr/>
          <p:nvPr/>
        </p:nvPicPr>
        <p:blipFill>
          <a:blip r:embed="rId1"/>
          <a:srcRect l="0" t="27961" r="0" b="0"/>
          <a:stretch/>
        </p:blipFill>
        <p:spPr>
          <a:xfrm>
            <a:off x="685800" y="1295280"/>
            <a:ext cx="3676680" cy="353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C:\Users\Admin\Desktop\театр\WhatsApp Image 2022-10-21 at 14.34.52.jpeg"/>
          <p:cNvPicPr/>
          <p:nvPr/>
        </p:nvPicPr>
        <p:blipFill>
          <a:blip r:embed="rId2"/>
          <a:srcRect l="0" t="30939" r="0" b="30626"/>
          <a:stretch/>
        </p:blipFill>
        <p:spPr>
          <a:xfrm>
            <a:off x="4343400" y="1905120"/>
            <a:ext cx="4572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Театр на ладошке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75" name="Picture 4" descr="C:\Users\Admin\Desktop\театр\WhatsApp Image 2022-10-21 at 14.30.41.jpeg"/>
          <p:cNvPicPr/>
          <p:nvPr/>
        </p:nvPicPr>
        <p:blipFill>
          <a:blip r:embed="rId1"/>
          <a:stretch/>
        </p:blipFill>
        <p:spPr>
          <a:xfrm>
            <a:off x="762120" y="1143000"/>
            <a:ext cx="8127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Перчаточный театр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77" name="Picture 4" descr="C:\Users\Admin\Desktop\театр\WhatsApp Image 2022-10-26 at 16.15.25.jpeg"/>
          <p:cNvPicPr/>
          <p:nvPr/>
        </p:nvPicPr>
        <p:blipFill>
          <a:blip r:embed="rId1"/>
          <a:srcRect l="0" t="7769" r="10215" b="11941"/>
          <a:stretch/>
        </p:blipFill>
        <p:spPr>
          <a:xfrm>
            <a:off x="3124080" y="1143000"/>
            <a:ext cx="3429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Театр на палочках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79" name="Picture 4" descr="DSC_1028"/>
          <p:cNvPicPr/>
          <p:nvPr/>
        </p:nvPicPr>
        <p:blipFill>
          <a:blip r:embed="rId1"/>
          <a:srcRect l="20690" t="29122" r="27586" b="0"/>
          <a:stretch/>
        </p:blipFill>
        <p:spPr>
          <a:xfrm>
            <a:off x="990720" y="1676520"/>
            <a:ext cx="3429000" cy="3524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Users\Admin\Desktop\театр\WhatsApp Image 2022-10-27 at 14.37.56.jpeg"/>
          <p:cNvPicPr/>
          <p:nvPr/>
        </p:nvPicPr>
        <p:blipFill>
          <a:blip r:embed="rId2"/>
          <a:srcRect l="0" t="0" r="0" b="27236"/>
          <a:stretch/>
        </p:blipFill>
        <p:spPr>
          <a:xfrm>
            <a:off x="4800600" y="1295280"/>
            <a:ext cx="3357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2426760" y="609480"/>
            <a:ext cx="39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ahoma"/>
              </a:rPr>
              <a:t>Вязанный теат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C:\Users\Admin\Desktop\театр\WhatsApp Image 2022-10-21 at 14.44.33.jpeg"/>
          <p:cNvPicPr/>
          <p:nvPr/>
        </p:nvPicPr>
        <p:blipFill>
          <a:blip r:embed="rId1"/>
          <a:srcRect l="0" t="5852" r="0" b="10733"/>
          <a:stretch/>
        </p:blipFill>
        <p:spPr>
          <a:xfrm>
            <a:off x="533520" y="1371600"/>
            <a:ext cx="2928960" cy="4343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C:\Users\Admin\Desktop\театр\WhatsApp Image 2022-10-21 at 14.43.01.jpeg"/>
          <p:cNvPicPr/>
          <p:nvPr/>
        </p:nvPicPr>
        <p:blipFill>
          <a:blip r:embed="rId2"/>
          <a:srcRect l="-2252" t="13969" r="0" b="25080"/>
          <a:stretch/>
        </p:blipFill>
        <p:spPr>
          <a:xfrm>
            <a:off x="2971800" y="1447920"/>
            <a:ext cx="2948040" cy="3124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:\Users\Admin\Desktop\театр\WhatsApp Image 2022-10-26 at 16.28.31.jpeg"/>
          <p:cNvPicPr/>
          <p:nvPr/>
        </p:nvPicPr>
        <p:blipFill>
          <a:blip r:embed="rId3"/>
          <a:srcRect l="0" t="0" r="0" b="37272"/>
          <a:stretch/>
        </p:blipFill>
        <p:spPr>
          <a:xfrm>
            <a:off x="5867280" y="1676520"/>
            <a:ext cx="3143520" cy="3504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Users\Admin\Desktop\театр\WhatsApp Image 2022-10-26 at 16.28.52.jpeg"/>
          <p:cNvPicPr/>
          <p:nvPr/>
        </p:nvPicPr>
        <p:blipFill>
          <a:blip r:embed="rId4"/>
          <a:srcRect l="0" t="10113" r="0" b="30900"/>
          <a:stretch/>
        </p:blipFill>
        <p:spPr>
          <a:xfrm>
            <a:off x="3200400" y="4038480"/>
            <a:ext cx="25430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838080" y="222444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Чем театр так хорош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Здесь ты в сказку попадёшь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Здесь верят в волшеб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Здесь дружат с чуде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Все сказки ная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Приходят в гости 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3"/>
          <p:cNvSpPr/>
          <p:nvPr/>
        </p:nvSpPr>
        <p:spPr>
          <a:xfrm>
            <a:off x="2666880" y="457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Tahoma"/>
              </a:rPr>
              <a:t>Костюме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C:\Users\Admin\Desktop\театр\WhatsApp Image 2022-10-21 at 14.46.53.jpeg"/>
          <p:cNvPicPr/>
          <p:nvPr/>
        </p:nvPicPr>
        <p:blipFill>
          <a:blip r:embed="rId1"/>
          <a:stretch/>
        </p:blipFill>
        <p:spPr>
          <a:xfrm>
            <a:off x="507960" y="1143000"/>
            <a:ext cx="812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C:\Users\Admin\Desktop\театр\5e5b6891-1d1b-4198-b99a-d2a96edff4d2.jpg"/>
          <p:cNvPicPr/>
          <p:nvPr/>
        </p:nvPicPr>
        <p:blipFill>
          <a:blip r:embed="rId1"/>
          <a:stretch/>
        </p:blipFill>
        <p:spPr>
          <a:xfrm>
            <a:off x="685800" y="457200"/>
            <a:ext cx="4105440" cy="3200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Admin\Desktop\театр\WhatsApp Image 2022-10-31 at 11.27.10.jpeg"/>
          <p:cNvPicPr/>
          <p:nvPr/>
        </p:nvPicPr>
        <p:blipFill>
          <a:blip r:embed="rId2"/>
          <a:stretch/>
        </p:blipFill>
        <p:spPr>
          <a:xfrm>
            <a:off x="4648320" y="2133720"/>
            <a:ext cx="3954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" descr="1298121204_jgbokjdcqwswqxr.jpeg"/>
          <p:cNvPicPr/>
          <p:nvPr/>
        </p:nvPicPr>
        <p:blipFill>
          <a:blip r:embed="rId1"/>
          <a:srcRect l="0" t="0" r="0" b="67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2" descr=""/>
          <p:cNvPicPr/>
          <p:nvPr/>
        </p:nvPicPr>
        <p:blipFill>
          <a:blip r:embed="rId2"/>
          <a:stretch/>
        </p:blipFill>
        <p:spPr>
          <a:xfrm>
            <a:off x="1865160" y="1341360"/>
            <a:ext cx="5357880" cy="3054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&amp;YAcy;&amp;gcy;&amp;ocy;&amp;dcy;&amp;ycy; &amp;gcy;&amp;ocy;&amp;dcy;&amp;zhcy;&amp;icy; &amp;kcy;&amp;acy;&amp;rcy;&amp;tcy;&amp;icy;&amp;ncy;&amp;kcy;&amp;icy; &amp;kcy; &amp;pcy;&amp;rcy;&amp;ocy;&amp;iecy;&amp;kcy;&amp;tcy;&amp;ucy; &amp;pcy;&amp;ocy; &amp;tcy;&amp;iecy;&amp;acy;&amp;tcy;&amp;rcy;&amp;acy;&amp;lcy;&amp;softcy;&amp;ncy;&amp;ocy;&amp;jcy; &amp;dcy;&amp;iecy;&amp;yacy;&amp;tcy;&amp;iecy;&amp;lcy;&amp;softcy;&amp;ncy;&amp;ocy;&amp;scy;&amp;tcy;&amp;icy; &amp;KHcy;&amp;ucy;&amp;dcy;&amp;iecy;&amp;iecy;&amp;mcy; &amp;vcy;&amp;mcy;&amp;iecy;&amp;scy;&amp;tcy;&amp;iecy;!"/>
          <p:cNvPicPr/>
          <p:nvPr/>
        </p:nvPicPr>
        <p:blipFill>
          <a:blip r:embed="rId3"/>
          <a:stretch/>
        </p:blipFill>
        <p:spPr>
          <a:xfrm>
            <a:off x="152280" y="4267080"/>
            <a:ext cx="2001960" cy="221796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7" descr=""/>
          <p:cNvPicPr/>
          <p:nvPr/>
        </p:nvPicPr>
        <p:blipFill>
          <a:blip r:embed="rId4"/>
          <a:stretch/>
        </p:blipFill>
        <p:spPr>
          <a:xfrm>
            <a:off x="1546200" y="4606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8" descr=""/>
          <p:cNvPicPr/>
          <p:nvPr/>
        </p:nvPicPr>
        <p:blipFill>
          <a:blip r:embed="rId5"/>
          <a:stretch/>
        </p:blipFill>
        <p:spPr>
          <a:xfrm>
            <a:off x="719280" y="425592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9" descr=""/>
          <p:cNvPicPr/>
          <p:nvPr/>
        </p:nvPicPr>
        <p:blipFill>
          <a:blip r:embed="rId6"/>
          <a:stretch/>
        </p:blipFill>
        <p:spPr>
          <a:xfrm>
            <a:off x="-31680" y="4827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user\Desktop\МАМА\Эльвира\ФОТО\Рисунки\ладони.jpeg"/>
          <p:cNvPicPr/>
          <p:nvPr/>
        </p:nvPicPr>
        <p:blipFill>
          <a:blip r:embed="rId7"/>
          <a:stretch/>
        </p:blipFill>
        <p:spPr>
          <a:xfrm>
            <a:off x="6172200" y="4267080"/>
            <a:ext cx="20192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Цель программы: развитие творческих способностей детей средствами театрального искусства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1.Создать условия для развития творческой активности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2.Совершенствовать артистические навы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3.Учить имитировать характерные движения сказочных герое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4.Активизировать словарь детей, совершенствовать звуковую культуру речи, интонационный строй, диалогическую реч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5.Познакомить детей с различными видами теат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6.Обучать детей элементам художественно – образных выразительных средств (интонация, мимика, пантомимика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7. Возобновить традиции совместного чтения с помощью привлечения родителей к реализации програм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8. Привлечь родителей совместно с детьми посещать библиотеку, мероприятия в ДК нашего се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Основные направления работы студии: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-театрально – игровая деятельность</a:t>
            </a:r>
            <a:br>
              <a:rPr sz="29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-музыкально – творческое развитие</a:t>
            </a:r>
            <a:br>
              <a:rPr sz="29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-художественно- речевая деятельность</a:t>
            </a:r>
            <a:br>
              <a:rPr sz="29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-основы театральной культуры</a:t>
            </a:r>
            <a:br>
              <a:rPr sz="29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-работа над спектаклем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66"/>
                </a:solidFill>
                <a:latin typeface="Tahoma"/>
              </a:rPr>
              <a:t>Формы работы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33360" y="99072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Речевые иг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Ритмопласт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Инсценировка песен, попевок, хоровод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Использование различных видов теат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Драматизация сказ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Взаимодействие с родител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ff"/>
                </a:solidFill>
                <a:latin typeface="Arial"/>
              </a:rPr>
              <a:t>Виды театра в группе «Сказка»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8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83080" indent="35640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еатр масок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3080" indent="35640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еатр настольны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(деревянный, резиновый и пластмассовы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3080" indent="35640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еатр пальчиков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3080" indent="35640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еатр конусны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3080" indent="35640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еатр перчаточный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3080" indent="35640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еатр вязаный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3080" indent="35640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еатр на палочк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3080" indent="35640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еатр на фланелеграф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3080" indent="35640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еатр Би-ба-б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Настольный театр по сказке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 </a:t>
            </a:r>
            <a:br>
              <a:rPr sz="3800"/>
            </a:b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«Мужик и Медведь»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44" name="Picture 4" descr="C:\Users\Admin\Desktop\театр\WhatsApp Image 2022-10-20 at 16.06.32.jpeg"/>
          <p:cNvPicPr/>
          <p:nvPr/>
        </p:nvPicPr>
        <p:blipFill>
          <a:blip r:embed="rId1"/>
          <a:stretch/>
        </p:blipFill>
        <p:spPr>
          <a:xfrm>
            <a:off x="1066680" y="1600200"/>
            <a:ext cx="703584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ff"/>
                </a:solidFill>
                <a:latin typeface="Tahoma"/>
              </a:rPr>
              <a:t>Театр на фланелеграфе по сказке «Теремок»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46" name="Picture 4" descr="C:\Users\Admin\Desktop\театр\WhatsApp Image 2022-10-26 at 16.09.27.jpeg"/>
          <p:cNvPicPr/>
          <p:nvPr/>
        </p:nvPicPr>
        <p:blipFill>
          <a:blip r:embed="rId1"/>
          <a:srcRect l="23439" t="0" r="0" b="0"/>
          <a:stretch/>
        </p:blipFill>
        <p:spPr>
          <a:xfrm>
            <a:off x="1523880" y="1295280"/>
            <a:ext cx="6222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Сказка «Курочка Ряба» </a:t>
            </a:r>
            <a:br>
              <a:rPr sz="3800"/>
            </a:b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(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 театр – </a:t>
            </a: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би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-</a:t>
            </a: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ба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-</a:t>
            </a: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бо)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48" name="Picture 4" descr="C:\Users\Admin\Desktop\театр\WhatsApp Image 2022-10-26 at 15.53.07.jpeg"/>
          <p:cNvPicPr/>
          <p:nvPr/>
        </p:nvPicPr>
        <p:blipFill>
          <a:blip r:embed="rId1"/>
          <a:srcRect l="0" t="15342" r="0" b="21593"/>
          <a:stretch/>
        </p:blipFill>
        <p:spPr>
          <a:xfrm>
            <a:off x="2743200" y="1523880"/>
            <a:ext cx="38862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1:15Z</dcterms:created>
  <dc:creator>USER</dc:creator>
  <dc:description/>
  <dc:language>en-US</dc:language>
  <cp:lastModifiedBy>Пользователь Windows</cp:lastModifiedBy>
  <dcterms:modified xsi:type="dcterms:W3CDTF">2022-11-15T02:29:37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