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38D-A309-406A-B5E6-BE24E245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DBE-8541-4ADF-99B0-769B86B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BCA-5BC5-4A64-AABA-652F59DB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4A4-2FBA-4F2F-BD41-B945A3FB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AC6-7397-4C96-B31B-0918934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C479-3375-4417-900B-00C5B1D7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58A-9604-4F63-A914-B7994F3F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208F-4DA2-4B53-8B68-4FF6905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F5A0-634F-49D9-83AE-0839DCF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300D-64FF-46F4-877D-57603B62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F8FE-DD5D-4B2A-B82B-29FF4B2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CD9-08F8-43A6-95AF-E75FC60E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7FB-09E8-4665-B179-1D6773D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492-2EBF-4C20-8B5F-D2B96F06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AD5-01EE-4497-A945-995D911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135E-651A-4EF0-9783-FF7D3FA9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1C1-396E-4300-8F51-A219B9E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573-5593-4BE4-A5CB-2605428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938-2262-4EAE-B2E3-441E5F7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E51-EF57-4F52-BBF4-8717DB6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2F2-1A7F-48B1-81BE-F092E74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E08-9C66-4CC5-A4AD-2364620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669-854C-4637-96F4-C7268CE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9BF-041D-4C44-8F21-34970BB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0A9-6D57-4E11-9199-8B2AA1BF25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5BD-9AEE-4539-94DA-C418284013A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9680" y="1316160"/>
            <a:ext cx="7701840" cy="127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5640" y="1052280"/>
            <a:ext cx="7559640" cy="38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ортфолио интересов – как способ обобщения и осмысления ребёнком собственных интересов посредством совместной со взрослым познавательной и продуктивн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оспита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Довгорукая Галина Ильинич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627280" y="210960"/>
            <a:ext cx="61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АДОУ «Детский сад «Берёзка» г. Белоярский»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059280" y="648504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г. Белоярский, 2017г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0160" y="688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ортфолио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т англ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rtfolio –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тфель, папка, «дел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брание образцов работ, которые дают представление о предлагаемых услугах организации (фирмы) или специалиста (модели, фотографа, дизайнера, архитектора и т.д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ная задача портфоли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781360"/>
            <a:ext cx="76932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одемонстрировать достижения ребёнка в различных областях посредством сбора, систематизации и фиксирования результатов его деятельност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тличия портфоли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2204640"/>
            <a:ext cx="7693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2421000"/>
          <a:ext cx="7272360" cy="4416480"/>
        </p:xfrm>
        <a:graphic>
          <a:graphicData uri="http://schemas.openxmlformats.org/drawingml/2006/table">
            <a:tbl>
              <a:tblPr/>
              <a:tblGrid>
                <a:gridCol w="3551040"/>
                <a:gridCol w="3721320"/>
              </a:tblGrid>
              <a:tr h="3157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Портфолио интересов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Портфолио достиже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тражает интерес индивидуального развития ребён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аёт представление о результатах развития ребён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емонстрирует внешние достижения и результаты личностного развит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емонстрирует внешние достиж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Позволяет определить складывающийся интерес ребёнка к той или иной области зна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тражает достижения ребёнка, но не позволяет определить складывающийся интерес ребёнка к той или иной области знани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тражает творческую активность ребёнка, индивидуальный путь развития его интересов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Не даёт представление о развитии интересов ребён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Кто создаёт портфоли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781000"/>
            <a:ext cx="76932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Схема 4" descr=""/>
          <p:cNvPicPr/>
          <p:nvPr/>
        </p:nvPicPr>
        <p:blipFill>
          <a:blip r:embed="rId1"/>
          <a:stretch/>
        </p:blipFill>
        <p:spPr>
          <a:xfrm>
            <a:off x="1427040" y="2475000"/>
            <a:ext cx="62787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9160" y="842400"/>
            <a:ext cx="77698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 портфолио интер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852280"/>
            <a:ext cx="76932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1 раздел – результаты познавательной и продуктив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2 раздел – материалы педагогической диагностики, которую проводят совместно педагоги и родител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3 раздел – результаты индивидуальных прое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3"/>
                </a:solidFill>
                <a:latin typeface="Times New Roman"/>
              </a:rPr>
              <a:t>4 раздел – достижения ребёнка (грамоты, дипломы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даёт портфолио интересов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рмируется субъективная позиция ребёнка в познавательно-исследовательской деятельности, развиваются способност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остоятельно ставить цель и осознавать мотивы своей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ерировать известными способами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нозировать результаты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46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ный план интересов дошкольник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836640"/>
          <a:ext cx="8496000" cy="5832360"/>
        </p:xfrm>
        <a:graphic>
          <a:graphicData uri="http://schemas.openxmlformats.org/drawingml/2006/table">
            <a:tbl>
              <a:tblPr/>
              <a:tblGrid>
                <a:gridCol w="1190520"/>
                <a:gridCol w="3733920"/>
                <a:gridCol w="3571560"/>
              </a:tblGrid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933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933"/>
                          </a:solidFill>
                          <a:latin typeface="Times New Roman"/>
                          <a:ea typeface="Times New Roman"/>
                        </a:rPr>
                        <a:t>Направления выбора деятельно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1933"/>
                          </a:solidFill>
                          <a:latin typeface="Times New Roman"/>
                          <a:ea typeface="Times New Roman"/>
                        </a:rPr>
                        <a:t>Форма фиксации выбора ребён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пределить личностные цен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Коллаж из вырезок из газет, журналов «Моё сокровище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брать вид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Коллаж ил аудиозапись интервью «Чем я люблю заниматься в детском саду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брать занят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Коллаж или рисунок «Карта выходного дня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5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брать содержание деятельности, осознать интерес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Книга «Интересное для Деда Мороза»; «Если б я жил(а) в сказке, то кем бы был(а)…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3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брать партнёров по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етские клубы по интересам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пределить и осознать сферы интерес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Детские фоторепортажи «Что интересного я увидел(а)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7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Предложить и выбрать одно из решений зада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ставка-совет «Как поздравить маму с праздником?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7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Выбрать себе роль и партнёров по коллективной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Анонс (пресс-релиз) трудовой акц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Определить сферы интересов и перспективы развит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Репортаж о себе(по выбору ребёнка): серия рисунков, подбор фотографий, интервью и т.д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37:10Z</dcterms:created>
  <dc:creator>я</dc:creator>
  <dc:description/>
  <dc:language>en-US</dc:language>
  <cp:lastModifiedBy>Галиме Козлова</cp:lastModifiedBy>
  <dcterms:modified xsi:type="dcterms:W3CDTF">2017-11-28T19:02:29Z</dcterms:modified>
  <cp:revision>38</cp:revision>
  <dc:subject/>
  <dc:title>Слайд 1</dc:title>
</cp:coreProperties>
</file>