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7216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7216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7216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7216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7216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7216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7216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7216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K:\ProPowerPoint\Шаблоны\В работе\8 Марта 2\8Marta2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Box 6"/>
          <p:cNvSpPr/>
          <p:nvPr/>
        </p:nvSpPr>
        <p:spPr>
          <a:xfrm>
            <a:off x="7277760" y="654372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6228"/>
                </a:solidFill>
                <a:latin typeface="Ariston"/>
              </a:rPr>
              <a:t>ProPowerPoint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" descr="K:\ProPowerPoint\Шаблоны\В работе\8 Марта 2\8Marta2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7277760" y="654372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6228"/>
                </a:solidFill>
                <a:latin typeface="Ariston"/>
              </a:rPr>
              <a:t>ProPowerPoint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K:\ProPowerPoint\Шаблоны\В работе\8 Марта 2\8Marta2.jpg"/>
          <p:cNvPicPr/>
          <p:nvPr/>
        </p:nvPicPr>
        <p:blipFill>
          <a:blip r:embed="rId3"/>
          <a:stretch/>
        </p:blipFill>
        <p:spPr>
          <a:xfrm>
            <a:off x="14400" y="0"/>
            <a:ext cx="9129600" cy="6846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K:\ProPowerPoint\Шаблоны\В работе\8 Марта 2\8MartaPrint2.jpg"/>
          <p:cNvPicPr/>
          <p:nvPr/>
        </p:nvPicPr>
        <p:blipFill>
          <a:blip r:embed="rId1"/>
          <a:stretch/>
        </p:blipFill>
        <p:spPr>
          <a:xfrm>
            <a:off x="-30240" y="-22320"/>
            <a:ext cx="9174240" cy="6880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раткосрочный творческий проект в средней группе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«8 марта – праздник ма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«Портрет любимой мамоч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Цветы для мам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Текст 2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496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еседа о мам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Текст 2" descr=""/>
          <p:cNvPicPr/>
          <p:nvPr/>
        </p:nvPicPr>
        <p:blipFill>
          <a:blip r:embed="rId1"/>
          <a:stretch/>
        </p:blipFill>
        <p:spPr>
          <a:xfrm rot="4884000">
            <a:off x="-163440" y="2133360"/>
            <a:ext cx="5106960" cy="3525840"/>
          </a:xfrm>
          <a:prstGeom prst="rect">
            <a:avLst/>
          </a:prstGeom>
          <a:ln w="0">
            <a:noFill/>
          </a:ln>
        </p:spPr>
      </p:pic>
      <p:pic>
        <p:nvPicPr>
          <p:cNvPr id="97" name="Текст 2" descr=""/>
          <p:cNvPicPr/>
          <p:nvPr/>
        </p:nvPicPr>
        <p:blipFill>
          <a:blip r:embed="rId2"/>
          <a:stretch/>
        </p:blipFill>
        <p:spPr>
          <a:xfrm rot="5614200">
            <a:off x="4427640" y="1933920"/>
            <a:ext cx="482436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ллективная работа «Цветы в ваз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Текст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816360" cy="5040360"/>
          </a:xfrm>
          <a:prstGeom prst="rect">
            <a:avLst/>
          </a:prstGeom>
          <a:ln w="0">
            <a:noFill/>
          </a:ln>
        </p:spPr>
      </p:pic>
      <p:pic>
        <p:nvPicPr>
          <p:cNvPr id="100" name="Текст 2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456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ткрытка для ма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Текст 2" descr=""/>
          <p:cNvPicPr/>
          <p:nvPr/>
        </p:nvPicPr>
        <p:blipFill>
          <a:blip r:embed="rId1"/>
          <a:stretch/>
        </p:blipFill>
        <p:spPr>
          <a:xfrm>
            <a:off x="3059280" y="1052640"/>
            <a:ext cx="4895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аздничный концерт «Конфетное дерево для любимой мам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Текст 2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889440" cy="4852800"/>
          </a:xfrm>
          <a:prstGeom prst="rect">
            <a:avLst/>
          </a:prstGeom>
          <a:ln w="0">
            <a:noFill/>
          </a:ln>
        </p:spPr>
      </p:pic>
      <p:pic>
        <p:nvPicPr>
          <p:cNvPr id="105" name="Текст 2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7432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Текст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0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Текст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090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Текст 2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Текст 2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 проекта: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упповой, краткосроч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 проекта: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онный, творческ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астники проект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воспитатели, дети средней группы, их родит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 проведен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МБДОУ  «Детский сад № 95 «Рябинушк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оки проведения: с 28 февраля по 5 м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 проекта: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ширение знаний детей о возникновении праздника 8 Марта, углубление знаний детей о роли мамы в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Текст 2" descr=""/>
          <p:cNvPicPr/>
          <p:nvPr/>
        </p:nvPicPr>
        <p:blipFill>
          <a:blip r:embed="rId1"/>
          <a:stretch/>
        </p:blipFill>
        <p:spPr>
          <a:xfrm rot="20672400">
            <a:off x="395280" y="2707920"/>
            <a:ext cx="4038480" cy="2271600"/>
          </a:xfrm>
          <a:prstGeom prst="rect">
            <a:avLst/>
          </a:prstGeom>
          <a:ln w="0">
            <a:noFill/>
          </a:ln>
        </p:spPr>
      </p:pic>
      <p:pic>
        <p:nvPicPr>
          <p:cNvPr id="111" name="Текст 2" descr=""/>
          <p:cNvPicPr/>
          <p:nvPr/>
        </p:nvPicPr>
        <p:blipFill>
          <a:blip r:embed="rId2"/>
          <a:stretch/>
        </p:blipFill>
        <p:spPr>
          <a:xfrm rot="574200">
            <a:off x="4932360" y="1267920"/>
            <a:ext cx="3730680" cy="2098800"/>
          </a:xfrm>
          <a:prstGeom prst="rect">
            <a:avLst/>
          </a:prstGeom>
          <a:ln w="0">
            <a:noFill/>
          </a:ln>
        </p:spPr>
      </p:pic>
      <p:pic>
        <p:nvPicPr>
          <p:cNvPr id="112" name="Текст 2" descr=""/>
          <p:cNvPicPr/>
          <p:nvPr/>
        </p:nvPicPr>
        <p:blipFill>
          <a:blip r:embed="rId3"/>
          <a:stretch/>
        </p:blipFill>
        <p:spPr>
          <a:xfrm rot="1270200">
            <a:off x="4932000" y="4149720"/>
            <a:ext cx="37306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ктуальность проблем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ы привыкли принимать существующие праздники как само собой полагающееся, раз есть праздник, значит, нужно его отмечать, поздравлять, дарить подарки. При подготовке детей к празднику возник вопрос: «Откуда пришёл праздник? Почему именно 8 Марта?». Возникла идея провести подготовку к празднику в ходе осуществления проекта «8 Марта – международный женский день», познакомить детей с историей возникновения праздника и подготовить с детьми для милых мамочек праздни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дачи проек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знакомить детей с историей возникновения праздника 8 Мар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ь детей анализировать произведения о мам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вать грамотную речь, при составлении описательного характера о мам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ызывать желание детей изображать в рисунке красивые цветы для ма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ызывать желание детей создавать подарки к празднику своими ру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мелкой моторики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ект включает в себя 3 этап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дготовительный эта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ределение целей и задач проект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работка стратегии реализации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ставление плана основного эта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дбор литературных произведений о ма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дбор материала по тем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«История возникновения праздни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сновной этап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сматривание фотографий м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накомство с историей возникновения празд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сматривание книг о мам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ение произведения с дальнейшим анализом С.Тетерин стихи для детей «Будет мама очень рада», Моя любимая мама (стихи и рассказы), стихи о маме «Ты на свете лучше всех», «Моя мама лучше всех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сультация для родителей «История возникновения праздника 8 Март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ение произведений о мамах в домашнем чт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ставление описательных рассказов «Моя Мам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готовление поздравительной открытки и подар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аключительный этап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формление выставки рисунков детей «Моя милая МАМОЧ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ведение праздника «Конфетное дерево для любимой мамоч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ставление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Этот проект 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начим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 для всех его участник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получат новые знания о происхождении праздника, узнают много новых произведений о самом близком для себя человеке - МАМЕ, научатся составлять рассказы описательного характера о своей маме, порадуют своих мам творческими успехами, получат радость от совместно проведённого празд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дагог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продолжение освоения метода проектирования – метод организации насыщенной детской деятельности, который дает возможность расширять образовательное пространство, придать ему новые формы, эффективно развивать творческое и познавательное мышление дошкольников. Реализуют задачу взаимодействия с родителями в совмест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получат новые знания, умения, проведут творчески время со своим ребёнком при реализации проектной деятельности, получат подарки от своих детей, которые они создают своими ру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едполагаемое распределение роле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проектной групп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спитател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нимается подбором нужного материала, организует образовательные ситуации, чтение произведений, эффективно развивает творческое и познавательное мышление дошколь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участвуют в познавательной деятельности, применяя полученные ранее знания, разучивают предложенные произведения, участвуют в разборе произведений и в продуктив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вместно с детьми читают рекомендованные и любимые произведения о мамах; участвуют в проектной деятельности, принимают активное участие в жизни са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Предполагаемый результат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строение грамматически правильной речи при составлении описательных рассказ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зультативное взаимодействие с родител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ведение праздника «Конфетное дерево для любимой мамоч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12T07:19:33Z</dcterms:created>
  <dc:creator>Home</dc:creator>
  <dc:description>http://propowerpoint.ru - Бесплатные шаблоны для презентаций. Полезные советы и уроки  PowerPoint .</dc:description>
  <dc:language>en-US</dc:language>
  <cp:lastModifiedBy>Home</cp:lastModifiedBy>
  <dcterms:modified xsi:type="dcterms:W3CDTF">2022-11-15T12:56:29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60000000000010243100207f8000400038000</vt:lpwstr>
  </property>
</Properties>
</file>