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AutoShape 1"/>
          <p:cNvSpPr/>
          <p:nvPr/>
        </p:nvSpPr>
        <p:spPr>
          <a:xfrm>
            <a:off x="0" y="0"/>
            <a:ext cx="6742080" cy="987264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629">
                <a:moveTo>
                  <a:pt x="5" y="0"/>
                </a:moveTo>
                <a:arcTo wR="5" hR="5" stAng="16200000" swAng="-5400000"/>
                <a:lnTo>
                  <a:pt x="0" y="31624"/>
                </a:lnTo>
                <a:arcTo wR="5" hR="5" stAng="10800000" swAng="-5400000"/>
                <a:lnTo>
                  <a:pt x="21595" y="316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91880" y="947520"/>
            <a:ext cx="4552920" cy="34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042920" y="4695840"/>
            <a:ext cx="4656240" cy="37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44105-E812-4EDC-97D1-53C9A5DD7E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дание3 заполняется в ручную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BE1A6-7478-4E93-861C-918072A4A8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дание4 заполняется в ручную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94124-6BB6-47FA-9166-1832329C34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дание1 заполняется в ручную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18943-7738-46CF-AFDE-63704690B3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дание2 заполняется в ручную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E461-410F-4E11-AAD5-837BA107F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EBC7-0E26-4BE8-9C83-562141C2F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AAEB-A51B-4BA0-8E93-028F4A873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9B70-A860-41E4-A039-FDC2CD3A9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439B-B6FD-4350-B1E0-51345FF5D6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9E1B-3BB5-4FDA-A6D5-3E14F7EE29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4175-9583-48A6-9D8F-7D7E8EB8B1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0DB6-2FDD-4164-9361-61A6C2DB5F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8021-6A48-442A-AEDE-8F0B41E8F9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74EE-5BEA-4CE9-AEB6-273A89D4E4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4ADF-2F3D-4395-AEC9-35A012400F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32BA-222E-4CB6-B3CF-8A6CA5C4D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2BE1-ECBB-4B11-9212-2A5C2CAE5C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7ED7-6006-437C-BD98-48E831762E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1FE6-87EB-499C-87B6-55E65341C4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78FA-06A6-4A4D-8929-A3CC288EB4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4549-9F44-4A97-A258-A2E59C4AE2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648-86AB-4C5A-8CC1-C065E43D95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D51-2A26-47B1-B25B-941123A829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8BA-1A81-4EC4-983E-F48BF1F592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127-0400-434B-B45A-80B43F65CC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8F4-88D6-45E4-B4B3-6354F8396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2C57-BA92-4E24-9ECF-A9A7FCF8B4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44C-623C-458F-9935-5A0475A863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143-6B3B-4B54-8E69-211F7FD5BE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CDA-CE79-4D49-8F0A-49072321D5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D9E-CB1B-4175-A797-CE9FD73E19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1D2-3DB5-434A-8FD9-A884193931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A8F-7541-4463-AF00-8021FB6B78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602-52EE-4341-965B-00BD6AEB51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8F24A-E806-4B3F-9939-2C95CE0B9B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0D4A4-55F2-4A97-B6DA-978955EAE3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E0403-055E-48E4-A971-593AEA2CC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11BC-3095-4A1C-A342-114C610F73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7D362-3112-4112-B1DC-C043BE4343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B4BE6-A76F-48FA-9039-30DBD6A3D8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EC465-BC36-41BF-BCB0-08A70F68A2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15DCE-1775-4319-B804-BD76484551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D3747-FE76-4077-BFCD-AD6108D4EB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5403B-DECB-4131-918D-0D1E42C3A3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3BFB9-1C23-4634-89BA-1891F75B7A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FE633-FC0E-4702-A312-7BD91ECA08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34C12-574A-4892-9F3F-5C9CB94E45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FB278-F030-4178-800C-C88D9A8CD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E8DF-3748-446C-8FC5-D76D458795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52B97-2995-4056-B14E-9E32CAAC35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20486-E2E9-4626-BD95-68F973DD281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DFEED-3DDE-4B43-BFE9-09A3E61B13A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1F7EC-ED64-4CD5-AA29-B93C8ABD091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85003-D39B-4BF9-8243-8928FF4E99A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F6C49-02B0-4AEA-BA05-7DEB798D54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A670B-7F77-4B46-A44B-76576FFAFF1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8F217-4E9B-46D7-8B98-46C5B368578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000A3-3F5B-4FE2-AC9C-5860A01D329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C211F-9336-46A3-BC72-628DE4963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2F50-3C6D-43E2-9D85-DD33D9215A2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BB268-F2CA-46D5-ACE1-B6BCB85342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44C4-0DA0-4B35-A904-8706475F43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49B8-98DD-4D0C-A6ED-9A27F2D56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FB90-745C-4263-AC78-1FC0DABD3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414360" y="426960"/>
            <a:ext cx="8312040" cy="5494320"/>
            <a:chOff x="414360" y="426960"/>
            <a:chExt cx="8312040" cy="5494320"/>
          </a:xfrm>
        </p:grpSpPr>
        <p:pic>
          <p:nvPicPr>
            <p:cNvPr id="2" name="Picture 3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54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5720" cy="54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A0E605-47BC-4513-B9BF-AC0BDCB3EF3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Group 2"/>
          <p:cNvGrpSpPr/>
          <p:nvPr/>
        </p:nvGrpSpPr>
        <p:grpSpPr>
          <a:xfrm>
            <a:off x="414360" y="426960"/>
            <a:ext cx="8312040" cy="3117960"/>
            <a:chOff x="414360" y="426960"/>
            <a:chExt cx="8312040" cy="3117960"/>
          </a:xfrm>
        </p:grpSpPr>
        <p:pic>
          <p:nvPicPr>
            <p:cNvPr id="47" name="Picture 3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31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19880" cy="30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E8009E-5BDE-43D3-A5B7-E965B1826633}" type="slidenum">
              <a: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Group 2"/>
          <p:cNvGrpSpPr/>
          <p:nvPr/>
        </p:nvGrpSpPr>
        <p:grpSpPr>
          <a:xfrm>
            <a:off x="414360" y="426960"/>
            <a:ext cx="8312040" cy="4349880"/>
            <a:chOff x="414360" y="426960"/>
            <a:chExt cx="8312040" cy="4349880"/>
          </a:xfrm>
        </p:grpSpPr>
        <p:pic>
          <p:nvPicPr>
            <p:cNvPr id="92" name="Picture 3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48680" cy="42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8F5BC7-31C2-4025-9958-CB0302E0EBDE}" type="slidenum">
              <a: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4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50F2FF-8AF3-4101-BEB3-93E69293BD14}" type="slidenum">
              <a: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reeform 2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4" y="0"/>
                </a:lnTo>
                <a:cubicBezTo>
                  <a:pt x="2296004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5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184E35-8770-4F9B-9564-17F98F18D86A}" type="slidenum">
              <a:rPr b="0" lang="ru-RU" sz="1000" spc="-1" strike="noStrike">
                <a:solidFill>
                  <a:srgbClr val="a7a399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863640" y="560520"/>
            <a:ext cx="7315200" cy="289548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3636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944720" y="4896000"/>
            <a:ext cx="74311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ундер Юлия Вячеславов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математики МОУ «СОШ № 2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"/>
          <p:cNvSpPr/>
          <p:nvPr/>
        </p:nvSpPr>
        <p:spPr>
          <a:xfrm>
            <a:off x="755640" y="387360"/>
            <a:ext cx="758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  <a:ea typeface="Arial Unicode MS"/>
              </a:rPr>
              <a:t>Заключение в скоб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817560" y="1219320"/>
            <a:ext cx="7450200" cy="1557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Если сумма заключается в скобки, перед которыми стоит знак «+»,то знаки слагаемых, заключённых в скобки, оставляют без изме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838080" y="280188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а+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с=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+(-а+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755640" y="3691080"/>
            <a:ext cx="78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4+9-5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(-4+9-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19+12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(-19+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5-15+23-3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(25-15+23-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7304040" y="3011400"/>
            <a:ext cx="946080" cy="947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1066680" y="647640"/>
            <a:ext cx="7429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Verdana"/>
                <a:ea typeface="Arial Unicode MS"/>
              </a:rPr>
              <a:t>Заключите слагаемые в скобки и поставьте перед ними знак «+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855720" y="1914480"/>
            <a:ext cx="800100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3+8-7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19+11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56+36-12+10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43-19+43+11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2-19+19-1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762120" y="1052640"/>
            <a:ext cx="7505640" cy="1557000"/>
          </a:xfrm>
          <a:prstGeom prst="rect">
            <a:avLst/>
          </a:prstGeom>
          <a:gradFill rotWithShape="0">
            <a:gsLst>
              <a:gs pos="0">
                <a:srgbClr val="f0eadc"/>
              </a:gs>
              <a:gs pos="100000">
                <a:srgbClr val="918c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Если сумма заключается в скобки, перед которыми стоит знак «-», то знаки слагаемых, заключённых в скобки, меняют на противополож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1676520" y="2789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а-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b+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с-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d= -(-a+b-c+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762120" y="373392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8-25+37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(-28+25-3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56+38-19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(56-38+1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5-17+15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(-35+17-1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7297560" y="2787480"/>
            <a:ext cx="946440" cy="9464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755640" y="387360"/>
            <a:ext cx="758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  <a:ea typeface="Arial Unicode MS"/>
              </a:rPr>
              <a:t>Заключение в скоб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725400" y="647640"/>
            <a:ext cx="762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Verdana"/>
                <a:ea typeface="Arial Unicode MS"/>
              </a:rPr>
              <a:t>Заключите слагаемые в скобки и поставьте перед ними знак «-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792000" y="1914480"/>
            <a:ext cx="800100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79+11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9-28+15-8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3+9-5-11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56+38-12+10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43-59+35+11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1079640" y="576360"/>
            <a:ext cx="75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  <a:ea typeface="Arial Unicode MS"/>
              </a:rPr>
              <a:t>Практическая ча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 rot="19800000">
            <a:off x="3411000" y="2163240"/>
            <a:ext cx="2428920" cy="3057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1547640" y="620640"/>
            <a:ext cx="60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  <a:ea typeface="Arial Unicode MS"/>
              </a:rPr>
              <a:t>Проверка зна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"/>
          <p:cNvSpPr/>
          <p:nvPr/>
        </p:nvSpPr>
        <p:spPr>
          <a:xfrm>
            <a:off x="684360" y="1341360"/>
            <a:ext cx="762624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-25-36)+25=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9-10)-19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5-11)+11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(23-6)+6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-18-24)-18=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(-16-9)-9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(35-18)+35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Скругленный прямоугольник 5"/>
          <p:cNvSpPr/>
          <p:nvPr/>
        </p:nvSpPr>
        <p:spPr>
          <a:xfrm>
            <a:off x="7093080" y="13413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Скругленный прямоугольник 6"/>
          <p:cNvSpPr/>
          <p:nvPr/>
        </p:nvSpPr>
        <p:spPr>
          <a:xfrm>
            <a:off x="7093080" y="20606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Скругленный прямоугольник 7"/>
          <p:cNvSpPr/>
          <p:nvPr/>
        </p:nvSpPr>
        <p:spPr>
          <a:xfrm>
            <a:off x="3635280" y="2708280"/>
            <a:ext cx="432000" cy="4334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72">
                <a:moveTo>
                  <a:pt x="3600" y="0"/>
                </a:moveTo>
                <a:arcTo wR="3600" hR="3600" stAng="16200000" swAng="-5400000"/>
                <a:lnTo>
                  <a:pt x="0" y="18072"/>
                </a:lnTo>
                <a:arcTo wR="3600" hR="3600" stAng="10800000" swAng="-5400000"/>
                <a:lnTo>
                  <a:pt x="18000" y="216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Скругленный прямоугольник 8"/>
          <p:cNvSpPr/>
          <p:nvPr/>
        </p:nvSpPr>
        <p:spPr>
          <a:xfrm>
            <a:off x="3635280" y="33577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Скругленный прямоугольник 9"/>
          <p:cNvSpPr/>
          <p:nvPr/>
        </p:nvSpPr>
        <p:spPr>
          <a:xfrm>
            <a:off x="3635280" y="20606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Скругленный прямоугольник 10"/>
          <p:cNvSpPr/>
          <p:nvPr/>
        </p:nvSpPr>
        <p:spPr>
          <a:xfrm>
            <a:off x="7093080" y="2708280"/>
            <a:ext cx="431640" cy="43344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3440"/>
              <a:gd name="textAreaBottom" fmla="*/ 412560 h 433440"/>
            </a:gdLst>
            <a:ahLst/>
            <a:rect l="textAreaLeft" t="textAreaTop" r="textAreaRight" b="textAreaBottom"/>
            <a:pathLst>
              <a:path w="21600" h="21690">
                <a:moveTo>
                  <a:pt x="3600" y="0"/>
                </a:moveTo>
                <a:arcTo wR="3600" hR="3600" stAng="16200000" swAng="-5400000"/>
                <a:lnTo>
                  <a:pt x="0" y="18090"/>
                </a:lnTo>
                <a:arcTo wR="3600" hR="3600" stAng="10800000" swAng="-5400000"/>
                <a:lnTo>
                  <a:pt x="18000" y="21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Скругленный прямоугольник 11"/>
          <p:cNvSpPr/>
          <p:nvPr/>
        </p:nvSpPr>
        <p:spPr>
          <a:xfrm>
            <a:off x="3635280" y="14130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258920" y="4724280"/>
          <a:ext cx="6265800" cy="1081080"/>
        </p:xfrm>
        <a:graphic>
          <a:graphicData uri="http://schemas.openxmlformats.org/drawingml/2006/table">
            <a:tbl>
              <a:tblPr/>
              <a:tblGrid>
                <a:gridCol w="895320"/>
                <a:gridCol w="895320"/>
                <a:gridCol w="895320"/>
                <a:gridCol w="893880"/>
                <a:gridCol w="895320"/>
                <a:gridCol w="895320"/>
                <a:gridCol w="895320"/>
              </a:tblGrid>
              <a:tr h="541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16" name="Скругленный прямоугольник 13"/>
          <p:cNvSpPr/>
          <p:nvPr/>
        </p:nvSpPr>
        <p:spPr>
          <a:xfrm>
            <a:off x="2916360" y="1413000"/>
            <a:ext cx="647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Скругленный прямоугольник 14"/>
          <p:cNvSpPr/>
          <p:nvPr/>
        </p:nvSpPr>
        <p:spPr>
          <a:xfrm>
            <a:off x="2843280" y="2060640"/>
            <a:ext cx="6490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Скругленный прямоугольник 15"/>
          <p:cNvSpPr/>
          <p:nvPr/>
        </p:nvSpPr>
        <p:spPr>
          <a:xfrm>
            <a:off x="2843280" y="2708280"/>
            <a:ext cx="6490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Скругленный прямоугольник 16"/>
          <p:cNvSpPr/>
          <p:nvPr/>
        </p:nvSpPr>
        <p:spPr>
          <a:xfrm>
            <a:off x="2843280" y="3429000"/>
            <a:ext cx="6490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17"/>
          <p:cNvSpPr/>
          <p:nvPr/>
        </p:nvSpPr>
        <p:spPr>
          <a:xfrm>
            <a:off x="6372360" y="1341360"/>
            <a:ext cx="6476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8"/>
          <p:cNvSpPr/>
          <p:nvPr/>
        </p:nvSpPr>
        <p:spPr>
          <a:xfrm>
            <a:off x="6084720" y="2060640"/>
            <a:ext cx="648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9"/>
          <p:cNvSpPr/>
          <p:nvPr/>
        </p:nvSpPr>
        <p:spPr>
          <a:xfrm>
            <a:off x="6084720" y="2708280"/>
            <a:ext cx="64800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20"/>
          <p:cNvSpPr/>
          <p:nvPr/>
        </p:nvSpPr>
        <p:spPr>
          <a:xfrm>
            <a:off x="5940360" y="5300640"/>
            <a:ext cx="6476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Скругленный прямоугольник 21"/>
          <p:cNvSpPr/>
          <p:nvPr/>
        </p:nvSpPr>
        <p:spPr>
          <a:xfrm>
            <a:off x="3203640" y="5300640"/>
            <a:ext cx="6476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Скругленный прямоугольник 22"/>
          <p:cNvSpPr/>
          <p:nvPr/>
        </p:nvSpPr>
        <p:spPr>
          <a:xfrm>
            <a:off x="2268360" y="5300640"/>
            <a:ext cx="648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23"/>
          <p:cNvSpPr/>
          <p:nvPr/>
        </p:nvSpPr>
        <p:spPr>
          <a:xfrm>
            <a:off x="6804000" y="5300640"/>
            <a:ext cx="6476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24"/>
          <p:cNvSpPr/>
          <p:nvPr/>
        </p:nvSpPr>
        <p:spPr>
          <a:xfrm>
            <a:off x="1403280" y="5300640"/>
            <a:ext cx="6476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25"/>
          <p:cNvSpPr/>
          <p:nvPr/>
        </p:nvSpPr>
        <p:spPr>
          <a:xfrm>
            <a:off x="4932360" y="5300640"/>
            <a:ext cx="6476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26"/>
          <p:cNvSpPr/>
          <p:nvPr/>
        </p:nvSpPr>
        <p:spPr>
          <a:xfrm>
            <a:off x="4140360" y="5300640"/>
            <a:ext cx="64764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863640" y="560520"/>
            <a:ext cx="7315200" cy="289548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3636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  <a:ea typeface="Arial"/>
              </a:rPr>
              <a:t>Раскрытие скобок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Calibri"/>
                <a:ea typeface="Arial"/>
              </a:rPr>
              <a:t>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3636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  <a:ea typeface="Arial"/>
              </a:rPr>
              <a:t>заключение в скобк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1944720" y="4896000"/>
            <a:ext cx="74311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ундер Юлия Вячеславов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математики МОУ «СОШ № 2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03160" y="465120"/>
            <a:ext cx="74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  <a:ea typeface="Arial Unicode MS"/>
              </a:rPr>
              <a:t>Проверка домашнего задания (№ 353, № 35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576360" y="1630440"/>
            <a:ext cx="799128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353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) (-8)*(-7+5)-5*(-8)=(-8)*(-7+5-5)=(-8)*(-7)=5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3*(-98+2)+3*98=3*(-98+2+98)=3*2=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) (-8)*(-47+125)-47*8=(-8)*(-47+125)+47*(-8)=(-8)*(-47+125+47)=(-8)*125=-1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) (-25)*(45-100)+25*45=(-25)*(45-100)-25*(-45)=(-25)*(45-100-45)=(-25)*(-100)=25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) 83*(-98-1)+98*83=83*(-98-1+98)=83*(-1)=-8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) (-15)*(-7+15)-7*15=(-15)*(-7+15)-15*7=(-15)*(-7+15+7)=(-15)*15=-22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803160" y="465120"/>
            <a:ext cx="74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  <a:ea typeface="Arial Unicode MS"/>
              </a:rPr>
              <a:t>Проверка домашнего задания (№ 353, № 356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647640" y="1584360"/>
            <a:ext cx="7991640" cy="37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356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) 49*57-49*570=49*(57-570)=49*(-443)= -21 70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58*64-99*64=64*(58-99)=64*(-41)= - 2 62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) (-53)*48-(-53)*59=(-53)*(48-59)=(-53)*(-11)= 58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) (-45)*12+95*(-45)=(-45)*(12+95)=(-45)*107= - 4 8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) -53*48-57*48=48*(-53-57)=48*(-110)= - 5 28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ж) -45*13-45*27=(-45)*(13+27)=(-45)*40= - 1 8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Скругленный прямоугольник 3"/>
          <p:cNvSpPr/>
          <p:nvPr/>
        </p:nvSpPr>
        <p:spPr>
          <a:xfrm>
            <a:off x="395280" y="1628640"/>
            <a:ext cx="8150400" cy="417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ритерии оценивания домашнего зад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5» – 11-12 бал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4» – 8-10 бал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3» – 6-7 бал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2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gt;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бал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На Олимпийских играх в 1936 и 1964... | Ответ на вопрос | QuizzClub"/>
          <p:cNvPicPr/>
          <p:nvPr/>
        </p:nvPicPr>
        <p:blipFill>
          <a:blip r:embed="rId1"/>
          <a:stretch/>
        </p:blipFill>
        <p:spPr>
          <a:xfrm>
            <a:off x="1562040" y="3357720"/>
            <a:ext cx="5473800" cy="29937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"/>
          <p:cNvSpPr/>
          <p:nvPr/>
        </p:nvSpPr>
        <p:spPr>
          <a:xfrm>
            <a:off x="826920" y="1601640"/>
            <a:ext cx="746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 Unicode MS"/>
              </a:rPr>
              <a:t>Для чего нам необходимо раскрывать и заключать в скобки выражения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Скругленный прямоугольник 5"/>
          <p:cNvSpPr/>
          <p:nvPr/>
        </p:nvSpPr>
        <p:spPr>
          <a:xfrm>
            <a:off x="5595840" y="5300640"/>
            <a:ext cx="2880000" cy="9349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ля упрощения выраж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Скругленный прямоугольник 1"/>
          <p:cNvSpPr/>
          <p:nvPr/>
        </p:nvSpPr>
        <p:spPr>
          <a:xfrm>
            <a:off x="1258920" y="692280"/>
            <a:ext cx="6840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+(-638+516)+638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Скругленный прямоугольник 6"/>
          <p:cNvSpPr/>
          <p:nvPr/>
        </p:nvSpPr>
        <p:spPr>
          <a:xfrm>
            <a:off x="1258920" y="692280"/>
            <a:ext cx="6840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+(-638+516)+638=-638+516+638=5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63640" y="560520"/>
            <a:ext cx="7315200" cy="289548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3636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  <a:ea typeface="Arial"/>
              </a:rPr>
              <a:t>Раскрытие скобок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Calibri"/>
                <a:ea typeface="Arial"/>
              </a:rPr>
              <a:t>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3636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  <a:ea typeface="Arial"/>
              </a:rPr>
              <a:t>заключение в скобк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803160" y="333360"/>
            <a:ext cx="746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  <a:ea typeface="Arial Unicode MS"/>
              </a:rPr>
              <a:t>Правил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820800" y="1139760"/>
            <a:ext cx="7429320" cy="1557000"/>
          </a:xfrm>
          <a:prstGeom prst="rect">
            <a:avLst/>
          </a:prstGeom>
          <a:gradFill rotWithShape="0">
            <a:gsLst>
              <a:gs pos="0">
                <a:srgbClr val="f0eadc"/>
              </a:gs>
              <a:gs pos="100000">
                <a:srgbClr val="918c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Если сумма заключена в скобки, перед которыми стоит знак «+», то при раскрытии скобок знаки слагаемых оставляют без измен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820800" y="2676600"/>
            <a:ext cx="744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+(а-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с)=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а-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+(-а+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+с)=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а+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+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38080" y="4191120"/>
            <a:ext cx="7429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(19-16)+16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9-16+16=1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(38-23)+23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8-23+23=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7304040" y="3011400"/>
            <a:ext cx="946080" cy="947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971640" y="476280"/>
            <a:ext cx="735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  <a:ea typeface="Arial Unicode MS"/>
              </a:rPr>
              <a:t>Раскройте скобк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  <a:ea typeface="Arial Unicode MS"/>
              </a:rPr>
              <a:t>и вычислит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826920" y="2349360"/>
            <a:ext cx="7086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(39-70)+70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(36-16)+19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(-50-86)+50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755640" y="260280"/>
            <a:ext cx="751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  <a:ea typeface="Arial Unicode MS"/>
              </a:rPr>
              <a:t>Правил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755640" y="1139760"/>
            <a:ext cx="7512120" cy="1557000"/>
          </a:xfrm>
          <a:prstGeom prst="rect">
            <a:avLst/>
          </a:prstGeom>
          <a:gradFill rotWithShape="0">
            <a:gsLst>
              <a:gs pos="0">
                <a:srgbClr val="f0eadc"/>
              </a:gs>
              <a:gs pos="100000">
                <a:srgbClr val="918c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Если сумма заключена в скобки, перед которыми стоит знак «-», то при раскрытии скобок знаки слагаемых меняют на противополож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755640" y="270972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(а-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с)=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а+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+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(-а+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+с)=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+а-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55640" y="4221000"/>
            <a:ext cx="7010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(62-7)-7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62+7-7=-6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(-23+9)-23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23-9-23=-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7304040" y="3011400"/>
            <a:ext cx="946080" cy="947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936720" y="576360"/>
            <a:ext cx="75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 Unicode MS"/>
              </a:rPr>
              <a:t>Раскройте скобки и вычислит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739800" y="2390760"/>
            <a:ext cx="7467480" cy="2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(24-12)-12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(-14+29)-14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(28-9)+8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(-35+14)-5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15:49:39Z</dcterms:created>
  <dc:creator>Мама</dc:creator>
  <dc:description/>
  <dc:language>en-US</dc:language>
  <cp:lastModifiedBy>1</cp:lastModifiedBy>
  <dcterms:modified xsi:type="dcterms:W3CDTF">2020-12-02T05:22:48Z</dcterms:modified>
  <cp:revision>54</cp:revision>
  <dc:subject/>
  <dc:title>Учебная программа</dc:title>
</cp:coreProperties>
</file>