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2119-5C4A-4CBE-9F02-D168C3169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D135-AEF5-4889-B38A-C177F5AE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E1DF-2615-4C77-BBBE-B8DF4A7DF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C933-FDDE-40B8-98E9-2859015FF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9155-DD6A-4622-9F27-7033A8BBC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5D57-56FB-4BBF-AE68-E946AC87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29AD-6C9F-4A47-8FA5-72BD9739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2C2A8-6D22-4B05-BDC2-8894D77C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044F-2C5F-4504-AF1A-D1B39AC84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F8AB-3B16-4C4A-BB04-C37098CC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339D-67AB-4EF8-8975-665AF85C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3279-0BAA-45D6-BC3D-280C501B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0F9E0-FA45-47E1-B36D-8633B736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866F-4DDA-4787-994C-D993A128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4A45-4752-469C-93C0-B6B8CDEA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49D15-452E-42BE-8734-153F9A9B0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7421-9E02-48C0-9CF7-7B17AE9D9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6365-027A-4583-B02B-3994BD8B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C8E2-096A-4B1A-B34A-7480A85C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AE65-4D3E-4BB9-951F-21B61B9D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7543-83A9-4BAC-9886-85816D24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092B-DC59-4CC6-9CF0-214E05F8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D540-6B1F-4260-BF62-5425BCAA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0C44-A12E-4857-AEF0-3EAC4DD8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3498-2574-45D6-A121-3B841BD6856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9FA3-BB6B-462F-9A49-985DB85E37B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62012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Comic Sans MS"/>
              </a:rPr>
              <a:t>Растительный и животный мир России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3886200" y="1981080"/>
            <a:ext cx="4648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Comic Sans MS"/>
              </a:rPr>
              <a:t>обобщающий урок </a:t>
            </a:r>
            <a:br>
              <a:rPr sz="3600"/>
            </a:br>
            <a:r>
              <a:rPr b="0" lang="ru-RU" sz="3600" spc="-1" strike="noStrike">
                <a:solidFill>
                  <a:srgbClr val="330033"/>
                </a:solidFill>
                <a:latin typeface="Comic Sans MS"/>
              </a:rPr>
              <a:t>в 8 клас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" descr="490"/>
          <p:cNvPicPr/>
          <p:nvPr/>
        </p:nvPicPr>
        <p:blipFill>
          <a:blip r:embed="rId1"/>
          <a:stretch/>
        </p:blipFill>
        <p:spPr>
          <a:xfrm>
            <a:off x="5486400" y="3581280"/>
            <a:ext cx="3200400" cy="2919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shishki_kedra_www_ruvr_ru"/>
          <p:cNvPicPr/>
          <p:nvPr/>
        </p:nvPicPr>
        <p:blipFill>
          <a:blip r:embed="rId2"/>
          <a:stretch/>
        </p:blipFill>
        <p:spPr>
          <a:xfrm>
            <a:off x="843120" y="1676520"/>
            <a:ext cx="2771640" cy="29718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5"/>
          <p:cNvSpPr/>
          <p:nvPr/>
        </p:nvSpPr>
        <p:spPr>
          <a:xfrm>
            <a:off x="1219320" y="4952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Comic Sans MS"/>
              </a:rPr>
              <a:t>Учитель географии 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Comic Sans MS"/>
              </a:rPr>
              <a:t>Котельникова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Comic Sans MS"/>
              </a:rPr>
              <a:t>С. Ширышт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980720" y="5486400"/>
            <a:ext cx="6248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лупустыни и пусты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2"/>
          <p:cNvPicPr/>
          <p:nvPr/>
        </p:nvPicPr>
        <p:blipFill>
          <a:blip r:embed="rId1"/>
          <a:stretch/>
        </p:blipFill>
        <p:spPr>
          <a:xfrm>
            <a:off x="685800" y="380880"/>
            <a:ext cx="5460840" cy="4089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Цель урок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общить знания о растительном и животном мире Росси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крепить умение пользоваться различными источниками для поиска информ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иться представлять собственную работу и оценивать работы одноклассни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Формы представл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зентац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борник стих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енгазе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оссвор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ценивание работ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3 критерия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есн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навательн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игиналь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3 бальной систем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очен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рош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ли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5943600"/>
            <a:ext cx="32763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ундра и лесотунд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4"/>
          <p:cNvPicPr/>
          <p:nvPr/>
        </p:nvPicPr>
        <p:blipFill>
          <a:blip r:embed="rId1"/>
          <a:stretch/>
        </p:blipFill>
        <p:spPr>
          <a:xfrm>
            <a:off x="609480" y="-304920"/>
            <a:ext cx="2828880" cy="4038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356"/>
          <p:cNvPicPr/>
          <p:nvPr/>
        </p:nvPicPr>
        <p:blipFill>
          <a:blip r:embed="rId2"/>
          <a:stretch/>
        </p:blipFill>
        <p:spPr>
          <a:xfrm>
            <a:off x="4419720" y="3429000"/>
            <a:ext cx="4190760" cy="3147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587"/>
          <p:cNvPicPr/>
          <p:nvPr/>
        </p:nvPicPr>
        <p:blipFill>
          <a:blip r:embed="rId3"/>
          <a:stretch/>
        </p:blipFill>
        <p:spPr>
          <a:xfrm>
            <a:off x="3581280" y="228600"/>
            <a:ext cx="5410440" cy="2705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Овцебыки"/>
          <p:cNvPicPr/>
          <p:nvPr/>
        </p:nvPicPr>
        <p:blipFill>
          <a:blip r:embed="rId4"/>
          <a:stretch/>
        </p:blipFill>
        <p:spPr>
          <a:xfrm>
            <a:off x="457200" y="3505320"/>
            <a:ext cx="3581280" cy="2387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162560" y="6095520"/>
            <a:ext cx="152388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Тайга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5" name="Picture 7" descr="594"/>
          <p:cNvPicPr/>
          <p:nvPr/>
        </p:nvPicPr>
        <p:blipFill>
          <a:blip r:embed="rId1"/>
          <a:stretch/>
        </p:blipFill>
        <p:spPr>
          <a:xfrm>
            <a:off x="304920" y="3429000"/>
            <a:ext cx="4095720" cy="3095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589"/>
          <p:cNvPicPr/>
          <p:nvPr/>
        </p:nvPicPr>
        <p:blipFill>
          <a:blip r:embed="rId2"/>
          <a:stretch/>
        </p:blipFill>
        <p:spPr>
          <a:xfrm>
            <a:off x="4724280" y="228600"/>
            <a:ext cx="4095720" cy="3067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Лиса на охоте"/>
          <p:cNvPicPr/>
          <p:nvPr/>
        </p:nvPicPr>
        <p:blipFill>
          <a:blip r:embed="rId3"/>
          <a:stretch/>
        </p:blipFill>
        <p:spPr>
          <a:xfrm>
            <a:off x="457200" y="380880"/>
            <a:ext cx="3886200" cy="2575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Лось"/>
          <p:cNvPicPr/>
          <p:nvPr/>
        </p:nvPicPr>
        <p:blipFill>
          <a:blip r:embed="rId4"/>
          <a:stretch/>
        </p:blipFill>
        <p:spPr>
          <a:xfrm>
            <a:off x="4876920" y="3505320"/>
            <a:ext cx="3733560" cy="2489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0" name="Picture 4" descr="588"/>
          <p:cNvPicPr/>
          <p:nvPr/>
        </p:nvPicPr>
        <p:blipFill>
          <a:blip r:embed="rId1"/>
          <a:stretch/>
        </p:blipFill>
        <p:spPr>
          <a:xfrm>
            <a:off x="304920" y="380880"/>
            <a:ext cx="4267080" cy="2828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3"/>
          <p:cNvPicPr/>
          <p:nvPr/>
        </p:nvPicPr>
        <p:blipFill>
          <a:blip r:embed="rId2"/>
          <a:stretch/>
        </p:blipFill>
        <p:spPr>
          <a:xfrm>
            <a:off x="4724280" y="342900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593"/>
          <p:cNvPicPr/>
          <p:nvPr/>
        </p:nvPicPr>
        <p:blipFill>
          <a:blip r:embed="rId3"/>
          <a:stretch/>
        </p:blipFill>
        <p:spPr>
          <a:xfrm>
            <a:off x="152280" y="3505320"/>
            <a:ext cx="4343400" cy="3070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335"/>
          <p:cNvPicPr/>
          <p:nvPr/>
        </p:nvPicPr>
        <p:blipFill>
          <a:blip r:embed="rId4"/>
          <a:stretch/>
        </p:blipFill>
        <p:spPr>
          <a:xfrm>
            <a:off x="4648320" y="349200"/>
            <a:ext cx="4038480" cy="2873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14040" y="6019560"/>
            <a:ext cx="79246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мешанный и широколиственный ле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212"/>
          <p:cNvPicPr/>
          <p:nvPr/>
        </p:nvPicPr>
        <p:blipFill>
          <a:blip r:embed="rId1"/>
          <a:stretch/>
        </p:blipFill>
        <p:spPr>
          <a:xfrm>
            <a:off x="1447920" y="380880"/>
            <a:ext cx="3581280" cy="2691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"/>
          <p:cNvPicPr/>
          <p:nvPr/>
        </p:nvPicPr>
        <p:blipFill>
          <a:blip r:embed="rId2"/>
          <a:stretch/>
        </p:blipFill>
        <p:spPr>
          <a:xfrm>
            <a:off x="5486400" y="533520"/>
            <a:ext cx="3211560" cy="5029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2"/>
          <p:cNvPicPr/>
          <p:nvPr/>
        </p:nvPicPr>
        <p:blipFill>
          <a:blip r:embed="rId3"/>
          <a:stretch/>
        </p:blipFill>
        <p:spPr>
          <a:xfrm>
            <a:off x="685800" y="3276720"/>
            <a:ext cx="3581280" cy="2547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47960" y="6172200"/>
            <a:ext cx="38098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есостепи и степ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22"/>
          <p:cNvPicPr/>
          <p:nvPr/>
        </p:nvPicPr>
        <p:blipFill>
          <a:blip r:embed="rId1"/>
          <a:stretch/>
        </p:blipFill>
        <p:spPr>
          <a:xfrm>
            <a:off x="914400" y="5335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32"/>
          <p:cNvPicPr/>
          <p:nvPr/>
        </p:nvPicPr>
        <p:blipFill>
          <a:blip r:embed="rId2"/>
          <a:stretch/>
        </p:blipFill>
        <p:spPr>
          <a:xfrm>
            <a:off x="5211720" y="0"/>
            <a:ext cx="3932280" cy="2952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222"/>
          <p:cNvPicPr/>
          <p:nvPr/>
        </p:nvPicPr>
        <p:blipFill>
          <a:blip r:embed="rId3"/>
          <a:stretch/>
        </p:blipFill>
        <p:spPr>
          <a:xfrm>
            <a:off x="304920" y="3733920"/>
            <a:ext cx="4127400" cy="2800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31"/>
          <p:cNvPicPr/>
          <p:nvPr/>
        </p:nvPicPr>
        <p:blipFill>
          <a:blip r:embed="rId4"/>
          <a:stretch/>
        </p:blipFill>
        <p:spPr>
          <a:xfrm>
            <a:off x="4724280" y="3276720"/>
            <a:ext cx="3797280" cy="2852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cer</dc:creator>
  <dc:description/>
  <dc:language>en-US</dc:language>
  <cp:lastModifiedBy>Acer</cp:lastModifiedBy>
  <dcterms:modified xsi:type="dcterms:W3CDTF">2022-11-15T03:12:42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