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891-3E2B-47C4-9CE0-A5E0B3E7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06A-FCF0-4A26-868A-0F15BA92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2AC-CFBC-4044-9A4F-422E1566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C9A2-F58D-47A4-BE31-9EC8DDDE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D17E-8253-4FEE-B832-3AD0510E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8871-4842-4459-AD88-BCC0D28F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6504-4E38-42F2-BB3E-0592A292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CC57-7961-4088-8D92-3A0E2C69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BE6B-528C-416C-B260-D917DEB3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638A-B20E-4EE4-9627-53864B3C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22EE-07C4-4DC2-A144-5836F567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54B3-381C-40A7-989A-51AFE8D3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B6A9-7CF0-4995-8EB4-BE6A2AFB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6C61-07E2-46D6-A45A-1FC7AAC4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F6FA-2555-4BE0-BCFF-67BA0DC4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D666-C456-4A3F-A4A0-08421727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82F1-FF14-486F-AC2D-2600BAE7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267C-D47F-4117-9521-F87CFA3F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A71-00AF-4923-866F-77958A03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68D-48CA-4580-9940-3A2BC65B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6730-2AA0-4996-B949-CE2AA562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281-A07A-4984-B421-7D74FFB4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994F-D366-4A3B-A723-5FE54851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01DA-523B-4653-A29F-3D6ED968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05FE-1B6B-4B85-96F8-C72D081344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9F23-9A98-4965-B91F-6F7B1AA7C6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 Black"/>
              </a:rPr>
              <a:t>Разнообразие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Arial Black"/>
              </a:rPr>
              <a:t>животного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Arial Black"/>
              </a:rPr>
              <a:t>мир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9640" y="549360"/>
            <a:ext cx="77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Земноводны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: лягушки, жабы, тритон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3816360" cy="3456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8360" y="587700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асть жизни живут на суше, часть- в воде. Кожа голая, неж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11280" y="54936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ресмыкающиеся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: ящерицы, змеи, черепахи, крокодил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2232000" cy="2303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700360" y="2141640"/>
            <a:ext cx="3311640" cy="2278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156360" y="2205000"/>
            <a:ext cx="2793960" cy="2232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1280" y="551664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ло покрыто сухими чешуйками или панцир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692360" y="62064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тиц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577960" cy="1938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132000" y="1844640"/>
            <a:ext cx="2592360" cy="1949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012000" y="1844640"/>
            <a:ext cx="2808000" cy="1944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92360" y="530064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ло покрыто перь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58920" y="549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Млекопитающ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2160720" cy="2421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484360" y="1376280"/>
            <a:ext cx="3311640" cy="2381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940360" y="1341360"/>
            <a:ext cx="3024360" cy="244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11280" y="501336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ло покрыто шерстью. Детенышей кормят моло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476360" y="2637000"/>
            <a:ext cx="655164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63640" y="1484280"/>
            <a:ext cx="6912000" cy="30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 авторах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тухова Людмила Георгиевна  МОУ СОШ №17 г.Брян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рошенкова Наталья Васильевна МОУ Кокоревская СОШ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661080" y="32777280"/>
            <a:ext cx="806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276360" y="1125360"/>
            <a:ext cx="647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9280" y="1125360"/>
            <a:ext cx="576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1844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Одноклеточные                                   Многоклеточ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99736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356000" y="2421000"/>
            <a:ext cx="10080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27640" y="242100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299736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Позвоноч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348000" y="4659840"/>
            <a:ext cx="57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429000"/>
            <a:ext cx="23749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ерв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оллюс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глокож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кообраз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аукообраз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секом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6360" y="3429000"/>
            <a:ext cx="29876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ыб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емновод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есмыкающие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ти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лекопитающ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59280" y="299736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Беспозвоноч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33336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живот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9640" y="54936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Черв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 дождевые черви, пияв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6769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549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Моллюск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улитки, слизни, осьминоги, кальма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42100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11280" y="1916280"/>
            <a:ext cx="4681800" cy="3025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24000" y="5950080"/>
            <a:ext cx="792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558972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ягкое тело защищено ракови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54936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Иглокожие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морские звезды, морские ежи, морские лилии, морские огурц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0" y="691920"/>
            <a:ext cx="7416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4105080" cy="3345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79640" y="6308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меются игол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90760" y="6442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6381720"/>
            <a:ext cx="201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6880" y="7419960"/>
            <a:ext cx="12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мею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11280" y="54936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Ракообразны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: раки, крабы, креветки, мокриц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620640"/>
            <a:ext cx="676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3816360" cy="3084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356000" y="2421000"/>
            <a:ext cx="4464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87280" y="620640"/>
            <a:ext cx="777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Паукообразны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скорпионы, пауки, клещ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185080" cy="4176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61657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ют 8 н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4360" y="404640"/>
            <a:ext cx="77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Насекомы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жуки, бабочки, стрекозы, пчелы, мух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4376520" cy="3528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4176720" cy="3524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58920" y="60930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меют 6 н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58920" y="62064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Рыб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31840" y="1413000"/>
            <a:ext cx="5080320" cy="3508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9640" y="515772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Живут в воде. Тело покрыто чешуей. Передвигаются при помощи плавников. Дышат жа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8:47:02Z</dcterms:created>
  <dc:creator>Slushatel</dc:creator>
  <dc:description/>
  <dc:language>en-US</dc:language>
  <cp:lastModifiedBy>Slushatel</cp:lastModifiedBy>
  <dcterms:modified xsi:type="dcterms:W3CDTF">2008-11-27T09:19:31Z</dcterms:modified>
  <cp:revision>6</cp:revision>
  <dc:subject/>
  <dc:title>Разнообразие животного мира</dc:title>
</cp:coreProperties>
</file>