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08629-71CF-4BCB-89BB-823B28182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583A6-54C9-4E96-912F-4FB95ABCF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BFE1B-E1E9-42E5-885D-4549D87B0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9901D-FD3B-43FC-B6CD-E010C27C8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58F6E-B4A5-4F8C-85AA-3E7CFED915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CCDB0-5F85-4FDE-BBE9-A6C355BF2F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90F2E-9D9F-494A-9B37-DE839A5E3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30982-5345-4E6E-822A-C0DD88FEC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5FEBB-5823-4B0F-A701-136CF89E2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B4517-5A7F-418A-9288-19EF20463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48204-DD7B-46B3-8F7B-CB61BE751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EA922-5EA3-4A1E-B0A3-605A10455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0C123-E61F-4A06-A23B-290A440D6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0D3-B85C-4D7E-87FD-7FE4BC16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CCA-B753-41F0-AB95-88B10406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8C3-FE20-4B96-BB0A-6435E5A7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F78-484F-4D22-8814-BE313903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0B68-5713-40A1-9645-AD46526B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158D-32A1-418E-9D2C-F42A0088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8B2A-6629-4CCC-9EAA-68DF7BAC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E93C-5C14-41EB-A7DA-AE4F4BD7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95ED-EDDE-406A-9B77-7C01A542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3D93-9642-4273-A67A-DB3EDEF2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359E-487A-4B03-973F-C60B76DB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AF7-9753-46BC-96A6-363B5436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C6BE-B4A7-42AC-927B-FDE6E439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CD85-5AD0-4495-B7DF-A28F6D98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539D-4ACA-4B5D-9249-94B48093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46B5-3D8A-43FE-ACF1-B9E9BBAC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8A94-0532-48EA-B31A-78A18DF4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FC4E-A496-4661-B3DF-74160E78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CC38-9AEF-4C3F-A244-3DECE0AE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DFEB-73C0-45A8-A448-E92325F4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2B3F-3E37-4B79-AC3A-AF6930CE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DC4A-C1D4-4F96-9F27-8FAECEB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359-6041-4D78-A21D-5F46A9BE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75D9-B29D-422E-BC03-A1FB7CA7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FCBF7-7A2F-4D2B-B00E-8741917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19ED-016E-4F3E-B1CD-F299E122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412B-76D9-4CFC-8A2D-BE0DCC6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E964-DB99-4E89-8673-C2CBE9D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ABCD-6758-4E1D-8E38-1B6F73BB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6E92-5088-48FF-80E1-6D332F8D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C17A-319B-4B55-A026-394C84E7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34F2-DD4B-463F-9664-425A56E3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29F7E-2F8E-4D23-AEB7-FED8461A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01D-8B83-4EB0-AC6E-EB37E1AE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5F22B-14A8-4A62-BCAE-F6D31953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8CFA-BC23-4E93-89EC-D0AF38F9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66F2F-413F-4164-AE95-794E6066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0838-4476-4522-86FC-401C3266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DDA6-0C1B-44AB-BC07-B0C0268D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D1F5-893D-412F-A0DC-055BEA48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D579-F870-4FAD-B037-ED687B66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7C27-9457-4FDD-AF30-68A58361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DFCF-0EA2-48BA-84C4-081AC164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642-1384-4A24-82CC-B04BBF08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C2F-09E1-4847-B798-0A59EC6A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C47-A7B0-4238-B88C-2F740D3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E19-7B34-43E4-A5E9-E90EDE20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137-9489-4FDE-9515-4A5BC4B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1F101-E435-4AFD-B1F5-B4BB4FEE12F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11194-0F0C-426D-957D-B072C0AC0C7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205BF-E45C-4860-83F0-42798868C87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09D77-2165-4156-83F9-95EE39C6445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58920" y="836640"/>
            <a:ext cx="57625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Сила и методика ее развития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381480" y="4941720"/>
            <a:ext cx="57625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готовила: Мараева М.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зрывная сила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лове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его способность проявить самое большое усилие за возможно более короткое врем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иловая выносливость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челове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способность как можно более эффективно, для конкретных условий производственной, спортивной или другой двигательной деятельности, преодолевать умеренное внешнее сопротивление и длительное время поддерживать высокие силовые показател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862280" y="311040"/>
            <a:ext cx="6094440" cy="679680"/>
          </a:xfrm>
          <a:prstGeom prst="rect">
            <a:avLst/>
          </a:prstGeom>
          <a:solidFill>
            <a:srgbClr val="f4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ЖИМЫ РАБОТЫ МЫШЦ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2484360" y="1125360"/>
            <a:ext cx="0" cy="49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6877080" y="1125360"/>
            <a:ext cx="0" cy="49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332000" y="1700280"/>
            <a:ext cx="2595600" cy="801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намически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5865840" y="1700280"/>
            <a:ext cx="2595600" cy="801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тически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720800" y="3649680"/>
            <a:ext cx="6377040" cy="6174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ИДЫ РАБОТЫ МЫШЦ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1442880" y="4941720"/>
            <a:ext cx="169236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ДЕРЖИВАЮЩАЯ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БОТ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изометрический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жим работы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3236760" y="4941720"/>
            <a:ext cx="180684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ОДОЛЕВАЮЩАЯ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БОТ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концентрический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жим работы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5245200" y="4941720"/>
            <a:ext cx="174924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СТУПАЮЩАЯ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БОТ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плиометрический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жим работы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7165800" y="4941720"/>
            <a:ext cx="172116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МБИНИРОВАННАЯ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БОТ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2481120" y="443700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4124160" y="443700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6119640" y="43750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7956720" y="443700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Физические каче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82800" y="1455480"/>
            <a:ext cx="7178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врожденные (генетически унаследованные) морфофункциональные качества развитые в процессе воспитания и целенаправленной подготовки, которые определяют возможность и успешность выполнения человеком определенной двигательной деятель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9080" y="-30240"/>
            <a:ext cx="7704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ДВИГАТЕЛЬНЫЕ КАЧЕ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1979640" y="2193840"/>
            <a:ext cx="2735280" cy="935280"/>
          </a:xfrm>
          <a:prstGeom prst="roundRect">
            <a:avLst>
              <a:gd name="adj" fmla="val 16667"/>
            </a:avLst>
          </a:prstGeom>
          <a:solidFill>
            <a:srgbClr val="10cf9b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5616720" y="2276640"/>
            <a:ext cx="3025800" cy="86328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СТРО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39960" y="3789360"/>
            <a:ext cx="2952720" cy="86364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dbf5f9"/>
                </a:solidFill>
                <a:latin typeface="Verdana"/>
              </a:rPr>
              <a:t>ВЫНОСЛИВ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10" name="AutoShape 7"/>
          <p:cNvGrpSpPr/>
          <p:nvPr/>
        </p:nvGrpSpPr>
        <p:grpSpPr>
          <a:xfrm>
            <a:off x="5224320" y="4456080"/>
            <a:ext cx="3376800" cy="1146240"/>
            <a:chOff x="5224320" y="4456080"/>
            <a:chExt cx="3376800" cy="1146240"/>
          </a:xfrm>
        </p:grpSpPr>
        <p:pic>
          <p:nvPicPr>
            <p:cNvPr id="211" name="AutoShape 7" descr=""/>
            <p:cNvPicPr/>
            <p:nvPr/>
          </p:nvPicPr>
          <p:blipFill>
            <a:blip r:embed="rId1"/>
            <a:stretch/>
          </p:blipFill>
          <p:spPr>
            <a:xfrm>
              <a:off x="5224320" y="4456080"/>
              <a:ext cx="33768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337000" y="4533840"/>
              <a:ext cx="31496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ДВИЖНОСТЬ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В СУСТАВАХ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213" name="AutoShape 8"/>
          <p:cNvGrpSpPr/>
          <p:nvPr/>
        </p:nvGrpSpPr>
        <p:grpSpPr>
          <a:xfrm>
            <a:off x="4065480" y="3267000"/>
            <a:ext cx="3164040" cy="1000080"/>
            <a:chOff x="4065480" y="3267000"/>
            <a:chExt cx="3164040" cy="1000080"/>
          </a:xfrm>
        </p:grpSpPr>
        <p:pic>
          <p:nvPicPr>
            <p:cNvPr id="214" name="AutoShape 8" descr=""/>
            <p:cNvPicPr/>
            <p:nvPr/>
          </p:nvPicPr>
          <p:blipFill>
            <a:blip r:embed="rId2"/>
            <a:stretch/>
          </p:blipFill>
          <p:spPr>
            <a:xfrm>
              <a:off x="4065480" y="3267000"/>
              <a:ext cx="3164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178160" y="3341520"/>
              <a:ext cx="2941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ЛОВКОСТЬ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58560" y="1762200"/>
            <a:ext cx="770580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изическими способностя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нимают относительно устойчивые врожденные и приобретенные функциональные особенности органов и структур организма, взаимодействие которых обуславливает эффективность выполнения двигательного действ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33480" y="169992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это способность преодолевать определенное сопротивление или противодействовать ему за счет деятельности мышц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ловые способн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9236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бсолютная сил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носительная сил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коростная сил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зрывная сил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иловая вынослив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бсолютная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сила челове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максимальная сила, с которой он способен  преодолевать наибольшее сопротивление или противодействовать ему произвольным мышечным напряжением, независимо от массы его тел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982800" y="1341360"/>
            <a:ext cx="77040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Относительная сила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это количество абсолютной силы человека, которое приходится на один килограмм массы его тел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коростная сила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лове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его способность с возможно большей скоростью преодолевать умеренное сопротивлени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8:26:23Z</dcterms:created>
  <dc:creator>1</dc:creator>
  <dc:description/>
  <dc:language>en-US</dc:language>
  <cp:lastModifiedBy>Елена Устинкина</cp:lastModifiedBy>
  <dcterms:modified xsi:type="dcterms:W3CDTF">2022-11-15T11:54:03Z</dcterms:modified>
  <cp:revision>38</cp:revision>
  <dc:subject/>
  <dc:title>Физическая подготовка на начальном этапе</dc:title>
</cp:coreProperties>
</file>