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91A9-A17F-4395-A684-19E08C64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D3F6-D93A-4E56-978A-95D2BA97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C57920-E42D-4050-BB4C-D54296F1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FC137C-4CA4-43C7-8A47-63FDF764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C77CA9-D604-4989-B7B2-DEF8346B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EA3E4E-E6F5-40AD-A7A3-281BCDEA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655364-5A0C-44AF-87D3-29D889C5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B0B376-78F9-4F61-9F66-F992A1A1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1CE5C8-9686-4A8B-B584-1D2EAFCA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00F403-A1CA-4E05-AFF2-2ACF30AC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FB1925-7CC2-440D-9824-A5F4EF10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26D513-025F-42A7-B454-6F3B243E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37E7-DEB7-44FA-AB22-FF770E0B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EE7A66-7600-42D4-8744-514A6A50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DAF983-2E5B-4D74-91CD-16CC4142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002900-DCDE-4264-AC96-58040F55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A30533-7138-4E52-A44C-0B5B5F61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A38DC3-01AA-4642-9CEA-72A45D78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1F9897-4691-4DD0-8CC9-8D67CC24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E25539-7A7A-4967-94DE-50C5131D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02A1D1-DCAA-4CE3-9D85-884CFBD5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347322-E576-4510-9F69-EE273633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0F62D6-BEB1-4CC1-9D33-1AC49D61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395C-4A6E-4952-A2A2-812C0D24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501354-A1CF-4373-84ED-39FFEB9B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C2608-329B-47B4-974F-CF90ACDA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B2A5A-3C54-4F31-8DF1-08B20C2A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09D9B-2CC5-435F-AB11-67BF5D60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77026-46FF-495A-AB7E-B7B8A1CF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A2AAC-F78E-4FEE-AC9B-EEC08E3C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7120A-C13B-44BF-ABDA-4D832523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F8AAC-3C7C-4AFB-8295-F2DA96F9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6E1AB-A01C-4937-A3A3-D6B5E6D7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2F0E1-4000-4916-BF25-F1E8759F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F012-71A5-442B-86B1-0F3A9B77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99AEC-935B-40C1-9C57-7B2999D6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15114-8BF1-4CE0-9D97-3B925F33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2EA09-D9F6-4A92-ACFF-D0644B93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81B358-4D15-4629-9DCB-6F913336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15E3F0-61CD-4402-869A-830D4B8E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C53F3F-7928-4197-90C6-2F29C213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05465B-15D1-4761-B466-594806C1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2AF146-BBA9-4336-AD54-208FCC18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4D39BD-A4F2-4B4D-BF1C-7DAE9E6E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934998-8DB8-4343-B660-02D72A1A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3679-9D18-4610-9C8D-FD3818B0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42CBF9-4093-468B-B6C8-A68041AC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71E0B2-FA90-4527-840E-979E1D55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B07F14-6E58-4D8B-8721-E8020D13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5303CF-84C1-45E1-86B2-8E7D064B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9CB6D7-D2C1-4644-B5AD-008246CFA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5BD5-693C-41DB-A7D2-37FE8669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4ACF-26A6-4404-9773-3A8F3853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329B-1FD8-4F29-BA47-38DB77A6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B7A2-DBC8-4376-9FDE-2BD036A1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1F48-B755-4716-B124-3E7126AB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EF77-4271-45B2-B6A4-3EED5E78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1D9D-7595-43A5-82AC-A17EF078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A6F4-9B50-4500-9559-FAF08A33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B5B4-B5CE-4D84-884B-70E61957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F702-F5C6-4B41-933E-3554515C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BEAE-6429-4992-AE2E-1B449290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8FE25-141F-4BFB-BB75-61B8BF49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97BEB-9BEA-4D84-9C40-8AB99957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5D3C5-60AF-4B88-91E0-359F308D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2B477-3D9B-43E4-BBBD-067E9C1F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4C4F4-5456-49E2-A55D-8AC0AFC7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C9ED-46B3-4B66-86C5-9FF879CD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D5759-169F-4DF0-A779-B17FFD14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FFAAB-5C13-4C5D-BA08-3050F65A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FE086-7299-433C-A2BD-038B323E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6673F-B1C7-4E04-AF27-5F601E4F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F1CAA-D535-48E3-B4BF-A4039E8D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3BBB6-260B-4AE8-82D4-24E0039B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53ABA-F41B-419D-BB3F-CEB77DEC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09275-9A85-489E-901C-5975208D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180A3-0D47-48F8-9423-C6C2A3EF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3239E-EF48-4949-A4A2-D7F049B7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8134-91B9-46EF-BB6C-22C7339E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36AEF-2A40-4A82-979E-942A3C6C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383BD-24F4-4A66-8C73-F48466B6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231AB-3862-40D3-8210-848BA811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38BCE-954E-4AB3-9A26-8C87985D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5832E-A013-48E0-B2FB-5E3404A8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02A20-A7B9-4700-9571-17398F2A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B3D2F-E25A-4DD0-B2C9-F8808506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2DA02-BF3F-47AF-BEA0-474A0E72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A849A-767B-4F92-822E-6D4AEE8A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2EA7C-2F2F-4E26-B1D1-8A7FF6E9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0540-9CD0-4E07-ACE4-060281DB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5943B-5DE3-4DB6-9AC6-3F7F9B89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F5519-B768-4CAC-9DA1-3BE873B6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54EBD-57E3-45C9-8AB2-A52C1A0B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58984-E378-4507-8CAF-C5921B6E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620A5-D805-4641-A150-6A5494EE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B16A4-18FE-4163-A58E-C5479654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04F11-C9F8-4036-BAC8-17DBE12B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AFD04-90A5-4AAC-ABA3-664C40DC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5FD9B-A9CA-45CF-845B-BC193AB4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3E155-FB12-44A5-8A05-76091149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2FF2-68F4-475B-9EE7-8F5C1919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915C0-5724-470C-BABA-1F2C07BB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E36A7-ED66-42B3-B543-76B741E2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5F5F2-DF20-4EBE-B17E-AD31819D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597B7-2D99-4895-981C-F5801C67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20071-C658-4D5C-8966-3A63446D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EA6FD-5FDF-4544-B536-24C46E5B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F0AA6-2877-4A46-AB17-8B617FA0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54B80-507C-423C-AAF9-7F788947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E9749-00CE-44BE-BE32-91B2504F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A826D-5634-472C-B2A5-04C497BF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850A-7E4B-42D0-9448-7865C485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FA322-698A-4E46-86DF-34557600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A0A52-896F-40FA-AE73-BB8B0AD7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7CFF2-5141-4B46-B3D9-4D480DB8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26723-1AA9-4056-A995-A4E7103C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B9BF2-BBB0-4FBC-AD9D-C13D4EEF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E8CF7-77E3-460A-A4CE-C78E44FF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BE10B-DB40-4EE5-B74F-A443C8CA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C7E96-57C8-4A99-87CC-A42476D1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4D664-F456-47E4-9666-35402DEE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0A6D9-02CD-439C-B04A-94EC3643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E622-13D6-44DE-8FA0-B0F3AFC5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A0F9C-6713-428E-955B-C7D0671C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5F35B-1C20-4F28-9C68-44058DEE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72C35-D4CF-4E97-8E3F-1CB8870E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B2BC1-6AC8-467B-B87E-4C9DE250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2EC86-DA0B-4A4C-AF3C-FEDE3B29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D1FFD-5C49-4EA6-BB33-B7A373CE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2D17A-967C-4289-A419-F2B5AE37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964E4-C22E-4F47-A8B4-FC665CDC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92AE2-3E40-4534-990E-DF458976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5D376-A6A1-4A0F-97A2-A6A31136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336F-2011-4BB9-9425-FA2B2A2C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E636F-1679-44F3-8629-CC951628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DA7B8-7CED-491E-986B-3AF2A87E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5914D-7BA5-4F67-97E6-D501789D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72388-A5AA-442F-B675-CDE43BC3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91B72-FF93-4347-8FDD-F8C2BB67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C693F-C5D2-41CE-8F13-088E9100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63C61-94EE-4E75-AD45-4D4D3B90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44CD97-B909-47DC-BE39-08B9399D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3EB445-AEAD-4A96-A888-FE7A45C0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BF443A-C8EB-47BC-9468-FB0EB9E4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5EAC-D1D5-4989-A802-19E11DCB354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4184-DEA0-4809-A62B-1A823C85F5F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C0EA-1150-44E9-AB6F-484FBB02CA3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8E64-C63F-4B15-AAA4-7BD6B315ED5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93F5-91D7-460E-89CC-DF6B8E38E45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72BE-EF8E-445A-AD01-317720D0FBE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4D73-5DAE-4DF2-915F-D406FF79496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75D6-7DEF-4051-99A9-7D7BBC4D403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D300-C4BF-41AC-A31C-E84C425A8EF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0BDC-2FFE-48D8-8956-FDF7BFF7B6B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ED69-842F-4642-B6C6-0933359EE8F4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8F12-ECBF-4978-A419-F5D88769358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250920" y="3573360"/>
            <a:ext cx="568944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a373d"/>
                </a:solidFill>
                <a:latin typeface="Georgia"/>
              </a:rPr>
              <a:t>Авторы разработчики МБДОУ №21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373d"/>
                </a:solidFill>
                <a:latin typeface="Georgia"/>
              </a:rPr>
              <a:t>Учитель - дефектолог (тифлопедагог) Говядинкина И.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373d"/>
                </a:solidFill>
                <a:latin typeface="Georgia"/>
              </a:rPr>
              <a:t>Учитель - дефектолог (тифлопедагог)          Кладова В.Ю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373d"/>
                </a:solidFill>
                <a:latin typeface="Georgia"/>
              </a:rPr>
              <a:t>Учитель - дефектолог (тифлопедагог) Литвиненко Т.П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buClr>
                <a:srgbClr val="d163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buClr>
                <a:srgbClr val="d163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buClr>
                <a:srgbClr val="d163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000" spc="-1" strike="noStrike">
                <a:solidFill>
                  <a:srgbClr val="2a373d"/>
                </a:solidFill>
                <a:latin typeface="Georgia"/>
              </a:rPr>
              <a:t>Инклюзивная практика</a:t>
            </a:r>
            <a:br>
              <a:rPr sz="2000"/>
            </a:br>
            <a:r>
              <a:rPr b="1" lang="ru-RU" sz="2000" spc="-1" strike="noStrike">
                <a:solidFill>
                  <a:srgbClr val="2a373d"/>
                </a:solidFill>
                <a:latin typeface="Georgia"/>
              </a:rPr>
              <a:t>использования специализированного игрового наглядно - демонстрационного материала для детей слепых и слабовидящих с ТМНР </a:t>
            </a:r>
            <a:br>
              <a:rPr sz="2000"/>
            </a:b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«В моих руках удивительный мир» </a:t>
            </a:r>
            <a:br>
              <a:rPr sz="2400"/>
            </a:b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5164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«</a:t>
            </a:r>
            <a:r>
              <a:rPr b="0" lang="ru-RU" sz="3000" spc="-1" strike="noStrike">
                <a:solidFill>
                  <a:srgbClr val="ff6600"/>
                </a:solidFill>
                <a:latin typeface="Georgia"/>
              </a:rPr>
              <a:t>Тактильные карточки» состоят из блоков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23640" y="1484280"/>
            <a:ext cx="482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Georgia"/>
              </a:rPr>
              <a:t>5)«Азбука: знакомство с буквами »: тридцать три буквы формата А 6 выполненные из различных на ощупь текстур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Заголовок 1"/>
          <p:cNvSpPr/>
          <p:nvPr/>
        </p:nvSpPr>
        <p:spPr>
          <a:xfrm>
            <a:off x="324000" y="260280"/>
            <a:ext cx="853416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Рисунок 5" descr="IMG_5872.JPG"/>
          <p:cNvPicPr/>
          <p:nvPr/>
        </p:nvPicPr>
        <p:blipFill>
          <a:blip r:embed="rId1"/>
          <a:stretch/>
        </p:blipFill>
        <p:spPr>
          <a:xfrm>
            <a:off x="5580000" y="1700280"/>
            <a:ext cx="229572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5164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«</a:t>
            </a:r>
            <a:r>
              <a:rPr b="0" lang="ru-RU" sz="3000" spc="-1" strike="noStrike">
                <a:solidFill>
                  <a:srgbClr val="ff6600"/>
                </a:solidFill>
                <a:latin typeface="Georgia"/>
              </a:rPr>
              <a:t>Тактильные карточки» состоят из блоков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23640" y="1484280"/>
            <a:ext cx="482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Georgia"/>
              </a:rPr>
              <a:t>6) «Осенние листочки»: двенадцать картин формата А 6 выполненные в контуре и силуэт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Заголовок 1"/>
          <p:cNvSpPr/>
          <p:nvPr/>
        </p:nvSpPr>
        <p:spPr>
          <a:xfrm>
            <a:off x="324000" y="260280"/>
            <a:ext cx="853416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Рисунок 5" descr="IMG_5831.JPG"/>
          <p:cNvPicPr/>
          <p:nvPr/>
        </p:nvPicPr>
        <p:blipFill>
          <a:blip r:embed="rId1"/>
          <a:stretch/>
        </p:blipFill>
        <p:spPr>
          <a:xfrm>
            <a:off x="4356000" y="2421000"/>
            <a:ext cx="37324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5164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«</a:t>
            </a:r>
            <a:r>
              <a:rPr b="0" lang="ru-RU" sz="3000" spc="-1" strike="noStrike">
                <a:solidFill>
                  <a:srgbClr val="ff6600"/>
                </a:solidFill>
                <a:latin typeface="Georgia"/>
              </a:rPr>
              <a:t>Тактильные карточки» состоят из блоков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23640" y="1484280"/>
            <a:ext cx="482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Georgia"/>
              </a:rPr>
              <a:t>7) «Осадки: Дождь и снег» две картины формата А 6 с разным пространственным положением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Заголовок 1"/>
          <p:cNvSpPr/>
          <p:nvPr/>
        </p:nvSpPr>
        <p:spPr>
          <a:xfrm>
            <a:off x="324000" y="260280"/>
            <a:ext cx="853416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Рисунок 6" descr="IMG_5854.JPG"/>
          <p:cNvPicPr/>
          <p:nvPr/>
        </p:nvPicPr>
        <p:blipFill>
          <a:blip r:embed="rId1"/>
          <a:stretch/>
        </p:blipFill>
        <p:spPr>
          <a:xfrm>
            <a:off x="4284720" y="2924280"/>
            <a:ext cx="45115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5164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«</a:t>
            </a:r>
            <a:r>
              <a:rPr b="0" lang="ru-RU" sz="3000" spc="-1" strike="noStrike">
                <a:solidFill>
                  <a:srgbClr val="ff6600"/>
                </a:solidFill>
                <a:latin typeface="Georgia"/>
              </a:rPr>
              <a:t>Тактильные карточки» состоят из блоков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23640" y="1484280"/>
            <a:ext cx="482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Georgia"/>
              </a:rPr>
              <a:t>8) «Что сначала, что потом: Пирамидка»: десять картин формата А 5, выполненные в контуре и силуэте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0" name="Заголовок 1"/>
          <p:cNvSpPr/>
          <p:nvPr/>
        </p:nvSpPr>
        <p:spPr>
          <a:xfrm>
            <a:off x="324000" y="260280"/>
            <a:ext cx="853416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Рисунок 5" descr="IMG_5862.JPG"/>
          <p:cNvPicPr/>
          <p:nvPr/>
        </p:nvPicPr>
        <p:blipFill>
          <a:blip r:embed="rId1"/>
          <a:stretch/>
        </p:blipFill>
        <p:spPr>
          <a:xfrm>
            <a:off x="5508720" y="2133720"/>
            <a:ext cx="29970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5164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«</a:t>
            </a:r>
            <a:r>
              <a:rPr b="0" lang="ru-RU" sz="3000" spc="-1" strike="noStrike">
                <a:solidFill>
                  <a:srgbClr val="ff6600"/>
                </a:solidFill>
                <a:latin typeface="Georgia"/>
              </a:rPr>
              <a:t>Тактильные карточки» состоят из блоков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23640" y="1484280"/>
            <a:ext cx="482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Georgia"/>
              </a:rPr>
              <a:t>9) «Восприятия пространства: Линии» пять картин формата А 5 с различным расположением в пространстве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Заголовок 1"/>
          <p:cNvSpPr/>
          <p:nvPr/>
        </p:nvSpPr>
        <p:spPr>
          <a:xfrm>
            <a:off x="324000" y="260280"/>
            <a:ext cx="853416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Рисунок 6" descr="IMG_5848.JPG"/>
          <p:cNvPicPr/>
          <p:nvPr/>
        </p:nvPicPr>
        <p:blipFill>
          <a:blip r:embed="rId1"/>
          <a:stretch/>
        </p:blipFill>
        <p:spPr>
          <a:xfrm>
            <a:off x="5724360" y="2252520"/>
            <a:ext cx="297828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5164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«</a:t>
            </a:r>
            <a:r>
              <a:rPr b="0" lang="ru-RU" sz="3000" spc="-1" strike="noStrike">
                <a:solidFill>
                  <a:srgbClr val="ff6600"/>
                </a:solidFill>
                <a:latin typeface="Georgia"/>
              </a:rPr>
              <a:t>Тактильные карточки» состоят из блоков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23640" y="1484280"/>
            <a:ext cx="482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Georgia"/>
              </a:rPr>
              <a:t>10)«Угадай-ка: «Транспорт», «Животные» : тридцать восемь контурных и силуэтных картин формата А 5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Заголовок 1"/>
          <p:cNvSpPr/>
          <p:nvPr/>
        </p:nvSpPr>
        <p:spPr>
          <a:xfrm>
            <a:off x="324000" y="260280"/>
            <a:ext cx="853416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Рисунок 7" descr="IMG_5864.JPG"/>
          <p:cNvPicPr/>
          <p:nvPr/>
        </p:nvPicPr>
        <p:blipFill>
          <a:blip r:embed="rId1"/>
          <a:stretch/>
        </p:blipFill>
        <p:spPr>
          <a:xfrm>
            <a:off x="4524480" y="3500280"/>
            <a:ext cx="411480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5164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«</a:t>
            </a:r>
            <a:r>
              <a:rPr b="0" lang="ru-RU" sz="3000" spc="-1" strike="noStrike">
                <a:solidFill>
                  <a:srgbClr val="ff6600"/>
                </a:solidFill>
                <a:latin typeface="Georgia"/>
              </a:rPr>
              <a:t>Тактильные карточки» состоят из блоков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23640" y="1484280"/>
            <a:ext cx="482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Georgia"/>
              </a:rPr>
              <a:t>12) « Посмотри и подбери на ощупь», «Ощупай и найди пару» : десять картин с тактильной основой и десять парных им силуэтных картин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Заголовок 1"/>
          <p:cNvSpPr/>
          <p:nvPr/>
        </p:nvSpPr>
        <p:spPr>
          <a:xfrm>
            <a:off x="324000" y="260280"/>
            <a:ext cx="853416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5164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«</a:t>
            </a:r>
            <a:r>
              <a:rPr b="0" lang="ru-RU" sz="3000" spc="-1" strike="noStrike">
                <a:solidFill>
                  <a:srgbClr val="ff6600"/>
                </a:solidFill>
                <a:latin typeface="Georgia"/>
              </a:rPr>
              <a:t>Тактильные карточки» состоят из блоков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23640" y="1484280"/>
            <a:ext cx="482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Georgia"/>
              </a:rPr>
              <a:t>13) «Одеваемся на прогулку»: 12 карточек формата А 5 с элементами одежды выполненные в силуэтном формате и дополненные декоративными элементами для ассоциативного ряд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Заголовок 1"/>
          <p:cNvSpPr/>
          <p:nvPr/>
        </p:nvSpPr>
        <p:spPr>
          <a:xfrm>
            <a:off x="324000" y="260280"/>
            <a:ext cx="853416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5184720" cy="45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Georgia"/>
              </a:rPr>
              <a:t>«В результате реализации практики у детей с ТМНР формируются представления об окружающем мире посредством тактильных карточек, создаются условия для согласованной работы всех уровней сенсорно-познавательной системы.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7" name="Заголовок 1"/>
          <p:cNvSpPr/>
          <p:nvPr/>
        </p:nvSpPr>
        <p:spPr>
          <a:xfrm>
            <a:off x="324000" y="260280"/>
            <a:ext cx="853416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250560" y="2491920"/>
            <a:ext cx="57610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00"/>
              </a:spcBef>
              <a:buClr>
                <a:srgbClr val="d163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Georgia"/>
              </a:rPr>
              <a:t>12 % ИЗ СПИСОЧНОГО СОСТАВА ВОСПИТАННИКОВ МБДОУ № 218 ИМЕЮТ СЛОЖНУЮ ЗРИТЕЛЬНУЮ ПАТОЛОГИЮ. НЕКОТОРЫЕ ИЗ НИХ С СОЧЕТАННЫМИ  НАРУШЕНИЯМИ В РАЗВИТИ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buClr>
                <a:srgbClr val="d163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buClr>
                <a:srgbClr val="d163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250920" y="380520"/>
            <a:ext cx="8642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ff66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78920" y="2781000"/>
            <a:ext cx="87138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62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500" spc="-1" strike="noStrike">
                <a:solidFill>
                  <a:srgbClr val="ff6600"/>
                </a:solidFill>
                <a:latin typeface="Georgia"/>
              </a:rPr>
              <a:t>Цель: формирование согласованной работы всех уровней сенсорно-познавательной системы (речь и движение, осязания, слуха и эмоций), т.е. полноценного межанализаторного взаимодействия в ходе совместной образовательной деятельности взрослого и ребенка и его самостоятельной деятельности.</a:t>
            </a:r>
            <a:br>
              <a:rPr sz="1800"/>
            </a:br>
            <a:br>
              <a:rPr sz="2900"/>
            </a:b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400" spc="-1" strike="noStrike">
                <a:solidFill>
                  <a:srgbClr val="ff6600"/>
                </a:solidFill>
                <a:latin typeface="Georgia"/>
              </a:rPr>
              <a:t>Для активизации познавательных (когнитивных) процессов нами была создана серия демонстрационно - наглядных игр с тактильной поддержкой.</a:t>
            </a:r>
            <a:br>
              <a:rPr sz="3200"/>
            </a:b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Рисунок 4" descr="IMG_5845.JPG"/>
          <p:cNvPicPr/>
          <p:nvPr/>
        </p:nvPicPr>
        <p:blipFill>
          <a:blip r:embed="rId1"/>
          <a:stretch/>
        </p:blipFill>
        <p:spPr>
          <a:xfrm>
            <a:off x="755640" y="2708280"/>
            <a:ext cx="1989000" cy="2652840"/>
          </a:xfrm>
          <a:prstGeom prst="rect">
            <a:avLst/>
          </a:prstGeom>
          <a:ln w="0">
            <a:noFill/>
          </a:ln>
        </p:spPr>
      </p:pic>
      <p:pic>
        <p:nvPicPr>
          <p:cNvPr id="614" name="Рисунок 5" descr="IMG_5842.JPG"/>
          <p:cNvPicPr/>
          <p:nvPr/>
        </p:nvPicPr>
        <p:blipFill>
          <a:blip r:embed="rId2"/>
          <a:stretch/>
        </p:blipFill>
        <p:spPr>
          <a:xfrm>
            <a:off x="6227640" y="2852640"/>
            <a:ext cx="1916280" cy="2556000"/>
          </a:xfrm>
          <a:prstGeom prst="rect">
            <a:avLst/>
          </a:prstGeom>
          <a:ln w="0">
            <a:noFill/>
          </a:ln>
        </p:spPr>
      </p:pic>
      <p:pic>
        <p:nvPicPr>
          <p:cNvPr id="615" name="Рисунок 6" descr="IMG_5852.JPG"/>
          <p:cNvPicPr/>
          <p:nvPr/>
        </p:nvPicPr>
        <p:blipFill>
          <a:blip r:embed="rId3"/>
          <a:stretch/>
        </p:blipFill>
        <p:spPr>
          <a:xfrm>
            <a:off x="3635280" y="2205000"/>
            <a:ext cx="198936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69138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6600"/>
                </a:solidFill>
                <a:latin typeface="Georgia"/>
              </a:rPr>
              <a:t>Тактильные карточк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23640" y="1484280"/>
            <a:ext cx="482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Тактильные карточки развивают сенсорное восприятие ребенка, тактильную память, мелкую моторику пальцев, и как следствие благотворно воздействуют на развитие ребенк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Занимаясь с ними, ребенок знакомится с особенностями окружающего мира, расширяется представления о свойствах предмето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Заголовок 1"/>
          <p:cNvSpPr/>
          <p:nvPr/>
        </p:nvSpPr>
        <p:spPr>
          <a:xfrm>
            <a:off x="324000" y="260280"/>
            <a:ext cx="853416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Рисунок 6" descr="IMG_5854.JPG"/>
          <p:cNvPicPr/>
          <p:nvPr/>
        </p:nvPicPr>
        <p:blipFill>
          <a:blip r:embed="rId1"/>
          <a:stretch/>
        </p:blipFill>
        <p:spPr>
          <a:xfrm>
            <a:off x="5292720" y="1484280"/>
            <a:ext cx="32623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5164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«</a:t>
            </a:r>
            <a:r>
              <a:rPr b="0" lang="ru-RU" sz="3000" spc="-1" strike="noStrike">
                <a:solidFill>
                  <a:srgbClr val="ff6600"/>
                </a:solidFill>
                <a:latin typeface="Georgia"/>
              </a:rPr>
              <a:t>Тактильные карточки» состоят из блоков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23640" y="1484280"/>
            <a:ext cx="482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Georgia"/>
              </a:rPr>
              <a:t>1) «Что изменилось», «Найди отличия»: сюжетная картинка «Дом в деревне» - три картины формата  А 4 , выполненные в контуре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Заголовок 1"/>
          <p:cNvSpPr/>
          <p:nvPr/>
        </p:nvSpPr>
        <p:spPr>
          <a:xfrm>
            <a:off x="324000" y="260280"/>
            <a:ext cx="853416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Рисунок 5" descr="IMG_5858.JPG"/>
          <p:cNvPicPr/>
          <p:nvPr/>
        </p:nvPicPr>
        <p:blipFill>
          <a:blip r:embed="rId1"/>
          <a:stretch/>
        </p:blipFill>
        <p:spPr>
          <a:xfrm>
            <a:off x="5651640" y="1916280"/>
            <a:ext cx="2206440" cy="29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5164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«</a:t>
            </a:r>
            <a:r>
              <a:rPr b="0" lang="ru-RU" sz="3000" spc="-1" strike="noStrike">
                <a:solidFill>
                  <a:srgbClr val="ff6600"/>
                </a:solidFill>
                <a:latin typeface="Georgia"/>
              </a:rPr>
              <a:t>Тактильные карточки» состоят из блоков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23640" y="1484280"/>
            <a:ext cx="482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Georgia"/>
              </a:rPr>
              <a:t>2) «Найди такой же: Нарядные мячи » - пять картин формата А 5, выполненные в контуре и пять парных силуэтных картин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Заголовок 1"/>
          <p:cNvSpPr/>
          <p:nvPr/>
        </p:nvSpPr>
        <p:spPr>
          <a:xfrm>
            <a:off x="324000" y="260280"/>
            <a:ext cx="853416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Рисунок 6" descr="IMG_5844.JPG"/>
          <p:cNvPicPr/>
          <p:nvPr/>
        </p:nvPicPr>
        <p:blipFill>
          <a:blip r:embed="rId1"/>
          <a:stretch/>
        </p:blipFill>
        <p:spPr>
          <a:xfrm>
            <a:off x="5508720" y="2421000"/>
            <a:ext cx="256356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5164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«</a:t>
            </a:r>
            <a:r>
              <a:rPr b="0" lang="ru-RU" sz="3000" spc="-1" strike="noStrike">
                <a:solidFill>
                  <a:srgbClr val="ff6600"/>
                </a:solidFill>
                <a:latin typeface="Georgia"/>
              </a:rPr>
              <a:t>Тактильные карточки» состоят из блоков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23640" y="1484280"/>
            <a:ext cx="482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Georgia"/>
              </a:rPr>
              <a:t>3)«Больше - меньше»: Кружка, грибы – две пары контурных и силуэтных  картин  формата  А 5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Заголовок 1"/>
          <p:cNvSpPr/>
          <p:nvPr/>
        </p:nvSpPr>
        <p:spPr>
          <a:xfrm>
            <a:off x="324000" y="260280"/>
            <a:ext cx="853416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Рисунок 5" descr="IMG_5871.JPG"/>
          <p:cNvPicPr/>
          <p:nvPr/>
        </p:nvPicPr>
        <p:blipFill>
          <a:blip r:embed="rId1"/>
          <a:stretch/>
        </p:blipFill>
        <p:spPr>
          <a:xfrm>
            <a:off x="5508720" y="2060640"/>
            <a:ext cx="279864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5164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«</a:t>
            </a:r>
            <a:r>
              <a:rPr b="0" lang="ru-RU" sz="3000" spc="-1" strike="noStrike">
                <a:solidFill>
                  <a:srgbClr val="ff6600"/>
                </a:solidFill>
                <a:latin typeface="Georgia"/>
              </a:rPr>
              <a:t>Тактильные карточки» состоят из блоков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23640" y="1484280"/>
            <a:ext cx="482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Georgia"/>
              </a:rPr>
              <a:t>4) «Веселые числа»: десять картин формата А 6 из различных на ощупь текстур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Заголовок 1"/>
          <p:cNvSpPr/>
          <p:nvPr/>
        </p:nvSpPr>
        <p:spPr>
          <a:xfrm>
            <a:off x="324000" y="260280"/>
            <a:ext cx="853416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Рисунок 6" descr="IMG_5841.JPG"/>
          <p:cNvPicPr/>
          <p:nvPr/>
        </p:nvPicPr>
        <p:blipFill>
          <a:blip r:embed="rId1"/>
          <a:stretch/>
        </p:blipFill>
        <p:spPr>
          <a:xfrm>
            <a:off x="5651640" y="1557360"/>
            <a:ext cx="267336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25T05:01:59Z</dcterms:created>
  <dc:creator>QWERTY</dc:creator>
  <dc:description/>
  <dc:language>en-US</dc:language>
  <cp:lastModifiedBy>user</cp:lastModifiedBy>
  <dcterms:modified xsi:type="dcterms:W3CDTF">2022-11-15T04:53:55Z</dcterms:modified>
  <cp:revision>72</cp:revision>
  <dc:subject/>
  <dc:title>Дидактическое средство для формирования у детей мотивации к обучению в школе  «Путешествие в мир знаний» - дидактическое пособие</dc:title>
</cp:coreProperties>
</file>