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DCD-925A-4FD9-868E-66E29BB7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ED6-7790-470E-945B-3A94D735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B83-5FA3-4E36-B6BF-BC8A7D0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FBA-C1EF-4569-85CB-92044285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A3E8-845C-4625-A2CB-FC271951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1328-A10A-4C98-A76E-72ACC5B2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7A1F-7728-4172-A0AE-F4B7395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7448-DE16-40AB-8CA6-E44BD4DF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90F8-F78E-451B-A35F-9ECA11B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D231-B18D-4DF5-A356-3D4357D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7A2A-8E49-4574-BFCC-3F355A3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C35-2C8F-4342-BC74-5DACE3E9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E01F-05CD-4C3F-8D11-B7C4D1D1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36C8-3565-460E-BF3A-6024A10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31FD-364C-4D0D-9FB4-7AEED85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144A-C512-4B83-8E7E-9F2867A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861D-6638-4CF7-8E26-791C1D9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C8A-5317-448B-91B1-DA95DF01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CB0-8C34-4BA3-BCDD-10F02369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800-F008-4C0D-A0D9-5B989E4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718-3AC4-490F-A63B-EC8603C5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C2D-5E38-4A2C-9427-144D2C0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910-8F00-4616-9E6E-6ECC599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3C2-33F0-490E-8BF4-95DE643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EE4-AD45-4057-AD4B-AF42F25B9A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9D7-288E-47B7-BABC-25E6DC6379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аш ребёнок – выпускни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9000" y="411480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-психолог: Андрианова Е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БОУ Лицей 5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мощь в выборе професси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конкретное учебное заведение, в котором хочет учиться школьник, возможно запасные вариа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ь День открытых дверей выбранного В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знания ребенка по предметам, необходимым для поступления в ВУ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познакомиться с содержанием той специальности, которую он выб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знавательная сфера. Интеллек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 формально – операционного мыш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ершенствование понятийного аппара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 специальных способностей, связанных с выбираемой професси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владение категориями добра и зла, общечеловеческими ценност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Учёба в школ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иентация на выбор профессии самоопределение и упор в учёбе на предметы необходимые для по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растание нагрузки в связи с подготовкой к поступлению в профессиональные учебные заведения подготовкой к выпускным и вступительным экзаменам и посещением подготовительных кур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бщ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уждение стремления к общению с противоположным по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ность пережить чувство любви, поглощающее все другие чу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ладение защитными механизмами для предотвращения вмешательства во внутренни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тношения со взрослым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степень автономии от старших, прежде всего родителей и учителей, обособление, поиск своего места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нательные и устойчивые представления о своих правах и обязан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мнение родителей в вопросах выбора профессии, поведения в сложных ситуациях, мировоззрения, поддержка со стороны р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амосозна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ошеское самосознание более психологично и обращено вовнутр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оши и девушки остро чувствуют свою индивидуа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ый мировоззренческий поиск – смысла жизни, своего места в современном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собрать все знания о себе и проецировать их в будущ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ак помочь своему ребёнку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ётко распланировать режим дня старшеклассника, чтобы оставалось время на внеучебные дела, общение со сверстниками отд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рационом питания, обязательно включать овощи и фрук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щать внимание, чтобы ребёнок не читал во время 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ез 45 минут выполнения учебных заданий – 15 минут переры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зирование учебного матери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наладить отношения со своим ребёнко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того чтобы старшеклассник не отдалялся от взрослых, нужно донести до него свои опасения в обычной беседе. Расскажите ребенку о том, что интересовало вас в его возрасте, о каких упущенных возможностях вы жалеете, но сделайте это спокойно, не поучая и не раздражаяс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наладить отношения со своим ребёнко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тот стиль в одежде или в макияже, который выбрал ваш ребенок, не нравится вам, поговорите с ребёнком, объясните, что вам кажется неподходящим, и предложите, что именно и как измен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и должны объяснить ребенку, что они волнуются за него. Любое требование должно быть разумным и аргументированным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я Андрианова</dc:creator>
  <dc:description/>
  <dc:language>en-US</dc:language>
  <cp:lastModifiedBy>Евгения Андрианова</cp:lastModifiedBy>
  <dcterms:modified xsi:type="dcterms:W3CDTF">2022-11-15T20:32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