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38.jpeg" ContentType="image/jpeg"/>
  <Override PartName="/ppt/media/image8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022-DA38-4328-B4D7-33E17FBC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53F-5D76-4CE0-AD7E-75A16D1D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51B-ABF2-4B8E-919B-C6E32E00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82E-AE77-4C90-85C6-9C1E056F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69BF-ABD3-4586-8849-F5467320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77AC-348D-42F3-9B07-0F2CBFAD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4255-5A19-4229-8C3D-77DF1A92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FADB-1579-4200-91D8-086EAD10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BE59-BA33-4D19-A1EF-A18546B3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3530-3CF7-4382-878D-6C0BDC47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2A1C-DA9F-47C9-AE56-2ED6CD1C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674-E94D-4719-A684-A6539404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F421-43C4-427F-8B35-A06E8467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88ED-0DD7-4339-88F6-50FE206E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C7BF-995F-4C3B-B618-19F92B7D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F794-1842-47B7-B257-C2044ADC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CC30-5211-4395-85A3-9CECAB92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E07-8451-43F9-9B41-29046282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2BB-02E6-41D2-96E2-D02E27A9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67F-F3BD-4026-A6CE-A025EF62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10D-E10F-48FE-B17A-2500F697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A50-B156-4AFE-BA66-8EF95B1D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66F-7D72-4A9B-B850-9111E7F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9E1-9247-40B7-85DF-2F911A1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4EC8-FC96-442C-B235-EB09FF3FAB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F55A-93B6-48A6-A002-489E4A19E2C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Constantia"/>
              </a:rPr>
              <a:t>Здоровый образ жизни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ИЛЬНОЕ ПИТ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88000" y="1557000"/>
            <a:ext cx="39700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Ожирение – 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болезнь, вызываемая нарушением питания, чрезмерным употреблением </a:t>
            </a: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вредных продуктов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" name="Picture 2" descr="C:\Documents and Settings\Владелец\Рабочий стол\Учебная практика 2012\ЗОЖ\1889_chiz.jpg"/>
          <p:cNvPicPr/>
          <p:nvPr/>
        </p:nvPicPr>
        <p:blipFill>
          <a:blip r:embed="rId1"/>
          <a:stretch/>
        </p:blipFill>
        <p:spPr>
          <a:xfrm>
            <a:off x="611280" y="162864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Владелец\Рабочий стол\Учебная практика 2012\ЗОЖ\009_2011-08-05_11.59.34.jpg"/>
          <p:cNvPicPr/>
          <p:nvPr/>
        </p:nvPicPr>
        <p:blipFill>
          <a:blip r:embed="rId2"/>
          <a:stretch/>
        </p:blipFill>
        <p:spPr>
          <a:xfrm>
            <a:off x="1476360" y="4005360"/>
            <a:ext cx="5238720" cy="2600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46629"/>
          <p:cNvPicPr/>
          <p:nvPr/>
        </p:nvPicPr>
        <p:blipFill>
          <a:blip r:embed="rId3"/>
          <a:srcRect l="20125" t="0" r="19501" b="0"/>
          <a:stretch/>
        </p:blipFill>
        <p:spPr>
          <a:xfrm>
            <a:off x="6875640" y="3141720"/>
            <a:ext cx="194616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ИЛЬНОЕ ПИТ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4920" y="155700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Питание должно быть разнообразным, содержать все необходимые организму питательные вещества и микроэлемент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2" descr="C:\Documents and Settings\Владелец\Рабочий стол\Учебная практика 2012\ЗОЖ\1311148899_53b22de013970eca1f7f9543610_prev.jpg"/>
          <p:cNvPicPr/>
          <p:nvPr/>
        </p:nvPicPr>
        <p:blipFill>
          <a:blip r:embed="rId1"/>
          <a:stretch/>
        </p:blipFill>
        <p:spPr>
          <a:xfrm>
            <a:off x="1042920" y="2421000"/>
            <a:ext cx="7129440" cy="419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ИЛЬНОЕ ПИТ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557360"/>
            <a:ext cx="821844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Витамины </a:t>
            </a: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имеют большое значение для  нормального функционирования нашего организ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Главная </a:t>
            </a:r>
            <a:r>
              <a:rPr b="1" lang="ru-RU" sz="2200" spc="-1" strike="noStrike">
                <a:solidFill>
                  <a:srgbClr val="5a2781"/>
                </a:solidFill>
                <a:latin typeface="Constantia"/>
              </a:rPr>
              <a:t>роль витаминов в организме</a:t>
            </a: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 человека -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организация все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жизненно важны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процесс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Большую част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витаминов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мы получаем с пищей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поэтому питани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должно быт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разнообразны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C:\Documents and Settings\Владелец\Рабочий стол\Учебная практика 2012\ЗОЖ\nzvlmy00n.jpg"/>
          <p:cNvPicPr/>
          <p:nvPr/>
        </p:nvPicPr>
        <p:blipFill>
          <a:blip r:embed="rId1"/>
          <a:stretch/>
        </p:blipFill>
        <p:spPr>
          <a:xfrm>
            <a:off x="4140360" y="2924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ИЛЬНОЕ ПИТ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27640" y="1557360"/>
            <a:ext cx="42480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Режим питания школьник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(4 приема пищи в день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781"/>
                </a:solidFill>
                <a:latin typeface="Constantia"/>
              </a:rPr>
              <a:t>1. Завтрак:</a:t>
            </a: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25% суточного количества калор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2. </a:t>
            </a:r>
            <a:r>
              <a:rPr b="1" lang="ru-RU" sz="2000" spc="-1" strike="noStrike">
                <a:solidFill>
                  <a:srgbClr val="5a2781"/>
                </a:solidFill>
                <a:latin typeface="Constantia"/>
              </a:rPr>
              <a:t>Обед:</a:t>
            </a: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35-40%  суточного количества калор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3. </a:t>
            </a:r>
            <a:r>
              <a:rPr b="1" lang="ru-RU" sz="2000" spc="-1" strike="noStrike">
                <a:solidFill>
                  <a:srgbClr val="5a2781"/>
                </a:solidFill>
                <a:latin typeface="Constantia"/>
              </a:rPr>
              <a:t>Полдник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10-15%  суточного количества калор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4. </a:t>
            </a:r>
            <a:r>
              <a:rPr b="1" lang="ru-RU" sz="2000" spc="-1" strike="noStrike">
                <a:solidFill>
                  <a:srgbClr val="5a2781"/>
                </a:solidFill>
                <a:latin typeface="Constantia"/>
              </a:rPr>
              <a:t>Ужин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25% суточного количества калор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3" name="Picture 3" descr="C:\Documents and Settings\Владелец\Рабочий стол\Учебная практика 2012\ЗОЖ\shkolnoe_pitanie.gif"/>
          <p:cNvPicPr/>
          <p:nvPr/>
        </p:nvPicPr>
        <p:blipFill>
          <a:blip r:embed="rId1"/>
          <a:stretch/>
        </p:blipFill>
        <p:spPr>
          <a:xfrm>
            <a:off x="179280" y="1844640"/>
            <a:ext cx="422280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ИЧЕСКАЯ АКТИВ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557000"/>
            <a:ext cx="469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Основу </a:t>
            </a: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оптимального двигательного режима </a:t>
            </a: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составляют </a:t>
            </a: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систематические занятия физическими упражнениями и спортом</a:t>
            </a: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, эффективно решающие задачи укрепления здоровья и развития физи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Дефицит физической активности - одна из ведущих причин смерти и инвалид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Picture 2" descr="C:\Documents and Settings\Владелец\Рабочий стол\Учебная практика 2012\ЗОЖ\edcd9c50-904f-470e-a123-0fcf096bade1.jpg"/>
          <p:cNvPicPr/>
          <p:nvPr/>
        </p:nvPicPr>
        <p:blipFill>
          <a:blip r:embed="rId1"/>
          <a:stretch/>
        </p:blipFill>
        <p:spPr>
          <a:xfrm>
            <a:off x="5219640" y="1484280"/>
            <a:ext cx="359244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ИЧЕСКАЯ АКТИВ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76720" y="1557000"/>
            <a:ext cx="367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Для поддержания своего здоровья и хорошей физической формы достаточно заниматься спортом 3 раза в неделю по 40-60 мину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   </a:t>
            </a: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Ежедневная зарядка и прогулки на свежем воздухе  помогают улучшить самочувствие и поддержать иммуните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9" name="Picture 2" descr="C:\Documents and Settings\Владелец\Рабочий стол\Учебная практика 2012\ЗОЖ\gallery_21_3637.jpg"/>
          <p:cNvPicPr/>
          <p:nvPr/>
        </p:nvPicPr>
        <p:blipFill>
          <a:blip r:embed="rId1"/>
          <a:stretch/>
        </p:blipFill>
        <p:spPr>
          <a:xfrm>
            <a:off x="250920" y="1773360"/>
            <a:ext cx="4762440" cy="4562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КАЗ ОТ ВРЕДНЫХ ПРИВЫЧЕ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Вредные  привычки </a:t>
            </a: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- это  сложившиеся  способы деструктивного (саморазрушающего) поведе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2" name="Picture 2" descr="C:\Documents and Settings\Владелец\Рабочий стол\Учебная практика 2012\ЗОЖ\16790-1-f.jpg"/>
          <p:cNvPicPr/>
          <p:nvPr/>
        </p:nvPicPr>
        <p:blipFill>
          <a:blip r:embed="rId1"/>
          <a:stretch/>
        </p:blipFill>
        <p:spPr>
          <a:xfrm>
            <a:off x="1042920" y="2708280"/>
            <a:ext cx="7112160" cy="3137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ур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57360"/>
            <a:ext cx="526716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Активное курение сокращает жизнь человека  на 8 – 10 ле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Выкуривание в день двух пачек сигарет сокращает жизнь на 15 ле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А начинается все это тогда, когда мальчики и девочки тайком курят 1 – 2 сигареты в ден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Курение – медленная смер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Рисунок 5" descr="image031.jpg"/>
          <p:cNvPicPr/>
          <p:nvPr/>
        </p:nvPicPr>
        <p:blipFill>
          <a:blip r:embed="rId1"/>
          <a:stretch/>
        </p:blipFill>
        <p:spPr>
          <a:xfrm>
            <a:off x="5796000" y="1557360"/>
            <a:ext cx="2857320" cy="487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ур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0920" y="1557360"/>
            <a:ext cx="482436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781"/>
                </a:solidFill>
                <a:latin typeface="Constantia"/>
              </a:rPr>
              <a:t>Воздействие курения на организм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инсуль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рак губ, полости рта, горла и гортан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повышается риск сердечного приступ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рак  лёгки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рак печен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язва и рак желудка, поджелудочной желе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бесплод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гангрена, вызванная закупоркой сосуд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Скажи сигарете «НЕТ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8" name="Picture 2" descr="C:\Documents and Settings\Владелец\Рабочий стол\Учебная практика 2012\ЗОЖ\13.jpg"/>
          <p:cNvPicPr/>
          <p:nvPr/>
        </p:nvPicPr>
        <p:blipFill>
          <a:blip r:embed="rId1"/>
          <a:stretch/>
        </p:blipFill>
        <p:spPr>
          <a:xfrm>
            <a:off x="468360" y="198900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лкого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557360"/>
            <a:ext cx="814716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«Опьянение – </a:t>
            </a:r>
            <a:r>
              <a:rPr b="0" lang="ru-RU" sz="2000" spc="-1" strike="noStrike">
                <a:solidFill>
                  <a:srgbClr val="7030a0"/>
                </a:solidFill>
                <a:latin typeface="Constantia"/>
              </a:rPr>
              <a:t>есть добровольное безуми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Constantia"/>
              </a:rPr>
              <a:t>Сенека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АЛКОГОЛИЗМ</a:t>
            </a: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 - хроническо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заболевание, вызываемо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систематическим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употреблением спиртны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напитков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Алкоголизм приводит к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физической и психическ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зависимости от алкоголя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психической и социальн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деградаци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нарушениям функци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  <a:ea typeface="Arial"/>
              </a:rPr>
              <a:t>внутренних органо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Нарушению деятельн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нервной системы и головног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мозг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Picture 3" descr="C:\Documents and Settings\Владелец\Рабочий стол\Учебная практика 2012\ЗОЖ\1308.jpg"/>
          <p:cNvPicPr/>
          <p:nvPr/>
        </p:nvPicPr>
        <p:blipFill>
          <a:blip r:embed="rId1"/>
          <a:stretch/>
        </p:blipFill>
        <p:spPr>
          <a:xfrm>
            <a:off x="4716360" y="2276640"/>
            <a:ext cx="39592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ДОРОВЬ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Здоровье - это состояние полного физического, духовного и социального благополуч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Здоровье     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-     эт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первая  и  важнейш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потребность чело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Оно    являетс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важнейше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предпосылко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к счастью человек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Picture 3" descr="C:\Documents and Settings\Владелец\Рабочий стол\Учебная практика 2012\ЗОЖ\x_a7a9009f.jpg"/>
          <p:cNvPicPr/>
          <p:nvPr/>
        </p:nvPicPr>
        <p:blipFill>
          <a:blip r:embed="rId1"/>
          <a:stretch/>
        </p:blipFill>
        <p:spPr>
          <a:xfrm>
            <a:off x="3780000" y="2565360"/>
            <a:ext cx="4862520" cy="379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ркот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5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781"/>
                </a:solidFill>
                <a:latin typeface="Constantia"/>
              </a:rPr>
              <a:t>Наркомания </a:t>
            </a: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- очень страшная болезнь, выражается в болезненной зависимости от наркотических средств. Сопровождается нарушением психики, сильным желанием принять определённое вещество и упорным продолжением использования вещества несмотря на пагубные последств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" name="Picture 2" descr="C:\Documents and Settings\Владелец\Рабочий стол\Учебная практика 2012\ЗОЖ\04404756befd9436454862c7b76_prev.jpg"/>
          <p:cNvPicPr/>
          <p:nvPr/>
        </p:nvPicPr>
        <p:blipFill>
          <a:blip r:embed="rId1"/>
          <a:stretch/>
        </p:blipFill>
        <p:spPr>
          <a:xfrm>
            <a:off x="1763640" y="3213000"/>
            <a:ext cx="561996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ркот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57360"/>
            <a:ext cx="49068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Наркотики</a:t>
            </a: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 – это сильнейший яд для организ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Употребление наркотиков приводит к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- психической зависимост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- физической зависимост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- необратимому нарушению жизнедеятельности организма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- социальной деградаци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57d"/>
                </a:solidFill>
                <a:latin typeface="Constantia"/>
              </a:rPr>
              <a:t>Человек, пристрастившийс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57d"/>
                </a:solidFill>
                <a:latin typeface="Constantia"/>
              </a:rPr>
              <a:t>к наркотикам,     живё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57d"/>
                </a:solidFill>
                <a:latin typeface="Constantia"/>
              </a:rPr>
              <a:t>не    более    5   ле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Picture 2" descr="C:\Documents and Settings\Владелец\Рабочий стол\Учебная практика 2012\ЗОЖ\x_790fac29.jpg"/>
          <p:cNvPicPr/>
          <p:nvPr/>
        </p:nvPicPr>
        <p:blipFill>
          <a:blip r:embed="rId1"/>
          <a:stretch/>
        </p:blipFill>
        <p:spPr>
          <a:xfrm>
            <a:off x="5435640" y="1484280"/>
            <a:ext cx="3313080" cy="492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ЕЖИМ ТРУДА И ОТДЫХ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Правильный режим труда и отдыха – </a:t>
            </a: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важная составляющая здоровья чело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При переутомлении человек теряет работоспособность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снижается иммунитет, повышается риск возникновения заболев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0" name="Picture 2" descr="C:\Documents and Settings\Владелец\Рабочий стол\Учебная практика 2012\ЗОЖ\x_5f4ecc02.jpg"/>
          <p:cNvPicPr/>
          <p:nvPr/>
        </p:nvPicPr>
        <p:blipFill>
          <a:blip r:embed="rId1"/>
          <a:stretch/>
        </p:blipFill>
        <p:spPr>
          <a:xfrm>
            <a:off x="539640" y="3645000"/>
            <a:ext cx="3835440" cy="255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Владелец\Рабочий стол\Учебная практика 2012\ЗОЖ\spjawij_wkolnik.jpg"/>
          <p:cNvPicPr/>
          <p:nvPr/>
        </p:nvPicPr>
        <p:blipFill>
          <a:blip r:embed="rId2"/>
          <a:stretch/>
        </p:blipFill>
        <p:spPr>
          <a:xfrm>
            <a:off x="4211640" y="3645000"/>
            <a:ext cx="453384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н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a2781"/>
                </a:solidFill>
                <a:latin typeface="Constantia"/>
              </a:rPr>
              <a:t>Сон </a:t>
            </a:r>
            <a:r>
              <a:rPr b="0" lang="ru-RU" sz="2200" spc="-1" strike="noStrike">
                <a:solidFill>
                  <a:srgbClr val="5a2781"/>
                </a:solidFill>
                <a:latin typeface="Constantia"/>
              </a:rPr>
              <a:t>занимает треть нашей жизн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781"/>
                </a:solidFill>
                <a:latin typeface="Constantia"/>
              </a:rPr>
              <a:t>Во время сна наш организм осуществляет «подзарядку», восстанавливая физические силы и обрабатывая накопившуюся за день информац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2781"/>
                </a:solidFill>
                <a:latin typeface="Constantia"/>
              </a:rPr>
              <a:t>Правила здорового сн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Длительность сна должна составлять 8-9 часов в сутк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Очень важно соблюдать режим дня: ложиться и вставать в одно и то же врем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Перед сном полезно проветрит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спальн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Последний прием пищи осуществлят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за 1-2 часа до сн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Ложась в кровать, все пережив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нужно отбросить и думать только 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2781"/>
                </a:solidFill>
                <a:latin typeface="Constantia"/>
              </a:rPr>
              <a:t>хорошем, можно немного помечта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Picture 3" descr="C:\Documents and Settings\Владелец\Рабочий стол\Учебная практика 2012\ЗОЖ\bedwetting_1150867cl-8.jpg"/>
          <p:cNvPicPr/>
          <p:nvPr/>
        </p:nvPicPr>
        <p:blipFill>
          <a:blip r:embed="rId1"/>
          <a:stretch/>
        </p:blipFill>
        <p:spPr>
          <a:xfrm>
            <a:off x="4932360" y="4076640"/>
            <a:ext cx="3780000" cy="212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игиена тру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050920" y="1557360"/>
            <a:ext cx="511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2781"/>
                </a:solidFill>
                <a:latin typeface="Constantia"/>
              </a:rPr>
              <a:t>Основные вредные факторы, действующие на человека за компьютером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Сидячее положение в течение длительного      времени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Поза, в которой человек сидит за компьютером является для организма вынужденной и неприятной: напряжены шея, мышцы головы, руки и плечи, поэтому у детей развивается искривление позвоночника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Воздействие электромагнитного излучения монитора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Утомление глаз. Нагрузка на зрение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Перегрузка глаз приводит к потере остроты зрения. Плохо сказываются на зрении неудачный подбор цвета, шрифтов в программах, неправильное расположение экрана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Перегрузка суставов, кистей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Длительная работа с клавиатурой и мышью может привести к повреждению суставов и связок кисти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7" name="Picture 6" descr="36-45"/>
          <p:cNvPicPr/>
          <p:nvPr/>
        </p:nvPicPr>
        <p:blipFill>
          <a:blip r:embed="rId1"/>
          <a:stretch/>
        </p:blipFill>
        <p:spPr>
          <a:xfrm>
            <a:off x="7236000" y="1700280"/>
            <a:ext cx="1714320" cy="1838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9_17_1"/>
          <p:cNvPicPr/>
          <p:nvPr/>
        </p:nvPicPr>
        <p:blipFill>
          <a:blip r:embed="rId2"/>
          <a:stretch/>
        </p:blipFill>
        <p:spPr>
          <a:xfrm>
            <a:off x="7236000" y="3716280"/>
            <a:ext cx="1450800" cy="2160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Владелец\Рабочий стол\Учебная практика 2012\ЗОЖ\i_023.png"/>
          <p:cNvPicPr/>
          <p:nvPr/>
        </p:nvPicPr>
        <p:blipFill>
          <a:blip r:embed="rId3"/>
          <a:stretch/>
        </p:blipFill>
        <p:spPr>
          <a:xfrm>
            <a:off x="0" y="1484280"/>
            <a:ext cx="2136600" cy="2217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игиена тру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95640" y="1557360"/>
            <a:ext cx="468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2781"/>
                </a:solidFill>
                <a:latin typeface="Constantia"/>
              </a:rPr>
              <a:t>Правила работы за компьютером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1. Ноги должны быть согнуты под прямым углом и опираться на пол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2. Нижняя часть спины должна опираться на спинку стула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3. При работе за компьютером, голову держите прямо, с небольшим наклоном вперед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4. Расстояние до экрана монитора должно быть не менее 45 см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5. Верхний край экрана монитора должен быть на уровне глаз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6. При работе на клавиатуре, руки должны свободно лежать на столе, плечи - расслаблены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7. Через каждые 15 минут работы необходимо отводить глаза от монитора и смотреть в даль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a2781"/>
                </a:solidFill>
                <a:latin typeface="Constantia"/>
              </a:rPr>
              <a:t>8. Через каждые 35-40 минут необходимо делать перерыв на 5-10 минут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5" descr="C:\Documents and Settings\Владелец\Рабочий стол\Учебная практика 2012\ЗОЖ\pravila_sidenija_za_kompjuterom.jpg"/>
          <p:cNvPicPr/>
          <p:nvPr/>
        </p:nvPicPr>
        <p:blipFill>
          <a:blip r:embed="rId1"/>
          <a:stretch/>
        </p:blipFill>
        <p:spPr>
          <a:xfrm>
            <a:off x="250920" y="1773360"/>
            <a:ext cx="3751200" cy="3946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а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050920" y="1557360"/>
            <a:ext cx="511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5" name="Picture 2" descr="C:\Documents and Settings\Владелец\Рабочий стол\Учебная практика 2012\ЗОЖ\5289151_w640_h640_123.jpg"/>
          <p:cNvPicPr/>
          <p:nvPr/>
        </p:nvPicPr>
        <p:blipFill>
          <a:blip r:embed="rId1"/>
          <a:stretch/>
        </p:blipFill>
        <p:spPr>
          <a:xfrm>
            <a:off x="3995640" y="1628640"/>
            <a:ext cx="4783320" cy="4748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Владелец\Рабочий стол\Учебная практика 2012\ЗОЖ\0_47e7b_163ea8f_L.jpg"/>
          <p:cNvPicPr/>
          <p:nvPr/>
        </p:nvPicPr>
        <p:blipFill>
          <a:blip r:embed="rId2"/>
          <a:stretch/>
        </p:blipFill>
        <p:spPr>
          <a:xfrm>
            <a:off x="250920" y="2060640"/>
            <a:ext cx="367488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ЛОЖИТЕЛЬНЫЕ ЭМО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Эмоциональное состояние 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человека отражается на его здоровье и работоспособ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Позитивное отношение, улыбка помогают справится с любыми трудностя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Documents and Settings\Владелец\Рабочий стол\Учебная практика 2012\ЗОЖ\44172-204756-happysadfacejpg-620x.jpg"/>
          <p:cNvPicPr/>
          <p:nvPr/>
        </p:nvPicPr>
        <p:blipFill>
          <a:blip r:embed="rId1"/>
          <a:stretch/>
        </p:blipFill>
        <p:spPr>
          <a:xfrm>
            <a:off x="611280" y="3284640"/>
            <a:ext cx="78739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ДОРОВЬ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2" descr="C:\Documents and Settings\Владелец\Рабочий стол\Учебная практика 2012\ЗОЖ\Рисунок1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2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ДОРОВЬ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5" name="Picture 3" descr="C:\Documents and Settings\Владелец\Рабочий стол\Учебная практика 2012\ЗОЖ\Рисунок2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9"/>
          <p:cNvSpPr/>
          <p:nvPr/>
        </p:nvSpPr>
        <p:spPr>
          <a:xfrm>
            <a:off x="1476360" y="4724280"/>
            <a:ext cx="6840720" cy="1800360"/>
          </a:xfrm>
          <a:prstGeom prst="rect">
            <a:avLst/>
          </a:prstGeom>
          <a:solidFill>
            <a:srgbClr val="49a960"/>
          </a:solidFill>
          <a:ln w="25560">
            <a:solidFill>
              <a:srgbClr val="49a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3348000" y="5445000"/>
            <a:ext cx="1871640" cy="533520"/>
          </a:xfrm>
          <a:prstGeom prst="rect">
            <a:avLst/>
          </a:prstGeom>
          <a:solidFill>
            <a:srgbClr val="e9f292"/>
          </a:solidFill>
          <a:ln w="9360">
            <a:solidFill>
              <a:srgbClr val="e9f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знак завершения 12"/>
          <p:cNvSpPr/>
          <p:nvPr/>
        </p:nvSpPr>
        <p:spPr>
          <a:xfrm>
            <a:off x="5867280" y="4941720"/>
            <a:ext cx="2521080" cy="432000"/>
          </a:xfrm>
          <a:prstGeom prst="flowChartTerminator">
            <a:avLst/>
          </a:prstGeom>
          <a:solidFill>
            <a:srgbClr val="e9f292"/>
          </a:solidFill>
          <a:ln w="25560">
            <a:solidFill>
              <a:srgbClr val="e9f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знак завершения 15"/>
          <p:cNvSpPr/>
          <p:nvPr/>
        </p:nvSpPr>
        <p:spPr>
          <a:xfrm>
            <a:off x="5867280" y="5516640"/>
            <a:ext cx="2521080" cy="433440"/>
          </a:xfrm>
          <a:prstGeom prst="flowChartTerminator">
            <a:avLst/>
          </a:prstGeom>
          <a:solidFill>
            <a:srgbClr val="e9f292"/>
          </a:solidFill>
          <a:ln w="25560">
            <a:solidFill>
              <a:srgbClr val="e9f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знак завершения 16"/>
          <p:cNvSpPr/>
          <p:nvPr/>
        </p:nvSpPr>
        <p:spPr>
          <a:xfrm>
            <a:off x="5867280" y="6093000"/>
            <a:ext cx="2521080" cy="431640"/>
          </a:xfrm>
          <a:prstGeom prst="flowChartTerminator">
            <a:avLst/>
          </a:prstGeom>
          <a:solidFill>
            <a:srgbClr val="e9f292"/>
          </a:solidFill>
          <a:ln w="25560">
            <a:solidFill>
              <a:srgbClr val="e9f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18"/>
          <p:cNvCxnSpPr/>
          <p:nvPr/>
        </p:nvCxnSpPr>
        <p:spPr>
          <a:xfrm flipV="1">
            <a:off x="5292720" y="5228640"/>
            <a:ext cx="504000" cy="216360"/>
          </a:xfrm>
          <a:prstGeom prst="straightConnector1">
            <a:avLst/>
          </a:prstGeom>
          <a:ln w="572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12" name="Прямая со стрелкой 20"/>
          <p:cNvCxnSpPr/>
          <p:nvPr/>
        </p:nvCxnSpPr>
        <p:spPr>
          <a:xfrm>
            <a:off x="5292720" y="5732280"/>
            <a:ext cx="504000" cy="1080"/>
          </a:xfrm>
          <a:prstGeom prst="straightConnector1">
            <a:avLst/>
          </a:prstGeom>
          <a:ln w="572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13" name="Прямая со стрелкой 22"/>
          <p:cNvCxnSpPr/>
          <p:nvPr/>
        </p:nvCxnSpPr>
        <p:spPr>
          <a:xfrm>
            <a:off x="5292720" y="5950080"/>
            <a:ext cx="504000" cy="288000"/>
          </a:xfrm>
          <a:prstGeom prst="straightConnector1">
            <a:avLst/>
          </a:prstGeom>
          <a:ln w="57240">
            <a:solidFill>
              <a:srgbClr val="006600"/>
            </a:solidFill>
            <a:miter/>
            <a:tailEnd len="med" type="arrow" w="med"/>
          </a:ln>
        </p:spPr>
      </p:cxnSp>
      <p:pic>
        <p:nvPicPr>
          <p:cNvPr id="114" name="Picture 51" descr="Info_01"/>
          <p:cNvPicPr/>
          <p:nvPr/>
        </p:nvPicPr>
        <p:blipFill>
          <a:blip r:embed="rId2"/>
          <a:stretch/>
        </p:blipFill>
        <p:spPr>
          <a:xfrm>
            <a:off x="1116000" y="4724280"/>
            <a:ext cx="2808360" cy="187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2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solidFill>
            <a:srgbClr val="49a9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Calibri"/>
              </a:rPr>
              <a:t>социальное здоровь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7" name="Picture 50" descr="CHICKEN1"/>
          <p:cNvPicPr/>
          <p:nvPr/>
        </p:nvPicPr>
        <p:blipFill>
          <a:blip r:embed="rId1"/>
          <a:stretch/>
        </p:blipFill>
        <p:spPr>
          <a:xfrm>
            <a:off x="7236000" y="486900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78"/>
          <p:cNvPicPr/>
          <p:nvPr/>
        </p:nvPicPr>
        <p:blipFill>
          <a:blip r:embed="rId2"/>
          <a:stretch/>
        </p:blipFill>
        <p:spPr>
          <a:xfrm>
            <a:off x="395280" y="4869000"/>
            <a:ext cx="1616040" cy="1476360"/>
          </a:xfrm>
          <a:prstGeom prst="rect">
            <a:avLst/>
          </a:prstGeom>
          <a:ln w="0">
            <a:noFill/>
          </a:ln>
        </p:spPr>
      </p:pic>
      <p:sp>
        <p:nvSpPr>
          <p:cNvPr id="119" name="Line 54"/>
          <p:cNvSpPr/>
          <p:nvPr/>
        </p:nvSpPr>
        <p:spPr>
          <a:xfrm flipH="1" flipV="1">
            <a:off x="3276360" y="2349000"/>
            <a:ext cx="546120" cy="67788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6"/>
          <p:cNvSpPr/>
          <p:nvPr/>
        </p:nvSpPr>
        <p:spPr>
          <a:xfrm flipV="1">
            <a:off x="5292720" y="2491920"/>
            <a:ext cx="503280" cy="57636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7"/>
          <p:cNvSpPr/>
          <p:nvPr/>
        </p:nvSpPr>
        <p:spPr>
          <a:xfrm flipH="1">
            <a:off x="2771280" y="4149720"/>
            <a:ext cx="576360" cy="5112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8"/>
          <p:cNvSpPr/>
          <p:nvPr/>
        </p:nvSpPr>
        <p:spPr>
          <a:xfrm>
            <a:off x="5724360" y="4076640"/>
            <a:ext cx="648000" cy="50472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3" descr="http://www.personal.psu.edu/jat14/images/girl_book.gif"/>
          <p:cNvPicPr/>
          <p:nvPr/>
        </p:nvPicPr>
        <p:blipFill>
          <a:blip r:embed="rId3"/>
          <a:stretch/>
        </p:blipFill>
        <p:spPr>
          <a:xfrm>
            <a:off x="7093080" y="836640"/>
            <a:ext cx="1569960" cy="2103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http://06spb.edusite.ru/images/p39_socped-2.jpg"/>
          <p:cNvPicPr/>
          <p:nvPr/>
        </p:nvPicPr>
        <p:blipFill>
          <a:blip r:embed="rId4"/>
          <a:stretch/>
        </p:blipFill>
        <p:spPr>
          <a:xfrm>
            <a:off x="468360" y="836640"/>
            <a:ext cx="1746360" cy="1584360"/>
          </a:xfrm>
          <a:prstGeom prst="rect">
            <a:avLst/>
          </a:prstGeom>
          <a:ln w="0">
            <a:noFill/>
          </a:ln>
        </p:spPr>
      </p:pic>
      <p:sp>
        <p:nvSpPr>
          <p:cNvPr id="125" name="Овал 23"/>
          <p:cNvSpPr/>
          <p:nvPr/>
        </p:nvSpPr>
        <p:spPr>
          <a:xfrm>
            <a:off x="3276720" y="2924280"/>
            <a:ext cx="2447640" cy="1657080"/>
          </a:xfrm>
          <a:prstGeom prst="ellipse">
            <a:avLst/>
          </a:prstGeom>
          <a:solidFill>
            <a:srgbClr val="e9f2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4"/>
          <p:cNvSpPr/>
          <p:nvPr/>
        </p:nvSpPr>
        <p:spPr>
          <a:xfrm>
            <a:off x="1403280" y="4508640"/>
            <a:ext cx="2514600" cy="1447560"/>
          </a:xfrm>
          <a:prstGeom prst="irregularSeal1">
            <a:avLst/>
          </a:prstGeom>
          <a:solidFill>
            <a:srgbClr val="e9f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ДЫ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5435640" y="4437000"/>
            <a:ext cx="2514600" cy="1447920"/>
          </a:xfrm>
          <a:prstGeom prst="irregularSeal1">
            <a:avLst/>
          </a:prstGeom>
          <a:solidFill>
            <a:srgbClr val="e9f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ИТАНИЯ</a:t>
            </a:r>
            <a:r>
              <a:rPr b="1" lang="ru-RU" sz="2400" spc="-1" strike="noStrike">
                <a:solidFill>
                  <a:srgbClr val="ffcc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4932360" y="1268280"/>
            <a:ext cx="2514600" cy="1447920"/>
          </a:xfrm>
          <a:prstGeom prst="irregularSeal1">
            <a:avLst/>
          </a:prstGeom>
          <a:solidFill>
            <a:srgbClr val="e9f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РУДА</a:t>
            </a:r>
            <a:r>
              <a:rPr b="1" lang="ru-RU" sz="2400" spc="-1" strike="noStrike">
                <a:solidFill>
                  <a:srgbClr val="ffcc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1619280" y="1197000"/>
            <a:ext cx="2514600" cy="1447920"/>
          </a:xfrm>
          <a:prstGeom prst="irregularSeal1">
            <a:avLst/>
          </a:prstGeom>
          <a:solidFill>
            <a:srgbClr val="e9f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Факторы, влияющие на здоровь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488880" y="1722600"/>
            <a:ext cx="80931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доровый образ жиз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Здоровый образ жизни - 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это индивидуальная система поведения человека, направленная на сохранение и укрепление своего здоровь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" name="Picture 2" descr="C:\Documents and Settings\Владелец\Рабочий стол\Учебная практика 2012\ЗОЖ\zog.jpg"/>
          <p:cNvPicPr/>
          <p:nvPr/>
        </p:nvPicPr>
        <p:blipFill>
          <a:blip r:embed="rId1"/>
          <a:stretch/>
        </p:blipFill>
        <p:spPr>
          <a:xfrm>
            <a:off x="1763640" y="2708280"/>
            <a:ext cx="5429160" cy="3822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Элементы здорового образа жизн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60640"/>
            <a:ext cx="82296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2781"/>
                </a:solidFill>
                <a:latin typeface="Constantia"/>
              </a:rPr>
              <a:t>Правильное питани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278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5a2781"/>
                </a:solidFill>
                <a:latin typeface="Constantia"/>
              </a:rPr>
              <a:t>Физическая и двигательная актив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278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5a2781"/>
                </a:solidFill>
                <a:latin typeface="Constantia"/>
              </a:rPr>
              <a:t>Отказ от вредных привыче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278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5a2781"/>
                </a:solidFill>
                <a:latin typeface="Constantia"/>
              </a:rPr>
              <a:t>Правильный режим труда и отдых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278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5a2781"/>
                </a:solidFill>
                <a:latin typeface="Constantia"/>
              </a:rPr>
              <a:t>Положительные эмоц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ИЛЬНОЕ ПИТ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557360"/>
            <a:ext cx="526716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Правильное пит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781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5a2781"/>
                </a:solidFill>
                <a:latin typeface="Constantia"/>
              </a:rPr>
              <a:t>обеспечивает стабильную работу всего организма, полноценное усваивание всех полезных веществ и элементов, быстрое и правильное протекание процессов обмена веществ, является залогом крепкого здоровья и хорошего иммуните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9" name="Picture 2" descr="C:\Documents and Settings\Владелец\Рабочий стол\Учебная практика 2012\ЗОЖ\1269974419_neslozhnye_pravila_razdelnogo_pitaniya.jpg"/>
          <p:cNvPicPr/>
          <p:nvPr/>
        </p:nvPicPr>
        <p:blipFill>
          <a:blip r:embed="rId1"/>
          <a:stretch/>
        </p:blipFill>
        <p:spPr>
          <a:xfrm>
            <a:off x="5724360" y="2060640"/>
            <a:ext cx="3114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52:47Z</dcterms:created>
  <dc:creator>Владелец</dc:creator>
  <dc:description/>
  <dc:language>en-US</dc:language>
  <cp:lastModifiedBy>Владелец</cp:lastModifiedBy>
  <dcterms:modified xsi:type="dcterms:W3CDTF">2012-10-07T20:59:29Z</dcterms:modified>
  <cp:revision>99</cp:revision>
  <dc:subject/>
  <dc:title>Слайд 1</dc:title>
</cp:coreProperties>
</file>