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EC4-B0D5-4CA3-8022-8B12FA84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BDD-8A55-4562-863D-2A151387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282-B05C-4EFD-BB62-D10DFD4B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138-5EC3-417B-9AFF-20DEFB90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C73D-8EB2-4197-BDFF-2B7F6FFB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3A3-7949-4233-BAD9-6568DA0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4D8-789F-4CA3-812B-B8B54EF7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7FE-DFBD-4714-834D-2D43756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12CA-8364-491A-84A2-3FA7DD9A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83B7-C3B5-44DE-8BB5-BC99F3AF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92E9-A69B-4749-A7AA-8139E0C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D31-24E5-43BF-A3CA-5CD203E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3FDC-08D1-48D0-B9F6-AADBCA0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235B-4AC1-4589-8D19-FB1DB8A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007-9292-4282-A434-78A17B3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F30-CBF7-4765-9A97-96EDAD99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003-CE2A-4ABA-87D1-ABFB2FFE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3371-9E13-40DC-8B31-7FC8278D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09A8-9CD3-49CB-9980-62F49BA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FECE-DEBA-4913-9A27-698FFE0A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500F-2A34-4846-BC0F-6483644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11D9-7808-4DD9-8466-26DCC42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FE3-39EE-4FF6-9EDC-70360E1A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8CCC-8F55-4644-BE72-88C121A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E0C0-FA7F-41D0-820A-ED30A51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C224-B02B-4E47-AF7D-4C87104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9650-73E4-4058-9A79-F343E34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6A58-B94F-4E82-AEBD-E704088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50F4-B6FE-4B91-BED6-80BD5CEF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F5B2-4101-45D2-8EBB-AC437BBA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A0D9-484C-42F5-8615-D931F888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3036-9D85-430D-BD89-B2DCC3E1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9FCF-D8B5-42CB-B46D-E95A957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A33-CF56-4F88-8A93-309EB953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D42A-88BB-41E2-97A9-B5EDD5C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1F4F-459E-4A1E-8371-76E35E7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D26E-4558-4094-B730-95FACCCB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37C0-7ACC-4303-B882-413567F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5C44-05F8-4BDB-BECB-C5E64ED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069D-2AE1-4933-B32D-348A2CA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EB2C-D0DC-464E-A4A0-4DEE3EE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4E19-9FBC-433C-B1CA-DF64AF8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4F22-1B6D-48E5-AA52-579877AE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F37E-D899-4535-BD6E-8E323F30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1B6-1CC9-4B63-AB3B-31C3D74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88FD-4DBB-4A1C-B777-2C9CE0B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E185-EE51-423A-B542-51CF69F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CF148-8E53-480C-AD5A-A8E112E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08E1-42AB-48C3-9334-FD0C5A0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B67B2-0CD6-4502-B12C-1864F2E3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C453-B4A2-41DA-87FC-92AA34E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BFFE-DF76-486A-888E-4AA958F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2882-24D7-475D-99F8-1B3A582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5BA0-F44A-4869-BFD0-8DC808C3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14D0-FEA8-4EA6-9956-B7ACD6BF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B64-2D58-448C-B148-34171085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A047-F049-45E4-A974-AC0339FC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5628-EF2B-465A-A65B-BABD8F26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72B9-97E2-44D6-8D89-43D6215F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92C8-C4B0-49F6-9EB5-8584E1C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C7977-FF88-45FF-88C8-689B3BF7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8BD8-1D66-4153-AE49-71855102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378F-7F4C-4785-9AB5-5102864E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8190-4E34-4ABE-AB02-20A7B20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C174-D8A6-4843-B10D-BFD3C6A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6317-99E1-48AC-8C3D-C2F0AEEE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1CB-C678-4004-A315-0FE02D3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83D9-91B0-4171-86AD-74C4F6A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80C0-3DBA-4858-A34E-122A39EB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3B1CD-7257-45D1-87F5-406FE1E3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4E0-D9FD-4CE6-B33A-573A4A9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607-DE2C-42DF-B25C-51DCD074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D25E-60AB-44FD-8349-D55CF131E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45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00">
              <a:alpha val="29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BDC-1F02-4D49-98F6-7111709B3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9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7" descr="14466435-happy-water-drop-cartoon-character.jpg"/>
          <p:cNvPicPr/>
          <p:nvPr/>
        </p:nvPicPr>
        <p:blipFill>
          <a:blip r:embed="rId4"/>
          <a:stretch/>
        </p:blipFill>
        <p:spPr>
          <a:xfrm rot="1317000">
            <a:off x="8503920" y="44280"/>
            <a:ext cx="3254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appy-water-drop_35422-112.jpg"/>
          <p:cNvPicPr/>
          <p:nvPr/>
        </p:nvPicPr>
        <p:blipFill>
          <a:blip r:embed="rId5"/>
          <a:stretch/>
        </p:blipFill>
        <p:spPr>
          <a:xfrm rot="1090800">
            <a:off x="8699400" y="40788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818.jpg"/>
          <p:cNvPicPr/>
          <p:nvPr/>
        </p:nvPicPr>
        <p:blipFill>
          <a:blip r:embed="rId6"/>
          <a:stretch/>
        </p:blipFill>
        <p:spPr>
          <a:xfrm>
            <a:off x="8501040" y="500040"/>
            <a:ext cx="25236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5032018116.png"/>
          <p:cNvPicPr/>
          <p:nvPr/>
        </p:nvPicPr>
        <p:blipFill>
          <a:blip r:embed="rId7"/>
          <a:stretch/>
        </p:blipFill>
        <p:spPr>
          <a:xfrm>
            <a:off x="6480" y="4138560"/>
            <a:ext cx="944280" cy="174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2DBE-F884-42AE-A0DB-AE0AF8DFF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38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7" descr="04.15_denj_ekologichnih_znanj.jpg"/>
          <p:cNvPicPr/>
          <p:nvPr/>
        </p:nvPicPr>
        <p:blipFill>
          <a:blip r:embed="rId4"/>
          <a:stretch/>
        </p:blipFill>
        <p:spPr>
          <a:xfrm>
            <a:off x="0" y="4143240"/>
            <a:ext cx="1352520" cy="890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58ecdeee36cad15b5d46d290.png"/>
          <p:cNvPicPr/>
          <p:nvPr/>
        </p:nvPicPr>
        <p:blipFill>
          <a:blip r:embed="rId5"/>
          <a:stretch/>
        </p:blipFill>
        <p:spPr>
          <a:xfrm rot="20269800">
            <a:off x="7716600" y="9000"/>
            <a:ext cx="1143000" cy="1729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128E-F0B6-4E30-B052-A11142BA8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84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7" descr="0_b9f30_2a2c8881_L.png"/>
          <p:cNvPicPr/>
          <p:nvPr/>
        </p:nvPicPr>
        <p:blipFill>
          <a:blip r:embed="rId4"/>
          <a:stretch/>
        </p:blipFill>
        <p:spPr>
          <a:xfrm>
            <a:off x="7858080" y="3929040"/>
            <a:ext cx="1523880" cy="1365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8" descr="22738248.png"/>
          <p:cNvPicPr/>
          <p:nvPr/>
        </p:nvPicPr>
        <p:blipFill>
          <a:blip r:embed="rId5"/>
          <a:stretch/>
        </p:blipFill>
        <p:spPr>
          <a:xfrm>
            <a:off x="0" y="142920"/>
            <a:ext cx="1285920" cy="1504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94B-6CE4-4073-80BB-961046DD9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23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Рисунок 7" descr="700_FO65189654_67c399490eb57728163401ec8d515751.jpg"/>
          <p:cNvPicPr/>
          <p:nvPr/>
        </p:nvPicPr>
        <p:blipFill>
          <a:blip r:embed="rId4"/>
          <a:stretch/>
        </p:blipFill>
        <p:spPr>
          <a:xfrm rot="19153800">
            <a:off x="7870680" y="22680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9603228-cartoon-science-chemical-flasks-and-beakers.jpg"/>
          <p:cNvPicPr/>
          <p:nvPr/>
        </p:nvPicPr>
        <p:blipFill>
          <a:blip r:embed="rId5"/>
          <a:srcRect l="42633" t="56945" r="0" b="0"/>
          <a:stretch/>
        </p:blipFill>
        <p:spPr>
          <a:xfrm>
            <a:off x="142920" y="4000680"/>
            <a:ext cx="1434960" cy="11430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image-microbe-p24640.jpg"/>
          <p:cNvPicPr/>
          <p:nvPr/>
        </p:nvPicPr>
        <p:blipFill>
          <a:blip r:embed="rId6"/>
          <a:stretch/>
        </p:blipFill>
        <p:spPr>
          <a:xfrm>
            <a:off x="8715240" y="928800"/>
            <a:ext cx="247680" cy="349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promptimage2.jpg"/>
          <p:cNvPicPr/>
          <p:nvPr/>
        </p:nvPicPr>
        <p:blipFill>
          <a:blip r:embed="rId7"/>
          <a:stretch/>
        </p:blipFill>
        <p:spPr>
          <a:xfrm rot="17899200">
            <a:off x="8055000" y="293040"/>
            <a:ext cx="1071720" cy="677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C75-B8FB-439B-B18F-E6E9B94AE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ДЕНЬ ЭФФЕКТИВНОЙ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ПЕДАГОГИЧЕСКОЙ ПРАКТИКИ</a:t>
            </a:r>
            <a:br>
              <a:rPr sz="2800"/>
            </a:br>
            <a:br>
              <a:rPr sz="24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4790160" y="43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Заголовок 1"/>
          <p:cNvSpPr/>
          <p:nvPr/>
        </p:nvSpPr>
        <p:spPr>
          <a:xfrm>
            <a:off x="714240" y="242892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Bookman Old Style"/>
              </a:rPr>
              <a:t>«УМЕЮ САМ – НАУЧУ ДРУГ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Разработчики: Рогозина Н.А., Эшметова Л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учителя начальных классов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2"/>
          <p:cNvSpPr/>
          <p:nvPr/>
        </p:nvSpPr>
        <p:spPr>
          <a:xfrm>
            <a:off x="428760" y="428760"/>
            <a:ext cx="828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man Old Style"/>
              </a:rPr>
              <a:t>Микро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Бактерии – мельчайшие живые существа; разная фо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Тысячи видов; можно найти повсюд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Безвредные и вредные (микроб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428760" y="40176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Алгоритм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 выделения главной мысли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Составьте из них 1-2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2"/>
          <p:cNvSpPr/>
          <p:nvPr/>
        </p:nvSpPr>
        <p:spPr>
          <a:xfrm>
            <a:off x="428760" y="42876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man Old Style"/>
              </a:rPr>
              <a:t>Микро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Бактерии – мельчайшие живые существа, которые имеют разную фор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Бактерий тысячи видов, их можно найти повсюд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Бактерии есть безвредные и вредные (микроб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428760" y="4017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Алгоритм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 выделения главной мысли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Из полученных предложений постарайся составить одно ёмкое, которое и будет выражать глав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428760" y="428760"/>
            <a:ext cx="82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Bookman Old Style"/>
                <a:ea typeface="Arial"/>
              </a:rPr>
              <a:t>Главная мысль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Arial"/>
              </a:rPr>
              <a:t>Бактерии - мельчайшие живые существа, которые живут повсюду и могут быть как полезными, так и вред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2286000" y="7142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Bookman Old Style"/>
                <a:ea typeface="Arial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Bookman Old Style"/>
                <a:ea typeface="Arial"/>
              </a:rPr>
              <a:t>З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Bookman Old Style"/>
                <a:ea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254061"/>
                </a:solidFill>
                <a:latin typeface="Bookman Old Style"/>
              </a:rPr>
              <a:t>СЕМИНАР – ПРАКТИКУМ</a:t>
            </a: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558ed5"/>
                </a:solidFill>
                <a:latin typeface="Bookman Old Style"/>
              </a:rPr>
              <a:t>«Определение главной </a:t>
            </a:r>
            <a:br>
              <a:rPr sz="4000"/>
            </a:br>
            <a:r>
              <a:rPr b="1" lang="ru-RU" sz="4000" spc="-1" strike="noStrike">
                <a:solidFill>
                  <a:srgbClr val="558ed5"/>
                </a:solidFill>
                <a:latin typeface="Bookman Old Style"/>
              </a:rPr>
              <a:t>мысли текст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714240" y="10717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  <a:ea typeface="Arial"/>
              </a:rPr>
              <a:t>Тема текста – это то, о чём говорится в текс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428760" y="85716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Arial"/>
              </a:rPr>
              <a:t>Главная (основная) мысль текста – это то, о чём хочет сказать автор, объяс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428760" y="401760"/>
            <a:ext cx="82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Алгоритм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 выделения главной мысли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очитайте внимательно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 чём (или о ком) говорится в тексте? (определяем тему тек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В каждом абзаце подчеркните  главные (повторяющиеся, ключевые)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Составьте из них 1-2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Из полученных предложений постарайся составить одно ёмкое, которое и будет выражать глав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571680" y="50004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Бактерии – это мельчайшие живые существа, которые невозможно увидеть невооруженным глазом. Это одна из простейших форм жизни. Бактерии больше похожи на растения, чем на животных. Они имеют разную форму: цилиндрическую, спиралевидную или шарообраз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Существуют тысячи видов бактерий. Огромное количество бактерий можно найти повсюду, куда ни посмотри. Многие бактерии обитают в почве. Некоторые бактерии живут внутри нашего тела – они помогают нам переваривать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Большинство бактерий совершенно безвредны, но некоторые вызывают инфекции. Попадание некоторых бактерий в организм человека несёт опасность. Такие бактерии называют микробами. Для борьбы с микробами используют специальные лек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428760" y="401760"/>
            <a:ext cx="828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Алгоритм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 выделения главной мысли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 чём (или о ком) говорится в тексте? (определяем тему тек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714240" y="100008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  <a:ea typeface="Arial"/>
              </a:rPr>
              <a:t>Тема текста - 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Bookman Old Style"/>
                <a:ea typeface="Arial"/>
              </a:rPr>
              <a:t>«БАКТЕРИ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428760" y="40176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Алгоритм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Bookman Old Style"/>
              </a:rPr>
              <a:t> выделения главной мысли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В каждом абзаце подчеркните  главные (повторяющиеся, ключевые)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01:11:43Z</dcterms:created>
  <dc:creator>Lenovo</dc:creator>
  <dc:description/>
  <dc:language>en-US</dc:language>
  <cp:lastModifiedBy>nadezhda_rogozina@dnevnik.ru</cp:lastModifiedBy>
  <dcterms:modified xsi:type="dcterms:W3CDTF">2022-11-16T14:02:40Z</dcterms:modified>
  <cp:revision>17</cp:revision>
  <dc:subject/>
  <dc:title>Слайд 1</dc:title>
</cp:coreProperties>
</file>