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63C-D305-47C1-954E-58D4CD02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260-340D-4515-B864-EF908A20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7FC-67B3-4978-B658-7B3D8256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DE5-50C3-4123-B52C-1B9748BA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80AF-7E88-49D9-B41A-656A3472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7B8-91FE-4C0B-87CF-F4B538D4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7D3-AD95-4632-9730-7D7FD87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BF78-C94F-41B3-8DE6-208F22A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0B1A-EB9B-410D-8AEF-3FE99A9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3219-C24B-4C23-8623-F610022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7BF-9AEF-4E76-8B76-DA03349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BD1-10F9-4894-A198-962D043F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FBC9-1A20-447E-9976-C04D034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694-520D-4DFC-8209-3EAFF2C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EE2-C4A5-4F4D-8B17-5CB2C88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5268-2B6B-4F2B-B858-AF659218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68E2-B2B6-4A57-8728-97B2C98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BCF-4AEB-4D9C-A54E-3E11875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490-686C-4BC1-9CCD-7A585239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6EB-C146-4C74-8358-D1510AE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9DE-4FCA-4DE2-814D-89245958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7E9-A995-471F-B4F4-0815DF7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D05-D97C-4BF7-9587-15908A0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8A2-8ABF-4B3C-9B35-0D2BCD6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EB2-AFA5-4C38-8C75-C82EBFC05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D1F-1D7E-4A2A-8A25-9CE09E9F6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41907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научить ребенка уч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ешая задачу нужно: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рочитать задачу, представить, о чем говор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Кратко записать условие или начертить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яснить, что обозначает каждое число, повторить вопрос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думать, можно ли ответить на вопрос задачи, если нет, то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Составить план решения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роверить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Записать решение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олняя упражнение по русскому язык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овторить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рочитать задания к упражнению, повторить, что нужно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рочитать упражнение и выполнить все задания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Выполнить задание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ровери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бенок должен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рочитать задание, подумать как его выполнить и записать свой вариант выполнения на чернов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1ea0"/>
                </a:solidFill>
                <a:latin typeface="Arial"/>
              </a:rPr>
              <a:t>Родитель проверяет выполнение задания, но не исправляет ошибки, а лишь указывает на них, пусть ребенок найдет их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d135"/>
                </a:solidFill>
                <a:latin typeface="Arial"/>
              </a:rPr>
              <a:t>Не выполняйте за детей работу – дети отучаются думать и ждут 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80880" y="304920"/>
            <a:ext cx="8458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правление помощи - приучение к самостоятельности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23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30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38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52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57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8"/>
          <p:cNvSpPr/>
          <p:nvPr/>
        </p:nvSpPr>
        <p:spPr>
          <a:xfrm>
            <a:off x="6172200" y="2362320"/>
            <a:ext cx="2438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1120" y="1143000"/>
            <a:ext cx="49528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294920" y="3901320"/>
            <a:ext cx="5791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cc"/>
                </a:solidFill>
                <a:latin typeface="Monotype Corsiva"/>
              </a:rPr>
              <a:t>Один из наиболее сложных и ответственных моментов в жизни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380880" y="16002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ение в школ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«Именно на начальном этапе обучения родители должны максимально опекать свое дитя. Их задача – научить ребенка правильно учиться. И тогда дальше он сможет учиться сам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e0404"/>
                </a:solidFill>
                <a:latin typeface="Arial"/>
              </a:rPr>
              <a:t>К.Д.Уши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a0aff"/>
                </a:solidFill>
                <a:latin typeface="Monotype Corsiva"/>
              </a:rPr>
              <a:t>Научить рёбёнка самостоятельно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a0aff"/>
                </a:solidFill>
                <a:latin typeface="Monotype Corsiva"/>
              </a:rPr>
              <a:t>учи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a0aff"/>
                </a:solidFill>
                <a:latin typeface="Monotype Corsiva"/>
              </a:rPr>
              <a:t>    </a:t>
            </a:r>
            <a:r>
              <a:rPr b="1" i="1" lang="ru-RU" sz="4000" spc="-1" strike="noStrike">
                <a:solidFill>
                  <a:srgbClr val="0a0aff"/>
                </a:solidFill>
                <a:latin typeface="Monotype Corsiva"/>
              </a:rPr>
              <a:t>научить добывать знани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Ваша родительская обязан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j0088510"/>
          <p:cNvPicPr/>
          <p:nvPr/>
        </p:nvPicPr>
        <p:blipFill>
          <a:blip r:embed="rId1"/>
          <a:stretch/>
        </p:blipFill>
        <p:spPr>
          <a:xfrm>
            <a:off x="5943600" y="38862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чеба в школ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Diagram 5"/>
          <p:cNvGrpSpPr/>
          <p:nvPr/>
        </p:nvGrpSpPr>
        <p:grpSpPr>
          <a:xfrm>
            <a:off x="609480" y="1143000"/>
            <a:ext cx="7925040" cy="4952880"/>
            <a:chOff x="609480" y="1143000"/>
            <a:chExt cx="7925040" cy="4952880"/>
          </a:xfrm>
        </p:grpSpPr>
        <p:sp>
          <p:nvSpPr>
            <p:cNvPr id="100" name="_s2052"/>
            <p:cNvSpPr/>
            <p:nvPr/>
          </p:nvSpPr>
          <p:spPr>
            <a:xfrm>
              <a:off x="5257800" y="2743200"/>
              <a:ext cx="1143000" cy="13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3"/>
            <p:cNvSpPr/>
            <p:nvPr/>
          </p:nvSpPr>
          <p:spPr>
            <a:xfrm>
              <a:off x="609480" y="3657600"/>
              <a:ext cx="3733920" cy="243828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Ч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Обучает приемам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Знаком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 новым материа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54"/>
            <p:cNvSpPr/>
            <p:nvPr/>
          </p:nvSpPr>
          <p:spPr>
            <a:xfrm flipV="1">
              <a:off x="3048120" y="2742840"/>
              <a:ext cx="9144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5"/>
            <p:cNvSpPr/>
            <p:nvPr/>
          </p:nvSpPr>
          <p:spPr>
            <a:xfrm>
              <a:off x="4724280" y="3657600"/>
              <a:ext cx="3810240" cy="24382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ff"/>
                  </a:solidFill>
                  <a:latin typeface="Arial"/>
                </a:rPr>
                <a:t>Контролирует усво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ff"/>
                  </a:solidFill>
                  <a:latin typeface="Arial"/>
                </a:rPr>
                <a:t>учебного материа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ff"/>
                  </a:solidFill>
                  <a:latin typeface="Arial"/>
                </a:rPr>
                <a:t>Закрепляет 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3333ff"/>
                  </a:solidFill>
                  <a:latin typeface="Arial"/>
                </a:rPr>
                <a:t>и навыки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56"/>
            <p:cNvSpPr/>
            <p:nvPr/>
          </p:nvSpPr>
          <p:spPr>
            <a:xfrm>
              <a:off x="3048120" y="1143000"/>
              <a:ext cx="3047760" cy="16700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ЧЕ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учить ребенка учиться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Monotype Corsiva"/>
              </a:rPr>
              <a:t>Помощь детя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Monotype Corsiva"/>
              </a:rPr>
              <a:t>должна быть эффективной, грамотной и должна идти в трех направл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1ea0"/>
                </a:solidFill>
                <a:latin typeface="Monotype Corsiva"/>
              </a:rPr>
              <a:t>-организация режима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1ea0"/>
                </a:solidFill>
                <a:latin typeface="Monotype Corsiva"/>
              </a:rPr>
              <a:t>-контроль за выполнением домашних за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1ea0"/>
                </a:solidFill>
                <a:latin typeface="Monotype Corsiva"/>
              </a:rPr>
              <a:t>-приучение детей к самосто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498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2aa2"/>
                </a:solidFill>
                <a:latin typeface="Arial"/>
              </a:rPr>
              <a:t>позволяет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Легче справиться с учебной нагруз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ащищает нервную систему от переуто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92aa2"/>
                </a:solidFill>
                <a:latin typeface="Monotype Corsiva"/>
              </a:rPr>
              <a:t>Составьте вместе распорядок дня, а затем следите за выполн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d135"/>
                </a:solidFill>
                <a:latin typeface="Monotype Corsiva"/>
              </a:rPr>
              <a:t>Точный распорядок занятий – это основа люб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Monotype Corsiva"/>
              </a:rPr>
              <a:t>Необходимо, чтобы в режим дня было включено ежедневное чтение кн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Monotype Corsiva"/>
              </a:rPr>
              <a:t>Важный вопрос в организации режима дня – организация досуг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1219320" y="228600"/>
            <a:ext cx="670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ация режима дн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Monotype Corsiva"/>
              </a:rPr>
              <a:t>Контроль должен быть систематиче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Важный момент – выработка привычки к неукоснительному выполнению домашни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Monotype Corsiva"/>
              </a:rPr>
              <a:t>Уроки должны быть выполнены, и выполнены хорош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Ребенок должен садиться за уроки в один и тот же час (постоянное время занят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Monotype Corsiva"/>
              </a:rPr>
              <a:t>Место для выполнения домашней работы должно быть постоя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Monotype Corsiva"/>
              </a:rPr>
              <a:t>Помощь детям должна быть своев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380880" y="152280"/>
            <a:ext cx="8610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троль за выполнением домашних заданий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 работе с детьми важно не натаскивать их в отдельных умениях и навыках, а учить их размышлять самостоятельно, анализировать, доказывать, обращаясь к вам за советом и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чательно, если ребенок может объяснить те действия, которые он выполня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ля младших школьников характерно, что они сначала что-то делают, а потом ду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Необходимо приучать детей к планированию предстоящ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80880" y="304920"/>
            <a:ext cx="8458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троль за выполнением домашних заданий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Z</cp:lastModifiedBy>
  <dcterms:modified xsi:type="dcterms:W3CDTF">2015-01-03T05:43:10Z</dcterms:modified>
  <cp:revision>57</cp:revision>
  <dc:subject/>
  <dc:title>PowerPoint Template</dc:title>
</cp:coreProperties>
</file>