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0C7-DF41-4610-83DC-D7DF3232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36C-013D-49FC-B320-3E446C3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08D-8E63-4D41-AB4F-83B0928C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3B8-AB3E-4FED-A307-08993143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3B8-EF9A-4240-96B4-E5DFF676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515-F7CA-4146-87F4-0F23FC5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CFE-5E3E-4F03-A32C-DC252D99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CC5-428A-4427-AD59-22E014AE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80C-DF93-475A-BF42-A0C1684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E9B-AD46-401C-912B-8155105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EDB-F9A5-4E82-B4DF-1B9E25D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D46-FD50-4647-84E9-9963DAA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302-B671-4D92-8D07-338B64A42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1800" y="2602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 экологии 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р цвет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43700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студентка 4 курса группы До11сс19 Романова Анастасия Серге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4"/>
          <p:cNvSpPr/>
          <p:nvPr/>
        </p:nvSpPr>
        <p:spPr>
          <a:xfrm>
            <a:off x="4200480" y="2205000"/>
            <a:ext cx="792360" cy="14436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903240" y="42926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«Мир цв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064120" y="420048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стенгаз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возврат 7"/>
          <p:cNvSpPr/>
          <p:nvPr/>
        </p:nvSpPr>
        <p:spPr>
          <a:xfrm>
            <a:off x="7601040" y="567216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8366"/>
                </a:moveTo>
                <a:lnTo>
                  <a:pt x="7301" y="8366"/>
                </a:lnTo>
                <a:lnTo>
                  <a:pt x="7301" y="13701"/>
                </a:lnTo>
                <a:cubicBezTo>
                  <a:pt x="7301" y="14624"/>
                  <a:pt x="8102" y="15355"/>
                  <a:pt x="9138" y="15355"/>
                </a:cubicBezTo>
                <a:lnTo>
                  <a:pt x="10800" y="15355"/>
                </a:lnTo>
                <a:cubicBezTo>
                  <a:pt x="11836" y="15355"/>
                  <a:pt x="12636" y="14624"/>
                  <a:pt x="12636" y="13701"/>
                </a:cubicBezTo>
                <a:lnTo>
                  <a:pt x="12636" y="8366"/>
                </a:lnTo>
                <a:lnTo>
                  <a:pt x="10800" y="8366"/>
                </a:lnTo>
                <a:lnTo>
                  <a:pt x="14308" y="4858"/>
                </a:lnTo>
                <a:lnTo>
                  <a:pt x="17981" y="8366"/>
                </a:lnTo>
                <a:lnTo>
                  <a:pt x="16144" y="8366"/>
                </a:lnTo>
                <a:lnTo>
                  <a:pt x="16144" y="13701"/>
                </a:lnTo>
                <a:cubicBezTo>
                  <a:pt x="16144" y="16469"/>
                  <a:pt x="13568" y="19028"/>
                  <a:pt x="10800" y="19028"/>
                </a:cubicBezTo>
                <a:lnTo>
                  <a:pt x="9138" y="19028"/>
                </a:lnTo>
                <a:cubicBezTo>
                  <a:pt x="6370" y="19028"/>
                  <a:pt x="3794" y="16469"/>
                  <a:pt x="3794" y="13701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5381640" y="1800360"/>
            <a:ext cx="3460680" cy="206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Диаграмма 5"/>
          <p:cNvGraphicFramePr/>
          <p:nvPr/>
        </p:nvGraphicFramePr>
        <p:xfrm>
          <a:off x="399960" y="1417680"/>
          <a:ext cx="8217000" cy="42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417680"/>
                    <a:ext cx="821700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6"/>
          <p:cNvSpPr/>
          <p:nvPr/>
        </p:nvSpPr>
        <p:spPr>
          <a:xfrm>
            <a:off x="1704600" y="76500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деятельност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740720" y="5877000"/>
            <a:ext cx="439560" cy="447480"/>
          </a:xfrm>
          <a:custGeom>
            <a:avLst/>
            <a:gdLst>
              <a:gd name="textAreaLeft" fmla="*/ 28440 w 439560"/>
              <a:gd name="textAreaRight" fmla="*/ 411120 w 439560"/>
              <a:gd name="textAreaTop" fmla="*/ 28440 h 447480"/>
              <a:gd name="textAreaBottom" fmla="*/ 419040 h 44748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7020000" y="5892840"/>
            <a:ext cx="425520" cy="431640"/>
          </a:xfrm>
          <a:custGeom>
            <a:avLst/>
            <a:gdLst>
              <a:gd name="textAreaLeft" fmla="*/ 27360 w 425520"/>
              <a:gd name="textAreaRight" fmla="*/ 398160 w 425520"/>
              <a:gd name="textAreaTop" fmla="*/ 27360 h 431640"/>
              <a:gd name="textAreaBottom" fmla="*/ 404280 h 431640"/>
            </a:gdLst>
            <a:ahLst/>
            <a:rect l="textAreaLeft" t="textAreaTop" r="textAreaRight" b="textAreaBottom"/>
            <a:pathLst>
              <a:path w="21600" h="21910">
                <a:moveTo>
                  <a:pt x="0" y="0"/>
                </a:moveTo>
                <a:lnTo>
                  <a:pt x="21600" y="0"/>
                </a:lnTo>
                <a:lnTo>
                  <a:pt x="21600" y="21910"/>
                </a:lnTo>
                <a:lnTo>
                  <a:pt x="0" y="21910"/>
                </a:lnTo>
                <a:close/>
              </a:path>
              <a:path fill="lightenLess" w="21600" h="219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10">
                <a:moveTo>
                  <a:pt x="21600" y="0"/>
                </a:moveTo>
                <a:lnTo>
                  <a:pt x="21600" y="21910"/>
                </a:lnTo>
                <a:lnTo>
                  <a:pt x="20200" y="20510"/>
                </a:lnTo>
                <a:lnTo>
                  <a:pt x="20200" y="1400"/>
                </a:lnTo>
                <a:close/>
              </a:path>
              <a:path fill="darkenLess" w="21600" h="21910">
                <a:moveTo>
                  <a:pt x="21600" y="21910"/>
                </a:moveTo>
                <a:lnTo>
                  <a:pt x="0" y="21910"/>
                </a:lnTo>
                <a:lnTo>
                  <a:pt x="1400" y="20510"/>
                </a:lnTo>
                <a:lnTo>
                  <a:pt x="20200" y="20510"/>
                </a:lnTo>
                <a:close/>
              </a:path>
              <a:path fill="lighten" w="21600" h="21910">
                <a:moveTo>
                  <a:pt x="0" y="219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10"/>
                </a:lnTo>
                <a:close/>
              </a:path>
              <a:path fill="darken" w="21600" h="21910">
                <a:moveTo>
                  <a:pt x="3794" y="10955"/>
                </a:moveTo>
                <a:lnTo>
                  <a:pt x="17806" y="3949"/>
                </a:lnTo>
                <a:lnTo>
                  <a:pt x="17806" y="17962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872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зультаты деятельности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Диаграмма 2"/>
          <p:cNvGraphicFramePr/>
          <p:nvPr/>
        </p:nvGraphicFramePr>
        <p:xfrm>
          <a:off x="811080" y="1236600"/>
          <a:ext cx="680724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236600"/>
                    <a:ext cx="68072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546200" y="5950080"/>
            <a:ext cx="503280" cy="417240"/>
          </a:xfrm>
          <a:custGeom>
            <a:avLst/>
            <a:gdLst>
              <a:gd name="textAreaLeft" fmla="*/ 27000 w 503280"/>
              <a:gd name="textAreaRight" fmla="*/ 476280 w 50328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6050" h="21600">
                <a:moveTo>
                  <a:pt x="0" y="0"/>
                </a:moveTo>
                <a:lnTo>
                  <a:pt x="26050" y="0"/>
                </a:lnTo>
                <a:lnTo>
                  <a:pt x="26050" y="21600"/>
                </a:lnTo>
                <a:lnTo>
                  <a:pt x="0" y="21600"/>
                </a:lnTo>
                <a:close/>
              </a:path>
              <a:path fill="lightenLess" w="26050" h="21600">
                <a:moveTo>
                  <a:pt x="0" y="0"/>
                </a:moveTo>
                <a:lnTo>
                  <a:pt x="26050" y="0"/>
                </a:lnTo>
                <a:lnTo>
                  <a:pt x="24650" y="1400"/>
                </a:lnTo>
                <a:lnTo>
                  <a:pt x="1400" y="1400"/>
                </a:lnTo>
                <a:close/>
              </a:path>
              <a:path fill="darken" w="26050" h="21600">
                <a:moveTo>
                  <a:pt x="26050" y="0"/>
                </a:moveTo>
                <a:lnTo>
                  <a:pt x="26050" y="21600"/>
                </a:lnTo>
                <a:lnTo>
                  <a:pt x="24650" y="20200"/>
                </a:lnTo>
                <a:lnTo>
                  <a:pt x="24650" y="1400"/>
                </a:lnTo>
                <a:close/>
              </a:path>
              <a:path fill="darkenLess" w="26050" h="21600">
                <a:moveTo>
                  <a:pt x="2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0" y="20200"/>
                </a:lnTo>
                <a:close/>
              </a:path>
              <a:path fill="lighten" w="2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0" h="21600">
                <a:moveTo>
                  <a:pt x="6019" y="3794"/>
                </a:moveTo>
                <a:lnTo>
                  <a:pt x="20032" y="10800"/>
                </a:lnTo>
                <a:lnTo>
                  <a:pt x="6019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900000" y="5950080"/>
            <a:ext cx="432000" cy="417240"/>
          </a:xfrm>
          <a:custGeom>
            <a:avLst/>
            <a:gdLst>
              <a:gd name="textAreaLeft" fmla="*/ 27000 w 432000"/>
              <a:gd name="textAreaRight" fmla="*/ 405000 w 4320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363" h="21600">
                <a:moveTo>
                  <a:pt x="0" y="0"/>
                </a:moveTo>
                <a:lnTo>
                  <a:pt x="22363" y="0"/>
                </a:lnTo>
                <a:lnTo>
                  <a:pt x="22363" y="21600"/>
                </a:lnTo>
                <a:lnTo>
                  <a:pt x="0" y="21600"/>
                </a:lnTo>
                <a:close/>
              </a:path>
              <a:path fill="lightenLess" w="22363" h="21600">
                <a:moveTo>
                  <a:pt x="0" y="0"/>
                </a:moveTo>
                <a:lnTo>
                  <a:pt x="22363" y="0"/>
                </a:lnTo>
                <a:lnTo>
                  <a:pt x="20963" y="1400"/>
                </a:lnTo>
                <a:lnTo>
                  <a:pt x="1400" y="1400"/>
                </a:lnTo>
                <a:close/>
              </a:path>
              <a:path fill="darken" w="22363" h="21600">
                <a:moveTo>
                  <a:pt x="22363" y="0"/>
                </a:moveTo>
                <a:lnTo>
                  <a:pt x="22363" y="21600"/>
                </a:lnTo>
                <a:lnTo>
                  <a:pt x="20963" y="20200"/>
                </a:lnTo>
                <a:lnTo>
                  <a:pt x="20963" y="1400"/>
                </a:lnTo>
                <a:close/>
              </a:path>
              <a:path fill="darkenLess" w="22363" h="21600">
                <a:moveTo>
                  <a:pt x="223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3" y="20200"/>
                </a:lnTo>
                <a:close/>
              </a:path>
              <a:path fill="lighten" w="223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3" h="21600">
                <a:moveTo>
                  <a:pt x="4175" y="10800"/>
                </a:moveTo>
                <a:lnTo>
                  <a:pt x="18188" y="3794"/>
                </a:lnTo>
                <a:lnTo>
                  <a:pt x="18188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295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9600" spc="-1" strike="noStrike">
                <a:solidFill>
                  <a:srgbClr val="00b050"/>
                </a:solidFill>
                <a:latin typeface="Georgia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Диаграмма 1"/>
          <p:cNvGraphicFramePr/>
          <p:nvPr/>
        </p:nvGraphicFramePr>
        <p:xfrm>
          <a:off x="1208160" y="1041480"/>
          <a:ext cx="680724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041480"/>
                    <a:ext cx="68072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624800" y="573264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6889680" y="5732640"/>
            <a:ext cx="549360" cy="576000"/>
          </a:xfrm>
          <a:custGeom>
            <a:avLst/>
            <a:gdLst>
              <a:gd name="textAreaLeft" fmla="*/ 35280 w 549360"/>
              <a:gd name="textAreaRight" fmla="*/ 514080 w 549360"/>
              <a:gd name="textAreaTop" fmla="*/ 35280 h 576000"/>
              <a:gd name="textAreaBottom" fmla="*/ 540720 h 576000"/>
            </a:gdLst>
            <a:ahLst/>
            <a:rect l="textAreaLeft" t="textAreaTop" r="textAreaRight" b="textAreaBottom"/>
            <a:pathLst>
              <a:path w="21600" h="22647">
                <a:moveTo>
                  <a:pt x="0" y="0"/>
                </a:moveTo>
                <a:lnTo>
                  <a:pt x="21600" y="0"/>
                </a:lnTo>
                <a:lnTo>
                  <a:pt x="21600" y="22647"/>
                </a:lnTo>
                <a:lnTo>
                  <a:pt x="0" y="22647"/>
                </a:lnTo>
                <a:close/>
              </a:path>
              <a:path fill="lightenLess" w="21600" h="22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7">
                <a:moveTo>
                  <a:pt x="21600" y="0"/>
                </a:moveTo>
                <a:lnTo>
                  <a:pt x="21600" y="22647"/>
                </a:lnTo>
                <a:lnTo>
                  <a:pt x="20200" y="21247"/>
                </a:lnTo>
                <a:lnTo>
                  <a:pt x="20200" y="1400"/>
                </a:lnTo>
                <a:close/>
              </a:path>
              <a:path fill="darkenLess" w="21600" h="22647">
                <a:moveTo>
                  <a:pt x="21600" y="22647"/>
                </a:moveTo>
                <a:lnTo>
                  <a:pt x="0" y="22647"/>
                </a:lnTo>
                <a:lnTo>
                  <a:pt x="1400" y="21247"/>
                </a:lnTo>
                <a:lnTo>
                  <a:pt x="20200" y="21247"/>
                </a:lnTo>
                <a:close/>
              </a:path>
              <a:path fill="lighten" w="21600" h="22647">
                <a:moveTo>
                  <a:pt x="0" y="22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7"/>
                </a:lnTo>
                <a:close/>
              </a:path>
              <a:path fill="darken" w="21600" h="22647">
                <a:moveTo>
                  <a:pt x="3794" y="11323"/>
                </a:moveTo>
                <a:lnTo>
                  <a:pt x="17806" y="4317"/>
                </a:lnTo>
                <a:lnTo>
                  <a:pt x="17806" y="1833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611360" y="89064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ть детям представление о цвет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вивать воображение, мышление, коммуникативные навы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спитывать бережное отношение к природе, привлечь родителей детей к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>
            <a:hlinkClick r:id="rId1" action="ppaction://hlinksldjump"/>
          </p:cNvPr>
          <p:cNvSpPr/>
          <p:nvPr/>
        </p:nvSpPr>
        <p:spPr>
          <a:xfrm>
            <a:off x="2357280" y="3038400"/>
            <a:ext cx="4537080" cy="576360"/>
          </a:xfrm>
          <a:prstGeom prst="rect">
            <a:avLst/>
          </a:prstGeom>
          <a:gradFill rotWithShape="0">
            <a:gsLst>
              <a:gs pos="0">
                <a:srgbClr val="b3a2c7"/>
              </a:gs>
              <a:gs pos="100000">
                <a:srgbClr val="cad9eb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40000" y="3821040"/>
            <a:ext cx="455436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78080" y="4619520"/>
            <a:ext cx="4554360" cy="592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777120" y="38768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79000" y="4732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639280" y="5877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19633" y="10800"/>
                </a:lnTo>
                <a:lnTo>
                  <a:pt x="5621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8099280" y="5877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70120" y="1773360"/>
            <a:ext cx="66247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 для детей: -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совместно с родителями принять участие в планировании проектной деятельности и распределении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 совместно с родителями принять участие в акции и в бес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 Совместно с родителями принять участие в созд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нгазеты. Презентовать рисунки «Цветы наши друз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142120" y="5732640"/>
            <a:ext cx="505080" cy="5108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10840"/>
              <a:gd name="textAreaBottom" fmla="*/ 478440 h 510840"/>
            </a:gdLst>
            <a:ahLst/>
            <a:rect l="textAreaLeft" t="textAreaTop" r="textAreaRight" b="textAreaBottom"/>
            <a:pathLst>
              <a:path w="21600" h="21846">
                <a:moveTo>
                  <a:pt x="0" y="0"/>
                </a:moveTo>
                <a:lnTo>
                  <a:pt x="21600" y="0"/>
                </a:lnTo>
                <a:lnTo>
                  <a:pt x="21600" y="21846"/>
                </a:lnTo>
                <a:lnTo>
                  <a:pt x="0" y="21846"/>
                </a:lnTo>
                <a:close/>
              </a:path>
              <a:path fill="lightenLess" w="21600" h="21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6">
                <a:moveTo>
                  <a:pt x="21600" y="0"/>
                </a:moveTo>
                <a:lnTo>
                  <a:pt x="21600" y="21846"/>
                </a:lnTo>
                <a:lnTo>
                  <a:pt x="20200" y="20446"/>
                </a:lnTo>
                <a:lnTo>
                  <a:pt x="20200" y="1400"/>
                </a:lnTo>
                <a:close/>
              </a:path>
              <a:path fill="darkenLess" w="21600" h="21846">
                <a:moveTo>
                  <a:pt x="21600" y="21846"/>
                </a:moveTo>
                <a:lnTo>
                  <a:pt x="0" y="21846"/>
                </a:lnTo>
                <a:lnTo>
                  <a:pt x="1400" y="20446"/>
                </a:lnTo>
                <a:lnTo>
                  <a:pt x="20200" y="20446"/>
                </a:lnTo>
                <a:close/>
              </a:path>
              <a:path fill="lighten" w="21600" h="21846">
                <a:moveTo>
                  <a:pt x="0" y="21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6"/>
                </a:lnTo>
                <a:close/>
              </a:path>
              <a:path fill="darken" w="21600" h="21846">
                <a:moveTo>
                  <a:pt x="3794" y="7616"/>
                </a:moveTo>
                <a:lnTo>
                  <a:pt x="7301" y="7616"/>
                </a:lnTo>
                <a:lnTo>
                  <a:pt x="7301" y="12951"/>
                </a:lnTo>
                <a:cubicBezTo>
                  <a:pt x="7301" y="13874"/>
                  <a:pt x="8102" y="14605"/>
                  <a:pt x="9138" y="14605"/>
                </a:cubicBezTo>
                <a:lnTo>
                  <a:pt x="10800" y="14605"/>
                </a:lnTo>
                <a:cubicBezTo>
                  <a:pt x="11836" y="14605"/>
                  <a:pt x="12636" y="13874"/>
                  <a:pt x="12636" y="12951"/>
                </a:cubicBezTo>
                <a:lnTo>
                  <a:pt x="12636" y="7616"/>
                </a:lnTo>
                <a:lnTo>
                  <a:pt x="10800" y="7616"/>
                </a:lnTo>
                <a:lnTo>
                  <a:pt x="14308" y="4108"/>
                </a:lnTo>
                <a:lnTo>
                  <a:pt x="17981" y="7616"/>
                </a:lnTo>
                <a:lnTo>
                  <a:pt x="16144" y="7616"/>
                </a:lnTo>
                <a:lnTo>
                  <a:pt x="16144" y="12951"/>
                </a:lnTo>
                <a:cubicBezTo>
                  <a:pt x="16144" y="15719"/>
                  <a:pt x="13568" y="18278"/>
                  <a:pt x="10800" y="18278"/>
                </a:cubicBezTo>
                <a:lnTo>
                  <a:pt x="9138" y="18278"/>
                </a:lnTo>
                <a:cubicBezTo>
                  <a:pt x="6370" y="18278"/>
                  <a:pt x="3794" y="15719"/>
                  <a:pt x="3794" y="12951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888320" y="5732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1835280" y="14032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 для родителей: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совместно с детьми принять участие в планировании проектной деятельности и распределен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местно с детьми принять участие в акции и бес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казать помощь детям в решении задач проек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богащение родительского опыта приё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 и сотрудничества с ребёнком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для педаг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7596360" y="5769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187280" y="1341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а для педагога: -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ый этап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организовать мероприятие по  планированию проектной деятельности и распределении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дготовить и провести акцию и беседу о пользе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существить организацию и необход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ирование в ходе достижения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904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>
            <a:hlinkClick r:id="rId1" action="ppaction://hlinksldjump"/>
          </p:cNvPr>
          <p:cNvSpPr/>
          <p:nvPr/>
        </p:nvSpPr>
        <p:spPr>
          <a:xfrm>
            <a:off x="2981880" y="2133720"/>
            <a:ext cx="35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одготов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>
            <a:hlinkClick r:id="rId3" action="ppaction://hlinksldjump"/>
          </p:cNvPr>
          <p:cNvSpPr/>
          <p:nvPr/>
        </p:nvSpPr>
        <p:spPr>
          <a:xfrm>
            <a:off x="3910320" y="286236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>
            <a:hlinkClick r:id="rId4" action="ppaction://hlinksldjump"/>
          </p:cNvPr>
          <p:cNvSpPr/>
          <p:nvPr/>
        </p:nvSpPr>
        <p:spPr>
          <a:xfrm>
            <a:off x="3307320" y="35164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мка 6"/>
          <p:cNvSpPr/>
          <p:nvPr/>
        </p:nvSpPr>
        <p:spPr>
          <a:xfrm>
            <a:off x="2916360" y="2133720"/>
            <a:ext cx="3887640" cy="503280"/>
          </a:xfrm>
          <a:custGeom>
            <a:avLst/>
            <a:gdLst/>
            <a:ahLst/>
            <a:rect l="l" t="t" r="r" b="b"/>
            <a:pathLst>
              <a:path w="3887787" h="503238">
                <a:moveTo>
                  <a:pt x="0" y="0"/>
                </a:moveTo>
                <a:lnTo>
                  <a:pt x="3887787" y="0"/>
                </a:lnTo>
                <a:lnTo>
                  <a:pt x="3887787" y="503238"/>
                </a:lnTo>
                <a:lnTo>
                  <a:pt x="0" y="503238"/>
                </a:lnTo>
                <a:lnTo>
                  <a:pt x="0" y="0"/>
                </a:lnTo>
                <a:close/>
                <a:moveTo>
                  <a:pt x="62905" y="62905"/>
                </a:moveTo>
                <a:lnTo>
                  <a:pt x="62905" y="440333"/>
                </a:lnTo>
                <a:lnTo>
                  <a:pt x="3824882" y="440333"/>
                </a:lnTo>
                <a:lnTo>
                  <a:pt x="3824882" y="62905"/>
                </a:lnTo>
                <a:lnTo>
                  <a:pt x="62905" y="62905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2925720" y="2841480"/>
            <a:ext cx="3908520" cy="52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2925720" y="3510000"/>
            <a:ext cx="3908520" cy="52380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732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3824"/>
                </a:moveTo>
                <a:lnTo>
                  <a:pt x="17806" y="10831"/>
                </a:lnTo>
                <a:lnTo>
                  <a:pt x="3794" y="17837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6626160" y="5732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050920" y="255096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собр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ов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ланированию и распределению ро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3"/>
          <p:cNvSpPr/>
          <p:nvPr/>
        </p:nvSpPr>
        <p:spPr>
          <a:xfrm>
            <a:off x="7693200" y="5589720"/>
            <a:ext cx="502920" cy="457200"/>
          </a:xfrm>
          <a:custGeom>
            <a:avLst/>
            <a:gdLst>
              <a:gd name="textAreaLeft" fmla="*/ 29520 w 502920"/>
              <a:gd name="textAreaRight" fmla="*/ 473400 w 50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758" h="21600">
                <a:moveTo>
                  <a:pt x="0" y="0"/>
                </a:moveTo>
                <a:lnTo>
                  <a:pt x="23758" y="0"/>
                </a:lnTo>
                <a:lnTo>
                  <a:pt x="23758" y="21600"/>
                </a:lnTo>
                <a:lnTo>
                  <a:pt x="0" y="21600"/>
                </a:lnTo>
                <a:close/>
              </a:path>
              <a:path fill="lightenLess" w="23758" h="21600">
                <a:moveTo>
                  <a:pt x="0" y="0"/>
                </a:moveTo>
                <a:lnTo>
                  <a:pt x="23758" y="0"/>
                </a:lnTo>
                <a:lnTo>
                  <a:pt x="22358" y="1400"/>
                </a:lnTo>
                <a:lnTo>
                  <a:pt x="1400" y="1400"/>
                </a:lnTo>
                <a:close/>
              </a:path>
              <a:path fill="darken" w="23758" h="21600">
                <a:moveTo>
                  <a:pt x="23758" y="0"/>
                </a:moveTo>
                <a:lnTo>
                  <a:pt x="23758" y="21600"/>
                </a:lnTo>
                <a:lnTo>
                  <a:pt x="22358" y="20200"/>
                </a:lnTo>
                <a:lnTo>
                  <a:pt x="22358" y="1400"/>
                </a:lnTo>
                <a:close/>
              </a:path>
              <a:path fill="darkenLess" w="23758" h="21600">
                <a:moveTo>
                  <a:pt x="23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8" y="20200"/>
                </a:lnTo>
                <a:close/>
              </a:path>
              <a:path fill="lighten" w="23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8" h="21600">
                <a:moveTo>
                  <a:pt x="4873" y="7493"/>
                </a:moveTo>
                <a:lnTo>
                  <a:pt x="8380" y="7493"/>
                </a:lnTo>
                <a:lnTo>
                  <a:pt x="8380" y="12828"/>
                </a:lnTo>
                <a:cubicBezTo>
                  <a:pt x="8380" y="13751"/>
                  <a:pt x="9181" y="14482"/>
                  <a:pt x="10217" y="14482"/>
                </a:cubicBezTo>
                <a:lnTo>
                  <a:pt x="11879" y="14482"/>
                </a:lnTo>
                <a:cubicBezTo>
                  <a:pt x="12915" y="14482"/>
                  <a:pt x="13716" y="13751"/>
                  <a:pt x="13716" y="12828"/>
                </a:cubicBezTo>
                <a:lnTo>
                  <a:pt x="13716" y="7493"/>
                </a:lnTo>
                <a:lnTo>
                  <a:pt x="11879" y="7493"/>
                </a:lnTo>
                <a:lnTo>
                  <a:pt x="15387" y="3985"/>
                </a:lnTo>
                <a:lnTo>
                  <a:pt x="19060" y="7493"/>
                </a:lnTo>
                <a:lnTo>
                  <a:pt x="17223" y="7493"/>
                </a:lnTo>
                <a:lnTo>
                  <a:pt x="17223" y="12828"/>
                </a:lnTo>
                <a:cubicBezTo>
                  <a:pt x="17223" y="15596"/>
                  <a:pt x="14647" y="18155"/>
                  <a:pt x="11879" y="18155"/>
                </a:cubicBezTo>
                <a:lnTo>
                  <a:pt x="10217" y="18155"/>
                </a:lnTo>
                <a:cubicBezTo>
                  <a:pt x="7449" y="18155"/>
                  <a:pt x="4873" y="15596"/>
                  <a:pt x="4873" y="12828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740120" y="1349280"/>
            <a:ext cx="3275280" cy="218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07960" y="249228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146400" y="1778040"/>
            <a:ext cx="2735280" cy="1824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932760" y="43387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902040" y="38703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и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ов и стен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6483240" y="30592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выстав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возврат 5"/>
          <p:cNvSpPr/>
          <p:nvPr/>
        </p:nvSpPr>
        <p:spPr>
          <a:xfrm>
            <a:off x="6586560" y="5724360"/>
            <a:ext cx="503280" cy="513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13000"/>
              <a:gd name="textAreaBottom" fmla="*/ 480600 h 513000"/>
            </a:gdLst>
            <a:ahLst/>
            <a:rect l="textAreaLeft" t="textAreaTop" r="textAreaRight" b="textAreaBottom"/>
            <a:pathLst>
              <a:path w="21600" h="22017">
                <a:moveTo>
                  <a:pt x="0" y="0"/>
                </a:moveTo>
                <a:lnTo>
                  <a:pt x="21600" y="0"/>
                </a:lnTo>
                <a:lnTo>
                  <a:pt x="21600" y="22017"/>
                </a:lnTo>
                <a:lnTo>
                  <a:pt x="0" y="22017"/>
                </a:lnTo>
                <a:close/>
              </a:path>
              <a:path fill="lightenLess" w="21600" h="220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17">
                <a:moveTo>
                  <a:pt x="21600" y="0"/>
                </a:moveTo>
                <a:lnTo>
                  <a:pt x="21600" y="22017"/>
                </a:lnTo>
                <a:lnTo>
                  <a:pt x="20200" y="20617"/>
                </a:lnTo>
                <a:lnTo>
                  <a:pt x="20200" y="1400"/>
                </a:lnTo>
                <a:close/>
              </a:path>
              <a:path fill="darkenLess" w="21600" h="22017">
                <a:moveTo>
                  <a:pt x="21600" y="22017"/>
                </a:moveTo>
                <a:lnTo>
                  <a:pt x="0" y="22017"/>
                </a:lnTo>
                <a:lnTo>
                  <a:pt x="1400" y="20617"/>
                </a:lnTo>
                <a:lnTo>
                  <a:pt x="20200" y="20617"/>
                </a:lnTo>
                <a:close/>
              </a:path>
              <a:path fill="lighten" w="21600" h="22017">
                <a:moveTo>
                  <a:pt x="0" y="220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17"/>
                </a:lnTo>
                <a:close/>
              </a:path>
              <a:path fill="darken" w="21600" h="22017">
                <a:moveTo>
                  <a:pt x="3794" y="7701"/>
                </a:moveTo>
                <a:lnTo>
                  <a:pt x="7301" y="7701"/>
                </a:lnTo>
                <a:lnTo>
                  <a:pt x="7301" y="13036"/>
                </a:lnTo>
                <a:cubicBezTo>
                  <a:pt x="7301" y="13959"/>
                  <a:pt x="8102" y="14690"/>
                  <a:pt x="9138" y="14690"/>
                </a:cubicBezTo>
                <a:lnTo>
                  <a:pt x="10800" y="14690"/>
                </a:lnTo>
                <a:cubicBezTo>
                  <a:pt x="11836" y="14690"/>
                  <a:pt x="12636" y="13959"/>
                  <a:pt x="12636" y="13036"/>
                </a:cubicBezTo>
                <a:lnTo>
                  <a:pt x="12636" y="7701"/>
                </a:lnTo>
                <a:lnTo>
                  <a:pt x="10800" y="7701"/>
                </a:lnTo>
                <a:lnTo>
                  <a:pt x="14308" y="4193"/>
                </a:lnTo>
                <a:lnTo>
                  <a:pt x="17981" y="7701"/>
                </a:lnTo>
                <a:lnTo>
                  <a:pt x="16144" y="7701"/>
                </a:lnTo>
                <a:lnTo>
                  <a:pt x="16144" y="13036"/>
                </a:lnTo>
                <a:cubicBezTo>
                  <a:pt x="16144" y="15804"/>
                  <a:pt x="13568" y="18363"/>
                  <a:pt x="10800" y="18363"/>
                </a:cubicBezTo>
                <a:lnTo>
                  <a:pt x="9138" y="18363"/>
                </a:lnTo>
                <a:cubicBezTo>
                  <a:pt x="6370" y="18363"/>
                  <a:pt x="3794" y="15804"/>
                  <a:pt x="3794" y="13036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5989680" y="1262160"/>
            <a:ext cx="287964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Анастасия</cp:lastModifiedBy>
  <dcterms:modified xsi:type="dcterms:W3CDTF">2022-11-16T05:19:07Z</dcterms:modified>
  <cp:revision>258</cp:revision>
  <dc:subject/>
  <dc:title>Слайд 1</dc:title>
</cp:coreProperties>
</file>