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9C6-855B-40E6-8C30-1C020F06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4727-3AB2-448E-A40B-BB0D405B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593-D125-45A6-96B0-995DA624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6D6-5324-4284-8728-FEA68DAA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FEE-4B04-4E90-987D-D2992FFE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188-F88B-4DDF-86D9-89EDB7B1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354-3AC6-4DAC-A595-AA5AC7D6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F4A-F335-4597-823B-0259E89C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19E-FCAC-47AA-BA61-0409C3B1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175-5A00-4499-B1B6-78B12C1D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A68-3068-434A-A419-979DAE03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CE6-3DC9-4462-8A37-E140BE15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F5AF-19BF-4793-B2D4-F8E64EEF4C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1800" y="2602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о экологии </a:t>
            </a: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ир цвето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443700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студентка 4 курса группы До11сс19 Романова Анастасия Сергеев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ительн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240000" cy="2160720"/>
          </a:xfrm>
          <a:prstGeom prst="rect">
            <a:avLst/>
          </a:prstGeom>
          <a:ln w="0">
            <a:noFill/>
          </a:ln>
        </p:spPr>
      </p:pic>
      <p:sp>
        <p:nvSpPr>
          <p:cNvPr id="88" name="Стрелка вправо 4"/>
          <p:cNvSpPr/>
          <p:nvPr/>
        </p:nvSpPr>
        <p:spPr>
          <a:xfrm>
            <a:off x="4200480" y="2205000"/>
            <a:ext cx="792360" cy="144360"/>
          </a:xfrm>
          <a:prstGeom prst="rightArrow">
            <a:avLst>
              <a:gd name="adj1" fmla="val 50000"/>
              <a:gd name="adj2" fmla="val 50060"/>
            </a:avLst>
          </a:prstGeom>
          <a:solidFill>
            <a:srgbClr val="d99694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903240" y="429264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«Мир цве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5219640" y="3035160"/>
            <a:ext cx="29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стенгаз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авка рисун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правляющая кнопка: возврат 7"/>
          <p:cNvSpPr/>
          <p:nvPr/>
        </p:nvSpPr>
        <p:spPr>
          <a:xfrm>
            <a:off x="7601040" y="567216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3794" y="8366"/>
                </a:moveTo>
                <a:lnTo>
                  <a:pt x="7301" y="8366"/>
                </a:lnTo>
                <a:lnTo>
                  <a:pt x="7301" y="13701"/>
                </a:lnTo>
                <a:cubicBezTo>
                  <a:pt x="7301" y="14624"/>
                  <a:pt x="8102" y="15355"/>
                  <a:pt x="9138" y="15355"/>
                </a:cubicBezTo>
                <a:lnTo>
                  <a:pt x="10800" y="15355"/>
                </a:lnTo>
                <a:cubicBezTo>
                  <a:pt x="11836" y="15355"/>
                  <a:pt x="12636" y="14624"/>
                  <a:pt x="12636" y="13701"/>
                </a:cubicBezTo>
                <a:lnTo>
                  <a:pt x="12636" y="8366"/>
                </a:lnTo>
                <a:lnTo>
                  <a:pt x="10800" y="8366"/>
                </a:lnTo>
                <a:lnTo>
                  <a:pt x="14308" y="4858"/>
                </a:lnTo>
                <a:lnTo>
                  <a:pt x="17981" y="8366"/>
                </a:lnTo>
                <a:lnTo>
                  <a:pt x="16144" y="8366"/>
                </a:lnTo>
                <a:lnTo>
                  <a:pt x="16144" y="13701"/>
                </a:lnTo>
                <a:cubicBezTo>
                  <a:pt x="16144" y="16469"/>
                  <a:pt x="13568" y="19028"/>
                  <a:pt x="10800" y="19028"/>
                </a:cubicBezTo>
                <a:lnTo>
                  <a:pt x="9138" y="19028"/>
                </a:lnTo>
                <a:cubicBezTo>
                  <a:pt x="6370" y="19028"/>
                  <a:pt x="3794" y="16469"/>
                  <a:pt x="3794" y="13701"/>
                </a:cubicBez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"/>
          <p:cNvPicPr/>
          <p:nvPr/>
        </p:nvPicPr>
        <p:blipFill>
          <a:blip r:embed="rId2"/>
          <a:stretch/>
        </p:blipFill>
        <p:spPr>
          <a:xfrm>
            <a:off x="5369040" y="1224000"/>
            <a:ext cx="2975040" cy="17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5535720" y="3672000"/>
            <a:ext cx="252072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Диаграмма 5"/>
          <p:cNvGraphicFramePr/>
          <p:nvPr/>
        </p:nvGraphicFramePr>
        <p:xfrm>
          <a:off x="349200" y="1366920"/>
          <a:ext cx="8318520" cy="43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366920"/>
                    <a:ext cx="831852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Box 6"/>
          <p:cNvSpPr/>
          <p:nvPr/>
        </p:nvSpPr>
        <p:spPr>
          <a:xfrm>
            <a:off x="1704600" y="765000"/>
            <a:ext cx="557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деятельности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740720" y="5877000"/>
            <a:ext cx="439560" cy="447480"/>
          </a:xfrm>
          <a:custGeom>
            <a:avLst/>
            <a:gdLst>
              <a:gd name="textAreaLeft" fmla="*/ 28440 w 439560"/>
              <a:gd name="textAreaRight" fmla="*/ 411120 w 439560"/>
              <a:gd name="textAreaTop" fmla="*/ 28440 h 447480"/>
              <a:gd name="textAreaBottom" fmla="*/ 419040 h 44748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7020000" y="5892840"/>
            <a:ext cx="425520" cy="431640"/>
          </a:xfrm>
          <a:custGeom>
            <a:avLst/>
            <a:gdLst>
              <a:gd name="textAreaLeft" fmla="*/ 27360 w 425520"/>
              <a:gd name="textAreaRight" fmla="*/ 398160 w 425520"/>
              <a:gd name="textAreaTop" fmla="*/ 27360 h 431640"/>
              <a:gd name="textAreaBottom" fmla="*/ 404280 h 431640"/>
            </a:gdLst>
            <a:ahLst/>
            <a:rect l="textAreaLeft" t="textAreaTop" r="textAreaRight" b="textAreaBottom"/>
            <a:pathLst>
              <a:path w="21600" h="21910">
                <a:moveTo>
                  <a:pt x="0" y="0"/>
                </a:moveTo>
                <a:lnTo>
                  <a:pt x="21600" y="0"/>
                </a:lnTo>
                <a:lnTo>
                  <a:pt x="21600" y="21910"/>
                </a:lnTo>
                <a:lnTo>
                  <a:pt x="0" y="21910"/>
                </a:lnTo>
                <a:close/>
              </a:path>
              <a:path fill="lightenLess" w="21600" h="219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10">
                <a:moveTo>
                  <a:pt x="21600" y="0"/>
                </a:moveTo>
                <a:lnTo>
                  <a:pt x="21600" y="21910"/>
                </a:lnTo>
                <a:lnTo>
                  <a:pt x="20200" y="20510"/>
                </a:lnTo>
                <a:lnTo>
                  <a:pt x="20200" y="1400"/>
                </a:lnTo>
                <a:close/>
              </a:path>
              <a:path fill="darkenLess" w="21600" h="21910">
                <a:moveTo>
                  <a:pt x="21600" y="21910"/>
                </a:moveTo>
                <a:lnTo>
                  <a:pt x="0" y="21910"/>
                </a:lnTo>
                <a:lnTo>
                  <a:pt x="1400" y="20510"/>
                </a:lnTo>
                <a:lnTo>
                  <a:pt x="20200" y="20510"/>
                </a:lnTo>
                <a:close/>
              </a:path>
              <a:path fill="lighten" w="21600" h="21910">
                <a:moveTo>
                  <a:pt x="0" y="219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10"/>
                </a:lnTo>
                <a:close/>
              </a:path>
              <a:path fill="darken" w="21600" h="21910">
                <a:moveTo>
                  <a:pt x="3794" y="10955"/>
                </a:moveTo>
                <a:lnTo>
                  <a:pt x="17806" y="3949"/>
                </a:lnTo>
                <a:lnTo>
                  <a:pt x="17806" y="17962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872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зультаты деятельности родите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Диаграмма 2"/>
          <p:cNvGraphicFramePr/>
          <p:nvPr/>
        </p:nvGraphicFramePr>
        <p:xfrm>
          <a:off x="760320" y="1185840"/>
          <a:ext cx="6908760" cy="49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1185840"/>
                    <a:ext cx="690876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1546200" y="5950080"/>
            <a:ext cx="503280" cy="417240"/>
          </a:xfrm>
          <a:custGeom>
            <a:avLst/>
            <a:gdLst>
              <a:gd name="textAreaLeft" fmla="*/ 27000 w 503280"/>
              <a:gd name="textAreaRight" fmla="*/ 476280 w 503280"/>
              <a:gd name="textAreaTop" fmla="*/ 27000 h 417240"/>
              <a:gd name="textAreaBottom" fmla="*/ 390240 h 417240"/>
            </a:gdLst>
            <a:ahLst/>
            <a:rect l="textAreaLeft" t="textAreaTop" r="textAreaRight" b="textAreaBottom"/>
            <a:pathLst>
              <a:path w="26050" h="21600">
                <a:moveTo>
                  <a:pt x="0" y="0"/>
                </a:moveTo>
                <a:lnTo>
                  <a:pt x="26050" y="0"/>
                </a:lnTo>
                <a:lnTo>
                  <a:pt x="26050" y="21600"/>
                </a:lnTo>
                <a:lnTo>
                  <a:pt x="0" y="21600"/>
                </a:lnTo>
                <a:close/>
              </a:path>
              <a:path fill="lightenLess" w="26050" h="21600">
                <a:moveTo>
                  <a:pt x="0" y="0"/>
                </a:moveTo>
                <a:lnTo>
                  <a:pt x="26050" y="0"/>
                </a:lnTo>
                <a:lnTo>
                  <a:pt x="24650" y="1400"/>
                </a:lnTo>
                <a:lnTo>
                  <a:pt x="1400" y="1400"/>
                </a:lnTo>
                <a:close/>
              </a:path>
              <a:path fill="darken" w="26050" h="21600">
                <a:moveTo>
                  <a:pt x="26050" y="0"/>
                </a:moveTo>
                <a:lnTo>
                  <a:pt x="26050" y="21600"/>
                </a:lnTo>
                <a:lnTo>
                  <a:pt x="24650" y="20200"/>
                </a:lnTo>
                <a:lnTo>
                  <a:pt x="24650" y="1400"/>
                </a:lnTo>
                <a:close/>
              </a:path>
              <a:path fill="darkenLess" w="26050" h="21600">
                <a:moveTo>
                  <a:pt x="26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0" y="20200"/>
                </a:lnTo>
                <a:close/>
              </a:path>
              <a:path fill="lighten" w="26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0" h="21600">
                <a:moveTo>
                  <a:pt x="6019" y="3794"/>
                </a:moveTo>
                <a:lnTo>
                  <a:pt x="20032" y="10800"/>
                </a:lnTo>
                <a:lnTo>
                  <a:pt x="6019" y="17806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900000" y="5950080"/>
            <a:ext cx="432000" cy="417240"/>
          </a:xfrm>
          <a:custGeom>
            <a:avLst/>
            <a:gdLst>
              <a:gd name="textAreaLeft" fmla="*/ 27000 w 432000"/>
              <a:gd name="textAreaRight" fmla="*/ 405000 w 432000"/>
              <a:gd name="textAreaTop" fmla="*/ 27000 h 417240"/>
              <a:gd name="textAreaBottom" fmla="*/ 390240 h 417240"/>
            </a:gdLst>
            <a:ahLst/>
            <a:rect l="textAreaLeft" t="textAreaTop" r="textAreaRight" b="textAreaBottom"/>
            <a:pathLst>
              <a:path w="22363" h="21600">
                <a:moveTo>
                  <a:pt x="0" y="0"/>
                </a:moveTo>
                <a:lnTo>
                  <a:pt x="22363" y="0"/>
                </a:lnTo>
                <a:lnTo>
                  <a:pt x="22363" y="21600"/>
                </a:lnTo>
                <a:lnTo>
                  <a:pt x="0" y="21600"/>
                </a:lnTo>
                <a:close/>
              </a:path>
              <a:path fill="lightenLess" w="22363" h="21600">
                <a:moveTo>
                  <a:pt x="0" y="0"/>
                </a:moveTo>
                <a:lnTo>
                  <a:pt x="22363" y="0"/>
                </a:lnTo>
                <a:lnTo>
                  <a:pt x="20963" y="1400"/>
                </a:lnTo>
                <a:lnTo>
                  <a:pt x="1400" y="1400"/>
                </a:lnTo>
                <a:close/>
              </a:path>
              <a:path fill="darken" w="22363" h="21600">
                <a:moveTo>
                  <a:pt x="22363" y="0"/>
                </a:moveTo>
                <a:lnTo>
                  <a:pt x="22363" y="21600"/>
                </a:lnTo>
                <a:lnTo>
                  <a:pt x="20963" y="20200"/>
                </a:lnTo>
                <a:lnTo>
                  <a:pt x="20963" y="1400"/>
                </a:lnTo>
                <a:close/>
              </a:path>
              <a:path fill="darkenLess" w="22363" h="21600">
                <a:moveTo>
                  <a:pt x="223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3" y="20200"/>
                </a:lnTo>
                <a:close/>
              </a:path>
              <a:path fill="lighten" w="223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3" h="21600">
                <a:moveTo>
                  <a:pt x="4175" y="10800"/>
                </a:moveTo>
                <a:lnTo>
                  <a:pt x="18188" y="3794"/>
                </a:lnTo>
                <a:lnTo>
                  <a:pt x="18188" y="17806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295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ru-RU" sz="9600" spc="-1" strike="noStrike">
                <a:solidFill>
                  <a:srgbClr val="00b050"/>
                </a:solidFill>
                <a:latin typeface="Georgia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Диаграмма 1"/>
          <p:cNvGraphicFramePr/>
          <p:nvPr/>
        </p:nvGraphicFramePr>
        <p:xfrm>
          <a:off x="1157400" y="990720"/>
          <a:ext cx="690876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990720"/>
                    <a:ext cx="69087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7624800" y="573264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6889680" y="5732640"/>
            <a:ext cx="549360" cy="576000"/>
          </a:xfrm>
          <a:custGeom>
            <a:avLst/>
            <a:gdLst>
              <a:gd name="textAreaLeft" fmla="*/ 35280 w 549360"/>
              <a:gd name="textAreaRight" fmla="*/ 514080 w 549360"/>
              <a:gd name="textAreaTop" fmla="*/ 35280 h 576000"/>
              <a:gd name="textAreaBottom" fmla="*/ 540720 h 576000"/>
            </a:gdLst>
            <a:ahLst/>
            <a:rect l="textAreaLeft" t="textAreaTop" r="textAreaRight" b="textAreaBottom"/>
            <a:pathLst>
              <a:path w="21600" h="22647">
                <a:moveTo>
                  <a:pt x="0" y="0"/>
                </a:moveTo>
                <a:lnTo>
                  <a:pt x="21600" y="0"/>
                </a:lnTo>
                <a:lnTo>
                  <a:pt x="21600" y="22647"/>
                </a:lnTo>
                <a:lnTo>
                  <a:pt x="0" y="22647"/>
                </a:lnTo>
                <a:close/>
              </a:path>
              <a:path fill="lightenLess" w="21600" h="22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7">
                <a:moveTo>
                  <a:pt x="21600" y="0"/>
                </a:moveTo>
                <a:lnTo>
                  <a:pt x="21600" y="22647"/>
                </a:lnTo>
                <a:lnTo>
                  <a:pt x="20200" y="21247"/>
                </a:lnTo>
                <a:lnTo>
                  <a:pt x="20200" y="1400"/>
                </a:lnTo>
                <a:close/>
              </a:path>
              <a:path fill="darkenLess" w="21600" h="22647">
                <a:moveTo>
                  <a:pt x="21600" y="22647"/>
                </a:moveTo>
                <a:lnTo>
                  <a:pt x="0" y="22647"/>
                </a:lnTo>
                <a:lnTo>
                  <a:pt x="1400" y="21247"/>
                </a:lnTo>
                <a:lnTo>
                  <a:pt x="20200" y="21247"/>
                </a:lnTo>
                <a:close/>
              </a:path>
              <a:path fill="lighten" w="21600" h="22647">
                <a:moveTo>
                  <a:pt x="0" y="22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7"/>
                </a:lnTo>
                <a:close/>
              </a:path>
              <a:path fill="darken" w="21600" h="22647">
                <a:moveTo>
                  <a:pt x="3794" y="11323"/>
                </a:moveTo>
                <a:lnTo>
                  <a:pt x="17806" y="4317"/>
                </a:lnTo>
                <a:lnTo>
                  <a:pt x="17806" y="18330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и задач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611360" y="890640"/>
            <a:ext cx="60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ать детям представление о цвет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звивать воображение, мышление, коммуникативные навы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оспитывать бережное отношение к природе, привлечь родителей детей к реализации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>
            <a:hlinkClick r:id="rId1" action="ppaction://hlinksldjump"/>
          </p:cNvPr>
          <p:cNvSpPr/>
          <p:nvPr/>
        </p:nvSpPr>
        <p:spPr>
          <a:xfrm>
            <a:off x="2357280" y="3038400"/>
            <a:ext cx="4537080" cy="576360"/>
          </a:xfrm>
          <a:prstGeom prst="rect">
            <a:avLst/>
          </a:prstGeom>
          <a:gradFill rotWithShape="0">
            <a:gsLst>
              <a:gs pos="0">
                <a:srgbClr val="b3a2c7"/>
              </a:gs>
              <a:gs pos="100000">
                <a:srgbClr val="cad9eb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л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340000" y="3821040"/>
            <a:ext cx="4554360" cy="59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78080" y="4619520"/>
            <a:ext cx="4554360" cy="592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3777120" y="387684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879000" y="47322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639280" y="5877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19633" y="10800"/>
                </a:lnTo>
                <a:lnTo>
                  <a:pt x="5621" y="17806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8099280" y="587700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для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770120" y="1773360"/>
            <a:ext cx="662472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чи для детей: -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подготовительный этап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совместно с родителями принять участие в планировании проектной деятельности и распределении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 совместно с родителями принять участие в акции и в бесе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 Совместно с родителями принять участие в созд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нгазеты. Презентовать рисунки «Цветы наши друз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142120" y="5732640"/>
            <a:ext cx="505080" cy="51084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10840"/>
              <a:gd name="textAreaBottom" fmla="*/ 478440 h 510840"/>
            </a:gdLst>
            <a:ahLst/>
            <a:rect l="textAreaLeft" t="textAreaTop" r="textAreaRight" b="textAreaBottom"/>
            <a:pathLst>
              <a:path w="21600" h="21846">
                <a:moveTo>
                  <a:pt x="0" y="0"/>
                </a:moveTo>
                <a:lnTo>
                  <a:pt x="21600" y="0"/>
                </a:lnTo>
                <a:lnTo>
                  <a:pt x="21600" y="21846"/>
                </a:lnTo>
                <a:lnTo>
                  <a:pt x="0" y="21846"/>
                </a:lnTo>
                <a:close/>
              </a:path>
              <a:path fill="lightenLess" w="21600" h="218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6">
                <a:moveTo>
                  <a:pt x="21600" y="0"/>
                </a:moveTo>
                <a:lnTo>
                  <a:pt x="21600" y="21846"/>
                </a:lnTo>
                <a:lnTo>
                  <a:pt x="20200" y="20446"/>
                </a:lnTo>
                <a:lnTo>
                  <a:pt x="20200" y="1400"/>
                </a:lnTo>
                <a:close/>
              </a:path>
              <a:path fill="darkenLess" w="21600" h="21846">
                <a:moveTo>
                  <a:pt x="21600" y="21846"/>
                </a:moveTo>
                <a:lnTo>
                  <a:pt x="0" y="21846"/>
                </a:lnTo>
                <a:lnTo>
                  <a:pt x="1400" y="20446"/>
                </a:lnTo>
                <a:lnTo>
                  <a:pt x="20200" y="20446"/>
                </a:lnTo>
                <a:close/>
              </a:path>
              <a:path fill="lighten" w="21600" h="21846">
                <a:moveTo>
                  <a:pt x="0" y="218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6"/>
                </a:lnTo>
                <a:close/>
              </a:path>
              <a:path fill="darken" w="21600" h="21846">
                <a:moveTo>
                  <a:pt x="3794" y="7616"/>
                </a:moveTo>
                <a:lnTo>
                  <a:pt x="7301" y="7616"/>
                </a:lnTo>
                <a:lnTo>
                  <a:pt x="7301" y="12951"/>
                </a:lnTo>
                <a:cubicBezTo>
                  <a:pt x="7301" y="13874"/>
                  <a:pt x="8102" y="14605"/>
                  <a:pt x="9138" y="14605"/>
                </a:cubicBezTo>
                <a:lnTo>
                  <a:pt x="10800" y="14605"/>
                </a:lnTo>
                <a:cubicBezTo>
                  <a:pt x="11836" y="14605"/>
                  <a:pt x="12636" y="13874"/>
                  <a:pt x="12636" y="12951"/>
                </a:cubicBezTo>
                <a:lnTo>
                  <a:pt x="12636" y="7616"/>
                </a:lnTo>
                <a:lnTo>
                  <a:pt x="10800" y="7616"/>
                </a:lnTo>
                <a:lnTo>
                  <a:pt x="14308" y="4108"/>
                </a:lnTo>
                <a:lnTo>
                  <a:pt x="17981" y="7616"/>
                </a:lnTo>
                <a:lnTo>
                  <a:pt x="16144" y="7616"/>
                </a:lnTo>
                <a:lnTo>
                  <a:pt x="16144" y="12951"/>
                </a:lnTo>
                <a:cubicBezTo>
                  <a:pt x="16144" y="15719"/>
                  <a:pt x="13568" y="18278"/>
                  <a:pt x="10800" y="18278"/>
                </a:cubicBezTo>
                <a:lnTo>
                  <a:pt x="9138" y="18278"/>
                </a:lnTo>
                <a:cubicBezTo>
                  <a:pt x="6370" y="18278"/>
                  <a:pt x="3794" y="15719"/>
                  <a:pt x="3794" y="12951"/>
                </a:cubicBez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для род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888320" y="5732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1835280" y="1403280"/>
            <a:ext cx="588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чи для родителей:-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подготовительный этап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совместно с детьми принять участие в планировании проектной деятельности и распределения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овместно с детьми принять участие в акции и бесе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казать помощь детям в решении задач проек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обогащение родительского опыта приё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я и сотрудничества с ребёнком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м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для педаг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596360" y="5769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1187280" y="1341360"/>
            <a:ext cx="61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ча для педагога: -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подготовительный этап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организовать мероприятие по  планированию проектной деятельности и распределении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дготовить и провести акцию и беседу о пользе ц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существить организацию и необход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сультирование в ходе достижения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9040" y="259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2">
            <a:hlinkClick r:id="rId1" action="ppaction://hlinksldjump"/>
          </p:cNvPr>
          <p:cNvSpPr/>
          <p:nvPr/>
        </p:nvSpPr>
        <p:spPr>
          <a:xfrm>
            <a:off x="2981880" y="2133720"/>
            <a:ext cx="35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Подготовите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>
            <a:hlinkClick r:id="rId3" action="ppaction://hlinksldjump"/>
          </p:cNvPr>
          <p:cNvSpPr/>
          <p:nvPr/>
        </p:nvSpPr>
        <p:spPr>
          <a:xfrm>
            <a:off x="3910320" y="286236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>
            <a:hlinkClick r:id="rId4" action="ppaction://hlinksldjump"/>
          </p:cNvPr>
          <p:cNvSpPr/>
          <p:nvPr/>
        </p:nvSpPr>
        <p:spPr>
          <a:xfrm>
            <a:off x="3307320" y="351648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ительн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Рамка 6"/>
          <p:cNvSpPr/>
          <p:nvPr/>
        </p:nvSpPr>
        <p:spPr>
          <a:xfrm>
            <a:off x="2916360" y="2133720"/>
            <a:ext cx="3887640" cy="503280"/>
          </a:xfrm>
          <a:custGeom>
            <a:avLst/>
            <a:gdLst/>
            <a:ahLst/>
            <a:rect l="l" t="t" r="r" b="b"/>
            <a:pathLst>
              <a:path w="3887787" h="503238">
                <a:moveTo>
                  <a:pt x="0" y="0"/>
                </a:moveTo>
                <a:lnTo>
                  <a:pt x="3887787" y="0"/>
                </a:lnTo>
                <a:lnTo>
                  <a:pt x="3887787" y="503238"/>
                </a:lnTo>
                <a:lnTo>
                  <a:pt x="0" y="503238"/>
                </a:lnTo>
                <a:lnTo>
                  <a:pt x="0" y="0"/>
                </a:lnTo>
                <a:close/>
                <a:moveTo>
                  <a:pt x="62905" y="62905"/>
                </a:moveTo>
                <a:lnTo>
                  <a:pt x="62905" y="440333"/>
                </a:lnTo>
                <a:lnTo>
                  <a:pt x="3824882" y="440333"/>
                </a:lnTo>
                <a:lnTo>
                  <a:pt x="3824882" y="62905"/>
                </a:lnTo>
                <a:lnTo>
                  <a:pt x="62905" y="62905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5"/>
          <a:stretch/>
        </p:blipFill>
        <p:spPr>
          <a:xfrm>
            <a:off x="2925720" y="2841480"/>
            <a:ext cx="3908520" cy="524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6"/>
          <a:stretch/>
        </p:blipFill>
        <p:spPr>
          <a:xfrm>
            <a:off x="2925720" y="3510000"/>
            <a:ext cx="3908520" cy="523800"/>
          </a:xfrm>
          <a:prstGeom prst="rect">
            <a:avLst/>
          </a:prstGeom>
          <a:ln w="0">
            <a:noFill/>
          </a:ln>
        </p:spPr>
      </p:pic>
      <p:sp>
        <p:nvSpPr>
          <p:cNvPr id="72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308720" y="573264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3824"/>
                </a:moveTo>
                <a:lnTo>
                  <a:pt x="17806" y="10831"/>
                </a:lnTo>
                <a:lnTo>
                  <a:pt x="3794" y="17837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6626160" y="5732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2050920" y="2550960"/>
            <a:ext cx="24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е собр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ников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ланированию и распределению ро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Управляющая кнопка: возврат 3"/>
          <p:cNvSpPr/>
          <p:nvPr/>
        </p:nvSpPr>
        <p:spPr>
          <a:xfrm>
            <a:off x="7693200" y="5589720"/>
            <a:ext cx="502920" cy="457200"/>
          </a:xfrm>
          <a:custGeom>
            <a:avLst/>
            <a:gdLst>
              <a:gd name="textAreaLeft" fmla="*/ 29520 w 502920"/>
              <a:gd name="textAreaRight" fmla="*/ 473400 w 502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758" h="21600">
                <a:moveTo>
                  <a:pt x="0" y="0"/>
                </a:moveTo>
                <a:lnTo>
                  <a:pt x="23758" y="0"/>
                </a:lnTo>
                <a:lnTo>
                  <a:pt x="23758" y="21600"/>
                </a:lnTo>
                <a:lnTo>
                  <a:pt x="0" y="21600"/>
                </a:lnTo>
                <a:close/>
              </a:path>
              <a:path fill="lightenLess" w="23758" h="21600">
                <a:moveTo>
                  <a:pt x="0" y="0"/>
                </a:moveTo>
                <a:lnTo>
                  <a:pt x="23758" y="0"/>
                </a:lnTo>
                <a:lnTo>
                  <a:pt x="22358" y="1400"/>
                </a:lnTo>
                <a:lnTo>
                  <a:pt x="1400" y="1400"/>
                </a:lnTo>
                <a:close/>
              </a:path>
              <a:path fill="darken" w="23758" h="21600">
                <a:moveTo>
                  <a:pt x="23758" y="0"/>
                </a:moveTo>
                <a:lnTo>
                  <a:pt x="23758" y="21600"/>
                </a:lnTo>
                <a:lnTo>
                  <a:pt x="22358" y="20200"/>
                </a:lnTo>
                <a:lnTo>
                  <a:pt x="22358" y="1400"/>
                </a:lnTo>
                <a:close/>
              </a:path>
              <a:path fill="darkenLess" w="23758" h="21600">
                <a:moveTo>
                  <a:pt x="23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8" y="20200"/>
                </a:lnTo>
                <a:close/>
              </a:path>
              <a:path fill="lighten" w="23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8" h="21600">
                <a:moveTo>
                  <a:pt x="4873" y="7493"/>
                </a:moveTo>
                <a:lnTo>
                  <a:pt x="8380" y="7493"/>
                </a:lnTo>
                <a:lnTo>
                  <a:pt x="8380" y="12828"/>
                </a:lnTo>
                <a:cubicBezTo>
                  <a:pt x="8380" y="13751"/>
                  <a:pt x="9181" y="14482"/>
                  <a:pt x="10217" y="14482"/>
                </a:cubicBezTo>
                <a:lnTo>
                  <a:pt x="11879" y="14482"/>
                </a:lnTo>
                <a:cubicBezTo>
                  <a:pt x="12915" y="14482"/>
                  <a:pt x="13716" y="13751"/>
                  <a:pt x="13716" y="12828"/>
                </a:cubicBezTo>
                <a:lnTo>
                  <a:pt x="13716" y="7493"/>
                </a:lnTo>
                <a:lnTo>
                  <a:pt x="11879" y="7493"/>
                </a:lnTo>
                <a:lnTo>
                  <a:pt x="15387" y="3985"/>
                </a:lnTo>
                <a:lnTo>
                  <a:pt x="19060" y="7493"/>
                </a:lnTo>
                <a:lnTo>
                  <a:pt x="17223" y="7493"/>
                </a:lnTo>
                <a:lnTo>
                  <a:pt x="17223" y="12828"/>
                </a:lnTo>
                <a:cubicBezTo>
                  <a:pt x="17223" y="15596"/>
                  <a:pt x="14647" y="18155"/>
                  <a:pt x="11879" y="18155"/>
                </a:cubicBezTo>
                <a:lnTo>
                  <a:pt x="10217" y="18155"/>
                </a:lnTo>
                <a:cubicBezTo>
                  <a:pt x="7449" y="18155"/>
                  <a:pt x="4873" y="15596"/>
                  <a:pt x="4873" y="12828"/>
                </a:cubicBez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740120" y="1349280"/>
            <a:ext cx="3275280" cy="2183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о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8160" y="1760400"/>
            <a:ext cx="2519280" cy="1679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2906640" y="1208160"/>
            <a:ext cx="2735280" cy="1824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356400" y="360216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766960" y="318600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ление и оформ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ов и стенгаз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645880" y="265572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ие в создании стенгаз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ие в выставке рисунк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правляющая кнопка: возврат 5"/>
          <p:cNvSpPr/>
          <p:nvPr/>
        </p:nvSpPr>
        <p:spPr>
          <a:xfrm>
            <a:off x="6586560" y="5724360"/>
            <a:ext cx="503280" cy="513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13000"/>
              <a:gd name="textAreaBottom" fmla="*/ 480600 h 513000"/>
            </a:gdLst>
            <a:ahLst/>
            <a:rect l="textAreaLeft" t="textAreaTop" r="textAreaRight" b="textAreaBottom"/>
            <a:pathLst>
              <a:path w="21600" h="22017">
                <a:moveTo>
                  <a:pt x="0" y="0"/>
                </a:moveTo>
                <a:lnTo>
                  <a:pt x="21600" y="0"/>
                </a:lnTo>
                <a:lnTo>
                  <a:pt x="21600" y="22017"/>
                </a:lnTo>
                <a:lnTo>
                  <a:pt x="0" y="22017"/>
                </a:lnTo>
                <a:close/>
              </a:path>
              <a:path fill="lightenLess" w="21600" h="220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17">
                <a:moveTo>
                  <a:pt x="21600" y="0"/>
                </a:moveTo>
                <a:lnTo>
                  <a:pt x="21600" y="22017"/>
                </a:lnTo>
                <a:lnTo>
                  <a:pt x="20200" y="20617"/>
                </a:lnTo>
                <a:lnTo>
                  <a:pt x="20200" y="1400"/>
                </a:lnTo>
                <a:close/>
              </a:path>
              <a:path fill="darkenLess" w="21600" h="22017">
                <a:moveTo>
                  <a:pt x="21600" y="22017"/>
                </a:moveTo>
                <a:lnTo>
                  <a:pt x="0" y="22017"/>
                </a:lnTo>
                <a:lnTo>
                  <a:pt x="1400" y="20617"/>
                </a:lnTo>
                <a:lnTo>
                  <a:pt x="20200" y="20617"/>
                </a:lnTo>
                <a:close/>
              </a:path>
              <a:path fill="lighten" w="21600" h="22017">
                <a:moveTo>
                  <a:pt x="0" y="220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17"/>
                </a:lnTo>
                <a:close/>
              </a:path>
              <a:path fill="darken" w="21600" h="22017">
                <a:moveTo>
                  <a:pt x="3794" y="7701"/>
                </a:moveTo>
                <a:lnTo>
                  <a:pt x="7301" y="7701"/>
                </a:lnTo>
                <a:lnTo>
                  <a:pt x="7301" y="13036"/>
                </a:lnTo>
                <a:cubicBezTo>
                  <a:pt x="7301" y="13959"/>
                  <a:pt x="8102" y="14690"/>
                  <a:pt x="9138" y="14690"/>
                </a:cubicBezTo>
                <a:lnTo>
                  <a:pt x="10800" y="14690"/>
                </a:lnTo>
                <a:cubicBezTo>
                  <a:pt x="11836" y="14690"/>
                  <a:pt x="12636" y="13959"/>
                  <a:pt x="12636" y="13036"/>
                </a:cubicBezTo>
                <a:lnTo>
                  <a:pt x="12636" y="7701"/>
                </a:lnTo>
                <a:lnTo>
                  <a:pt x="10800" y="7701"/>
                </a:lnTo>
                <a:lnTo>
                  <a:pt x="14308" y="4193"/>
                </a:lnTo>
                <a:lnTo>
                  <a:pt x="17981" y="7701"/>
                </a:lnTo>
                <a:lnTo>
                  <a:pt x="16144" y="7701"/>
                </a:lnTo>
                <a:lnTo>
                  <a:pt x="16144" y="13036"/>
                </a:lnTo>
                <a:cubicBezTo>
                  <a:pt x="16144" y="15804"/>
                  <a:pt x="13568" y="18363"/>
                  <a:pt x="10800" y="18363"/>
                </a:cubicBezTo>
                <a:lnTo>
                  <a:pt x="9138" y="18363"/>
                </a:lnTo>
                <a:cubicBezTo>
                  <a:pt x="6370" y="18363"/>
                  <a:pt x="3794" y="15804"/>
                  <a:pt x="3794" y="13036"/>
                </a:cubicBez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6294600" y="905040"/>
            <a:ext cx="287964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16:24Z</dcterms:created>
  <dc:creator>жежик</dc:creator>
  <dc:description/>
  <dc:language>en-US</dc:language>
  <cp:lastModifiedBy>Анастасия</cp:lastModifiedBy>
  <dcterms:modified xsi:type="dcterms:W3CDTF">2022-11-16T05:43:47Z</dcterms:modified>
  <cp:revision>259</cp:revision>
  <dc:subject/>
  <dc:title>Слайд 1</dc:title>
</cp:coreProperties>
</file>