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FD68-7336-4780-B145-7F363CA3A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CA12-AB54-40AD-8971-56A417EC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CC8A-8B65-474F-BA75-6A54771EB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BBE4-3892-470F-8B08-B6E47251F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18B9F-DC2C-4593-8240-2F0695414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CAB8-EBF2-497E-A8DD-C535A278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F2E3-631F-4C5F-AADC-00414414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1FD1-4B9A-4A7D-9624-B7DC563B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1AD5-4331-4DE9-BCC2-AEF9127C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6BEC-91DA-45D4-8603-EE64132D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7726-BB85-4AFC-80F9-DE311439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EC4C-2AA3-4320-B1A0-CC6225F8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4B34-8C26-4F4F-A9A4-9B474E13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ECE0-ADF4-470D-B181-C8AF7139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398A-9085-4A95-B30F-4E3AF1E8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4799-B378-483A-8613-3872ED4F1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A625-C794-4DAE-9699-F706F41FB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7D20-9849-495C-996A-C70BFB67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2E5B-BD1A-4AD6-A3DF-5A8FFCBA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0F0F-FE96-4A55-85E7-7AB84740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2F44-EABB-4E9F-81E7-96658689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9AE9-22DD-411F-ADCD-15118DBC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9BF0-A2DF-4C68-9F77-DB126A66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FD15-A7B2-44AB-A42A-3451463F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54B3-7EE9-4595-BD26-F54E7A49ACC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0DDD-8F09-4CF2-AAAF-852DD8172EB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4" descr="01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3152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МБДОУ детский сад 411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Семинар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              </a:t>
            </a: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Тема:«Организация опытов в уголке природы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Выполнила воспитатель старшей группы: Панькова Е.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Основным оборудованием в уголке экспериментирования являются: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1371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Meiryo UI"/>
              </a:rPr>
              <a:t>Приборы помощник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2" descr="H:\фото детей\DSC02455.JPG"/>
          <p:cNvPicPr/>
          <p:nvPr/>
        </p:nvPicPr>
        <p:blipFill>
          <a:blip r:embed="rId1"/>
          <a:stretch/>
        </p:blipFill>
        <p:spPr>
          <a:xfrm>
            <a:off x="380880" y="1981080"/>
            <a:ext cx="3000600" cy="2517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H:\фото детей\DSC02456.JPG"/>
          <p:cNvPicPr/>
          <p:nvPr/>
        </p:nvPicPr>
        <p:blipFill>
          <a:blip r:embed="rId2"/>
          <a:stretch/>
        </p:blipFill>
        <p:spPr>
          <a:xfrm>
            <a:off x="5638680" y="1905120"/>
            <a:ext cx="3114720" cy="2519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H:\фото детей\DSC02460.JPG"/>
          <p:cNvPicPr/>
          <p:nvPr/>
        </p:nvPicPr>
        <p:blipFill>
          <a:blip r:embed="rId3"/>
          <a:stretch/>
        </p:blipFill>
        <p:spPr>
          <a:xfrm>
            <a:off x="990720" y="4424400"/>
            <a:ext cx="2819160" cy="22813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G:\DSC02483.JPG"/>
          <p:cNvPicPr/>
          <p:nvPr/>
        </p:nvPicPr>
        <p:blipFill>
          <a:blip r:embed="rId4"/>
          <a:stretch/>
        </p:blipFill>
        <p:spPr>
          <a:xfrm>
            <a:off x="3352680" y="2057400"/>
            <a:ext cx="2167200" cy="2209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4419720" y="4191120"/>
            <a:ext cx="342900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иродный материал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0" name="Picture 2" descr="H:\фото детей\DSC02454.JPG"/>
          <p:cNvPicPr/>
          <p:nvPr/>
        </p:nvPicPr>
        <p:blipFill>
          <a:blip r:embed="rId1"/>
          <a:stretch/>
        </p:blipFill>
        <p:spPr>
          <a:xfrm>
            <a:off x="228600" y="1295280"/>
            <a:ext cx="3084480" cy="2805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H:\фото детей\DSC02453.JPG"/>
          <p:cNvPicPr/>
          <p:nvPr/>
        </p:nvPicPr>
        <p:blipFill>
          <a:blip r:embed="rId2"/>
          <a:stretch/>
        </p:blipFill>
        <p:spPr>
          <a:xfrm>
            <a:off x="304920" y="4052880"/>
            <a:ext cx="3017880" cy="2805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352680" y="1752480"/>
            <a:ext cx="55627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662616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Бросовый материал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4" name="Picture 2" descr="H:\фото детей\DSC02458.JPG"/>
          <p:cNvPicPr/>
          <p:nvPr/>
        </p:nvPicPr>
        <p:blipFill>
          <a:blip r:embed="rId1"/>
          <a:stretch/>
        </p:blipFill>
        <p:spPr>
          <a:xfrm>
            <a:off x="380880" y="1676520"/>
            <a:ext cx="4419720" cy="44956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952880" y="1447920"/>
            <a:ext cx="3581640" cy="26859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5181480" y="426708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Times New Roman"/>
              </a:rPr>
              <a:t>При организации опытов используются проблемные ситуации на различные темы: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Как из воды сделать значок?»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(Вода может быть в виде жидкости, пара, льда; для этого необходима определенная температура.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«Почему стучит крышка у чайника?», «Как увидеть пар?»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(Вода испаряется и ее становится меньше.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«Волшебный гвоздик».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(Магнит, свойства магнита - притягивает, намагничивает другой железный предмет. Почему магнит отталкивает? Стороны света, действие компаса.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«Как сделать из мухи слона?»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Увеличительное стекло.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«Бывает ли непрозрачное стекло?»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Цветное стекло. Зачем нужны солнечные очки.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Times New Roman"/>
              </a:rPr>
              <a:t>Детское экспериментирование будет иметь больший развивающий эффект, если оно осуществляется коллективно (не менее трех человек, но, желательно, не более семи)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85440" y="15238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6666"/>
                </a:solidFill>
                <a:latin typeface="Verdana"/>
              </a:rPr>
              <a:t>Первый этап.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(Подготовка детей к экспериментированию</a:t>
            </a: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а этом этапе уточняются представления детей о свойствах, качествах материалов, дети включаются в преобразование проблемных ситуаций, стимулируется их интерес к самостоятельному экспериментированию. Они осваивают действия по измерению, переливанию, преобразованию различных материалов и веществ (вода, глина, песок и т.д.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Дети практически осваивают способы измерения различными емкостями (банками, бутылками, мерными кружками и др.), знакомятся с приборами, которые могут им понадобиться в процессе экспериментирования (термометр, весы, зеркало и др.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en-US" sz="2000" spc="-1" strike="noStrike">
                <a:solidFill>
                  <a:srgbClr val="006666"/>
                </a:solidFill>
                <a:latin typeface="Times New Roman"/>
              </a:rPr>
              <a:t>2. Второй этап (основной).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Совместное со взрослым и самостоятельное              экспериментирование.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 этом этапе осуществляется практическое освоение детьми свойств и качеств различных материалов, дети активно участвуют в исследовании и преобразовании различных проблемных ситуаций, знакомятся со способами фиксации полученных результатов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зрослый предлагает детям проблемную ситуацию, ставит цель, совместно с ними определяет этапы работы, делает выводы. В ходе деятельности он учит детей выделять последовательность действий, отражать их в речи (Что мы делали? Что мы получили? Почему?), фиксирует предположения детей, помогает им схематически отразить ход и результаты опыта. Предположения и результаты эксперимента сравнивают, делают выводы (О чем мы думали? Что получилось? Почему?).</a:t>
            </a:r>
            <a:r>
              <a:rPr b="0" lang="en-US" sz="2000" spc="-1" strike="noStrike">
                <a:solidFill>
                  <a:srgbClr val="006666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33520" y="6858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Правила работы для д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7"/>
          <p:cNvSpPr/>
          <p:nvPr/>
        </p:nvSpPr>
        <p:spPr>
          <a:xfrm>
            <a:off x="1187280" y="1557360"/>
            <a:ext cx="300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 водо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ь с водой имеем дел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укава засучим смел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олил воду — не бед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ряпка под рукой всег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артук — друг: он нам помог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 никто здесь не пром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1752480"/>
            <a:ext cx="3352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Со стекло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 стеклом будь осторожен Ведь оно разбиться мож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разбилось — не бед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ть ведь верные друзь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устрый веник, брат-сов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для мусора бачок 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миг осколки соберу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ши руки сберег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40384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С песк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сыплешь ты песок 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ядом веник и сов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51814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о окончании работ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ы работу завершил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е на место положи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90720" y="1828800"/>
            <a:ext cx="7924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То, что я услышал, я забыл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То, что я увидел, я помню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То, что я сделал, я знаю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Конфу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362320" y="2803680"/>
            <a:ext cx="2300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733560" y="456840"/>
            <a:ext cx="5181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«Расскажи – и я забуду, 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покажи – и я запомню, 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дай попробовать и я пойму»</a:t>
            </a:r>
            <a:br>
              <a:rPr sz="2800"/>
            </a:br>
            <a:r>
              <a:rPr b="0" lang="en-US" sz="1800" spc="-1" strike="noStrike">
                <a:solidFill>
                  <a:srgbClr val="006666"/>
                </a:solidFill>
                <a:latin typeface="Times New Roman"/>
              </a:rPr>
              <a:t>(народная китайская мудрость)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80880" y="2666520"/>
            <a:ext cx="83059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Внедрение исследовательского метода в процесс интеллектуально-познавательного развития детей определяет необходимость использования такого приема, как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ведение опытов.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Опыт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- совокупность знаний и практически усвоенных навыков, умений. Воспроизведение какого-н. явления экспериментальным путём, создание чего-н. нового в определённых условиях с целью исследования, испытания.(толковый словарь Ожегова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n-US" sz="2000" spc="-1" strike="noStrike">
                <a:solidFill>
                  <a:srgbClr val="006666"/>
                </a:solidFill>
                <a:latin typeface="Times New Roman"/>
              </a:rPr>
              <a:t>Значение опытов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67480" y="837720"/>
            <a:ext cx="990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523880"/>
            <a:ext cx="5867280" cy="152424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ытническая деятельность предполаг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ктивное познание ребенком окружаю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йствительности, тех закономерност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торые ей присущ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3352680"/>
            <a:ext cx="6933960" cy="327672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опыты способствуют не только поддержанию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 и в значительной мере оказывают воздейств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развитие познавательной активн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юбознательности детей, их познавательных интере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процессе проведения опыт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крывая причины тех или иных явле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ти подводятся к суждениям, умозаключения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 способствует развитию их мыслительных проце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опер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Times New Roman"/>
              </a:rPr>
              <a:t>По сравнению с простыми наблюдениями опыт является более сложной формой изучения природы, так как он предполагает: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1523880"/>
            <a:ext cx="8763120" cy="10670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 искусственных условиях вне непосредственного общения с природ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спроизведение явлений природы, определение особенностей объек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2743200"/>
            <a:ext cx="8001000" cy="60948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оздание специально подготовленных условий для его провед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3505320"/>
            <a:ext cx="8686800" cy="91440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ирование умения соотносить наблюдаемые в опыте явления и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цессы с тем, что происходит в природных условиях, делать выв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обобщ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4648320"/>
            <a:ext cx="8077320" cy="190476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ыты хорошо использовать не только для усвоения нового материал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 и в процессе повторения и закрепления полученных зна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вая детям вопросы, ответ на которые надо доказать опы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ример, «Как ты можешь доказать, что для жизни растен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ужна вода, тепло, свет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Times New Roman"/>
              </a:rPr>
              <a:t>Этапы обучения детей опытнической деятельности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1600200"/>
            <a:ext cx="2819520" cy="68580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ль постановки опы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2514600"/>
            <a:ext cx="3048120" cy="68580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н проведения опы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62320" y="3429000"/>
            <a:ext cx="3352680" cy="6858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соб фиксации результа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513108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Важным требованием к демонстрации опыта является подготовка необходимого оборудования, его установка таким образом, чтобы каждый ребенок мог наблюдать за действием взрослого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Times New Roman"/>
              </a:rPr>
              <a:t>При постановке опытов все многообразие вопросов, в общем, сводится к следующим: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1905120"/>
            <a:ext cx="5562720" cy="60948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какое явление мы изучаем посредством опыт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33720" y="2743200"/>
            <a:ext cx="5867280" cy="60948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какое оборудование мы используем для опыт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3657600"/>
            <a:ext cx="5639040" cy="60948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как протекает наблюдаемое явлени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4572000"/>
            <a:ext cx="5791320" cy="60948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очему это произошл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5410080"/>
            <a:ext cx="5638680" cy="68580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гда и где мы наблюдали в жизн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природе это явлени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Times New Roman"/>
              </a:rPr>
              <a:t>Правила проведения экспериментов: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685800"/>
            <a:ext cx="8839440" cy="38088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Четкость формулировки целей и задач эксперимента.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1143000"/>
            <a:ext cx="8839440" cy="53352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Предоставление детям максимальной самостоятельности и активности п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решении проблемной ситу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1752480"/>
            <a:ext cx="8839440" cy="53352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Для осознания результатов опытов каждым ребенком опыт необходимо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торить дважды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2362320"/>
            <a:ext cx="8839440" cy="60948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«Не навреди».запрещаются эксперименты, наносящие вред растениям,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вотным и челове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3048120"/>
            <a:ext cx="8839440" cy="83808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Если для проведения наблюдений и экспериментов животное забирается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природы,то его пребывания в неволе сократить до разумного предела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окончания  вернуть на то место, откуда оно было взято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962520"/>
            <a:ext cx="8839440" cy="60948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Уделять большое внимание соблюдению правил безопасности, усилить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оль за поведением ребе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4648320"/>
            <a:ext cx="8839440" cy="83808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Недопустимы эксперименты, в которых создается реальная угроза жизн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доровью детей - работа на высоте, использование удобрений и ядохимикат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ямой контакт с ядовитыми растениями и грибами и т.п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5562720"/>
            <a:ext cx="8839440" cy="53316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Особое внимание необходимо уделять вопросам гигиены ребёнка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6172200"/>
            <a:ext cx="8839440" cy="53352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непредусмотренный результат не является неправильным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Times New Roman"/>
              </a:rPr>
              <a:t>Виды опытов: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990720"/>
            <a:ext cx="4343400" cy="243828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ыты с предмет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живой приро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песок, вода, глина, магнит и др.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48320" y="990720"/>
            <a:ext cx="4267080" cy="243828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ыты с растен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направлены на выяс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войств растений ка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живого орга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итание, дыхание, движение и др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3886200"/>
            <a:ext cx="5638680" cy="243828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ыты с живот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направлены на выяснение специф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ействия органов чувств - чем питает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хорошо ли слышит, защит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Arial"/>
              </a:rPr>
              <a:t>Структура эксперимента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1066680"/>
            <a:ext cx="6858000" cy="472464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Осознание того, что хочешь узн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Формулирование задачи исслед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Продумывание методики экспериме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Выслушивание инструкций и критических замеч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Прогнозирование результа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Выполнение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Соблюдение правил безопас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Наблюдение результа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Фиксирование результа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 Анализ полученных дан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 Словесный отчет об увиден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Формулирование выв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5T11:20:23Z</dcterms:created>
  <dc:creator>Лена</dc:creator>
  <dc:description/>
  <dc:language>en-US</dc:language>
  <cp:lastModifiedBy>Лена</cp:lastModifiedBy>
  <dcterms:modified xsi:type="dcterms:W3CDTF">2017-10-10T05:44:1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