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36C-2BD9-48CC-9CE9-30503D81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AA6-A1C2-4075-B35B-02F82905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2CC-F92F-4ED8-AEA7-7705CE8C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18B-25B0-43EE-B10A-17CE4A18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B8E0-943E-485A-ACCA-934BB135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F0A7-B66C-4D58-8313-4C663C4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7B0C-2879-4062-A343-5A46FDDD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A0FC-BA78-41BA-A2A4-BFE45A23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5677-BFDB-458E-9328-D577A3E5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6B0E-62B2-41F3-9E11-964ED708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4AE4-4CE2-4B46-ADCD-0D4FF745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AF2-3209-49DC-9C8C-C25ECE71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06B6-C8B3-49BE-ACF5-56F55D6C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C019-B582-42ED-8716-CBC31FA9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FD09-FB7F-43FA-8122-89169129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64DF-7597-439C-94C4-97C30CD8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B7AA-F95B-4E02-8E46-790BA311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1A2-D21A-41B4-A732-31D09891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D2E-2D00-4BA6-A5F2-E1550DD6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CE8-7FDF-4F9D-B793-089AAD48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AAC-FD8F-4068-B3DB-B3CF40AA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753-1BF5-4DD1-826E-16CB9D84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4D5-C7BD-42F7-AB08-85C8C3E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C28-CB8F-4B8C-97B4-67D33912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72CC-2537-4ADE-A2C7-247B19055B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82E6-C042-44B9-803C-F13701737F32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Последовательность работы с агрессие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211280" y="4292640"/>
            <a:ext cx="3632040" cy="1417680"/>
          </a:xfrm>
          <a:prstGeom prst="rect">
            <a:avLst/>
          </a:prstGeom>
          <a:solidFill>
            <a:srgbClr val="00cc66"/>
          </a:solidFill>
          <a:ln w="9360">
            <a:solidFill>
              <a:srgbClr val="3b3b3b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ставила:Андрианова Е.Г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БОУ Лицей №53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5400" y="549000"/>
            <a:ext cx="8226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се приводимые техники и упражнения можно объединить в следующие тематические раздел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Работа с материалами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Практические навыки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бщие темы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Восприятие себя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Парная работ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Коммуникативные навыки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Нейтрализация конфликтных ситуаций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очетание изобразительной работы с другими формами творческого самовыражения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5400" y="620640"/>
            <a:ext cx="8226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 Работа с материалами» включает в себя техники и упражнения, применение которых  имеет своей целью преодолеть затруднения в овладении и развитии коммуникативных умений, в начале арт-терапевтического процесса. Данные техники развивают воображение и творческие способности участников. Применяются графические техники, а также техники, основанные на использовании других изобразительных материалов и средств работы (песка, глины, теста, цветной бумаги  и т. д.).  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здел  «Практические навыки» включают в себя упражнения, способствующие тренировке внимания, памяти, мышления и повышающие адаптивные возможности личност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Общие темы» составлены из упражнений, позволяющих выражать широкий спектр различных переживаний, присущих каждому человеку в его жизн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здел  «Восприятие себя» состоят из упражнений, позволяющих отразить систему отношений с людьми и отношение к самому себе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здел  «Парная работа» предполагает совместную изобразительную работу в парах, позволяющую развивать коммуникативные навыки и взаимопонимание партнеров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здел  «Коммуникативные навыки» включает техники, которые могут быть использованы в качестве инструмента исследования и коррекции отношений в группе, в семье и др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здел  «Нейтрализация конфликтных ситуаций» включает в себя упражнения, позволяющие выражать чувства, связанные с конфликтами, а также формировать навыки адекватного общения и способности к предотвращению личных конфликтов.  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5400" y="765000"/>
            <a:ext cx="82263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процессе арт-терапевтической работы нередко используются музыка, движение и танец, сочинение историй, драма. Такие формы с одновременным использованием различных способов творческого самовыражения принято называть мультимедийными.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качестве примера рассмотрим занятие по теме: «Рисуем круги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иоритетные цел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анное занятие подходит для начала и завершения арт-терапевтической работы. Оно позволяет прояснить личностные особенности, ценности, характер проблем каждого участника, выявляет межличностные и межгрупповые взаимоотношения, имеет потенциал групповой сплоченности. Оптимальное  число участников не должно превышать 16 человек (две малые группы). Арт-терапевтическое пространство организуется следующим образом: два больших стола  (можно использовать ученические парты),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округ которых расставлены стулья и стол учител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атериалы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ва рулона бумаги, длиной около двух метров (можно использовать обратную сторону обоев и другие виды бумаги). Изобразительные материалы: карандаши (цветные, простые), фломастеры, акварельные краски, восковые мелки, масляная пастель, гуашь, кисти баночки с водой, ластик, скотч. (Выбор изобразительных средств определяется самостоятельно каждым участником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Структура занятия. Основные этап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(Их количество  на конкретном занятии в зависимости от цели, темы и темпа работы может варьироваться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 этап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Настрой.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Задача первого этапа занятия состоит в подготовке участников к  художественной деятельности и внутригрупповой коммуникации. Для этого используются различные игры, двигательные и танцевальные упражнения, несложные изобразительные прием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арианты танцевальных упражн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Передай  свое настроение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Изобрази любимое животное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Передай любые явления природы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Изобразите движение гусеницы по ветке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Радость сказочных гномиков на поляне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арианты упражнений по изобразительной деятельност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аракул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ередача листа по круг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унок по круг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Техника «закрытых глаз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Структура занятия. Основные этап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93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 этап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ндивидуальная изобразительная работа.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(Инструкции для участников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ймите место за одним из столов. Вы вправе  свободно передвигаться  вокруг стола и работать на любой территори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рисуйте кружок желаемого размера понравившимся цве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рисуйте на листе еще один-два круга любого размера и цвета. Пожалуйста, отойдите от стола и посмотрите на полученное изображение со стороны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ледующая инструкция только для тех, кто не удовлетворен результатами работы и хотел бы изменить вид, цвет. Местоположение своих кругов в пространстве бумажного полотн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бведите контуры рисунков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полните пространство каждого из своих кругов сюжетными рисунками, значками, символам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Структура занятия. Основные этап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3 этап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Коллективная работ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ходите вокруг листа-картины. Внимательно рассмотрите рисунки. Если вам хочется дорисовать что-либо в кругах других участников, попробуйте с ними об этом договориться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согласия авторов напишите добрые слова и пожелания около рисунков, которые вам понравилис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рисуйте оставшееся свободное пространство листа узорами, символами и др. Прежде всего, договоритесь с другими участниками о содержании и способах создания фона для коллективного рисун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Структура занятия. Основные этап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4 этап.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Этап вербализации и рефлексивного анализ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Группы прикрепляют получившиеся картины-полотна к стене. Затем каждый участник делится впечатлениями  о совместной работе, показывает собственные рисунки, рассказывает о замысле, сюжете, чувствах, зачитывает, при желании, вслух добрые пожелания, которые ему написали другие участники.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Комментарии. Рекомендации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Для этой техники выбран именно круг как символ гармонии. Считается, что круг – самая «доброжелательная» геометрическая фигура, означающая одобрение, мягкость, дружеское отношение. Работа в круге активизирует интегративное, эмоциональное, интуитивное (правополушарное) мышление, а также объединяет группу, способствует формированию благоприятных межличностных отношений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Одна из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задач 1 этапа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состоит в знакомстве и сближении участников группы посредством совместных действий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Этап индивидуальной работы обладает значительным диагностическим потенциалом. Информативны местоположение круга, его размеры, толщина контура, толщина линий, а также цветовой выбор и формальные характеристики соединительных линий. Следует обратить внимание на содержание сюжетного рисунка внутри круга. К примеру, наличие сильной штриховки, маленькие размеры изображения, предположительно , свидетельствуют о неблагоприятном физическом или психологическом состоянии напряженности, скованности, тревожности. Напротив, большие размеры, применение ярких цветовых оттенков расцениваются как индикаторы хорошего самочувстви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Итак, данная арт-терапевтическая техника достоверно выявляет место каждого участника в общей палитре взаимоотношений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5400" y="620640"/>
            <a:ext cx="8226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Примерный перечень упражнений и техник, которые могут применяться как в групповой, так и в индивидуальной   арт-терапевтической работе  с детьми и подросткам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Примерные упражнения с цветом. (Рекомендуется проводить в начале арт-терапевтического процесса). Данные упражнения  способствуют развитию  воображения и творческих способностей участников арт-терапевтического процесс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выберите два, три цвета, отражающие ваше состояни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Создайте композицию из импонирующих вам  геометрических фигур и раскрасьте их в цвета, которые вы выбрали.  (Каждую фигуру можно раскрасить одним цветом или несколькими из выбранных)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выберите цвета, которые вам нравятся больше всего в данный момент. Создайте образ в соответствующей цветовой гамм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выберите цвета, которые вам наименее предпочтительны в данный момент. Создайте образ в соответствующей вашему настроению цветовой гамме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создайте композицию, используя два, три цвета, затем проанализируйте с кем или чем они у вас ассоциируются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создайте композицию из приятных вам цветов и неприятных, а затем сравните эти рисунки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используя любой цвет, закрасьте широкой кистью всю поверхность листа  с закрытыми глазами, откройте глаза и попытайтесь увидеть образ или целую композицию в вашем изображении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используя несколько понравившихся вам цветов, выполните упражнение, характерное предыдущему;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используя несколько цветов,  попытайтесь создать образ своего «Я»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используя несколько цветов, постарайтесь создать образ своего друга (подруги)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используя несколько цветов, постарайтесь создать композицию, символизирующую для вас радостное настроение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5400" y="691920"/>
            <a:ext cx="8226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Упражнения с цветом и фактурой различных предметов  - «оттиски»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 используя кисти различных размеров, ткани, поролон, кусочки древесины, пуговицы и другие предметы, создайте композицию-настроение и постарайтесь дать ей название;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 используя отпечатки краски различных цветовых тонов (акварель, гуашь) на бумаге, выполненные  ладонями и пальцами рук, попытайтесь создать композицию-образ и придумать ей название;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Каракули». Каждый участник спонтанно рисует любые по форме и размеру каракули на листе бумаги, используя понравившиеся изобразительные материалы (карандаш, пастель, мелок, уголь, сангина, фломастер).  В полученном «хаосе» линий автору в соответствии с его воображением и фантазией,  надо найти образ и развить  (дорисовать) его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о желанию «каракули» можно выполнять с закрытыми глазами, а продолжать развивать образ уже с открытым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Варианты выполнения задания 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 передайте с помощью каракулей свое настроение;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 нарисуйте любой предмет с помощью каракулей, действуя (обеими руками) одновременно правой и левой рукой;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 напишите на общем листе бумаги одновременно с соседом по парте «каракулями» имена друг друга;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 нарисуйте на одном листе бумаги «каракулями» с рядом сидящим участником  общую работу, заранее обговорив с ним ее композицию;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 нарисуйте вместе с соседом по парте на одном листе бумаги любой предмет в технике «каракули», заранее договорившись с ним о том, кто будет изображать правую, а кто левую части рисун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22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темы заданий по изобразительной деятель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 Расскажи соседу по парте о своем настроении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Волшебное путешествие под музыку»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Изобрази свой страх», «Изобрази твою победу над ним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Кто полетит со мной на воздушном шаре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Послание другу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Послание любимому сказочному герою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Создай рисунок для самого родного человека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Создай рисунок самого любимого уголка своего города, деревни, села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рисуй маску любимого героя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рисуй маску сказочного героя и разыграй сценку с соседом по парте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Создай образ своего «Я»».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авленные эмо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ольшинство людей негативно относится к агрессии и её проявлениям. Общество диктует, что любое проявление агрессии – это плохо (особенно это относится к женщинам, которые «обязаны» быть спокойными и кроткими в любой ситуации). Тем не менее, каждый человек хотя бы раз в своей жизни испытывал агрессивные эмоции. Не имея возможности проявить их без риска быть осуждаемым за это, человек вынужден «копить» агрессию в себе – или выплескивать её неадекватными способами, испытывая чувство вины. Как вина, так и подавленная агрессия подтачивают адекватное мировосприятие, нередко приводя к неврозу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дростки, по известным причинам воспринимающие мир гораздо острее, чем взрослые, очень часто демонстрируют всевозможные виды агрессивного поведения. Очень часто «пусковыми механизмами» этой агрессивности являются тревожность и страх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им же образом мы можем работать с агрессией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226360" cy="1143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ыготский Л.С. Психология искусства. – Мн.: Современное Слово, 1998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. Бурно М.Е.Терапия творческим самовыражением.  – М.: Медицина, 1989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3. Венгер А.Л. Психологические рисуночные тесты. – М.:ВЛАДОС-ПРЕСС, 2005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4. Карвасарский Б.Д. Психотерапевтическая энциклопедия. – СПб.: Питер, 20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5. Копытин А.И. Практикум по арт-терапии. – СПб.: Питер, 200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6. Копытин А.И. Теория и практика арт-терапии. – СПб.: Питер, 2002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7. Копытин А.И. Системная арт-терапия. – Спб.: Питер, 2001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8. Копытин А.И. Руководство по групповой арт-терапии.-СПб.: Речь, 2003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9. Лебедева Л.Д. Практика арт-терапии: подходы, диагностика, система занятий. – СПб.: Речь, 2003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0. Орехова О.А. Цветовая диагностика эмоций ребенка. –СПб.: Речь, 2002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1.  Ферс Грегг М. Тайный мир рисунка: Перевод с англ. – СПб.: Деметра, 2003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Шаг первы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ужно признать, что любой человек может попасть в ситуацию, когда он будет испытывать боль, гнев, ярость, обиду или боль. Эти чувства имеют право на существование, и необходимо предоставить достаточно времени и пространства для того, чтобы они могли быть пережиты. Необходимо предоставить человеку возможность безопасно избавиться от негативных эмоций, не испытывая при этом чувства вин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Дорога агресси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уществует много возможностей для того, чтобы избавиться от негативных эмоций. Для этого можно использовать следующие упражнения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росать «мешок с гневом»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овать неструктурированные каракули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ять глину, или пластилин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вать бумагу, топтать картонные коробки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носить удары по стенам или мебели батакой или свёрнутой в трубку газетой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асплющивать молотком жестяные банки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ля группы можно предложить «дорогу агрессии» - когда несколько упражнений на снятие негативных эмоций идут друг за другом. Каждый человек может либо последовательно попробовать все способы редуцирования агрессии, либо остановиться на каком-либо одном, который ему больше подходит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26360" cy="1143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Шаг втор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ожет пройди довольно много времени, пока человек избавится от накопленного негатива. После того, как агрессивные эмоции будут безопасно выведены, можно начинать работать с «пусковым механизмом» агресси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еловека просят «вернуться» в тот момент, когда он испытывал прилив отрицательных эмоций и определить, что послужило толчком для этог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226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 правило, «пусковым моментом» агрессивного поведения являются страх, тревога («это пугает меня, поэтому лучше напасть первым»), унижение («я должен отомстить»), обида (попадание в наше «уязвимое место»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работка «пускового момента» агрессии может быть достаточно травматична для клиента, поэтому её не рекомендуется проводить людям, не имеющим специальной подготовки. Кроме того, это может увести далеко в сторону от имеющейся у нас конкретной проблемы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ля того, чтобы избежать подобных проблем при работе с подростками, необходимо дать им возможность «проиграть» несколько сценариев агрессивного поведения. Хорошим упражнением является сочинение агрессивных историй – «боевиков», «страшилок» и иллюстрирование их. Сочиняя подобные истории, дети бессознательно привносят свои мотивы в поведение героев. При этом можно безопасно обсуждать эти мотивы, как бы не подразумевая при этом самого ребёнка. Это является безопасным выходом для подростка, позволяет ему взглянуть на себя со стороны и найти приемлемые выходы из ситуаци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Шаг трет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едующей ступенью при работе с агрессией является работа с ресурсам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орошим упражнением для человека является возможность нарисовать момент выплеска своей агрессии, изображение её в символической форме. Как правило, это мощные символы, полные силы – извержение вулкана, землетрясение, большое и сильное животное, ведьма и др. Необходимо обратить внимание на эту силу, на то, что она всё время находится внутри человека, и он может получить к ней доступ в люб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5400" y="692280"/>
            <a:ext cx="822636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акже хорошим упражнением при работе с ресурсами являются «Тёплые воспоминания». Мы предлагаем человеку вспомнить сложные ситуации из своей жизни – кто или что помогало ему преодолеть трудности, кто был с ним рядом в этот момент (помощь может быть какой угодно – это может быть реальный человек, книжный персонаж, детская игрушка-талисман и т.д.). Затем ему предлагается каким либо образом изобразить в символической форме эту поддержку, создать свой индивидуальный символ силы, к которому можно было бы обращаться в трудный момен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Шаг четвёрты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бучение коммуникативной культуре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еловек, умеющий точно и адекватно выразить свои эмоции, понять другого человека и наладить с ним эффективную коммуникацию, гораздо реже попадает в ситуации, где возможно применение агресси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рупповая арт-терапевтическая работа позволяет развить навыки общения и сотрудничества, раскрыть внутренний мир человека и позволить ему глубже понять самого себя и других люд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4:00:06Z</dcterms:created>
  <dc:creator>User</dc:creator>
  <dc:description/>
  <dc:language>en-US</dc:language>
  <cp:lastModifiedBy>Евгения Андрианова</cp:lastModifiedBy>
  <dcterms:modified xsi:type="dcterms:W3CDTF">2022-11-15T20:58:23Z</dcterms:modified>
  <cp:revision>12</cp:revision>
  <dc:subject/>
  <dc:title>Слайд 1</dc:title>
</cp:coreProperties>
</file>