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ACD-2AC6-45D4-9D99-AFFDA190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493-19CB-433B-8603-C8C75B49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AAE30-DC99-4915-A900-EAF40734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10C53-C57E-419B-967B-C446764A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66607-3E62-4CE7-A860-99B22D30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35B96-4E17-42D0-95C5-892E5C22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087C7-BC48-4276-95AC-59FAC059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20C26-18AB-43B4-94C7-05ABEE0C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2EC7B-1E34-4B57-80AF-68FADA7E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C442B-0A33-4A65-99A3-0AFB8FEE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8070B-4E9D-4EAA-A461-41CC7921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557-18A0-4480-B79E-DA96ED81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75D-E53E-466C-B05B-0E3A45CA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0D12-EF51-40E0-9A00-9252613A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4D9B-DA41-43C6-A85B-C9171783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1D0E-9B1C-4009-8354-F9C51461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CAE9-CBA2-45EA-A0F4-805A27A5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7C7C-1F05-4A29-95FB-C444F085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77BA-3DDA-4C7E-A6C4-B479C39E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98B0-6D32-4145-9C81-6E47192D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196-3CCC-45CB-8E65-1F2A442C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C664-22E3-4B15-9950-BDA64B9D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16BA-580C-4E45-BB18-4E8ED2E9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8AFF-0C22-4178-A67B-E7733417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D053-2EC8-4D17-B8E8-A0A657E8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31AC-8430-4893-BA4A-67699415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1401-EF35-4816-AE66-B0BED79C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9E466-716C-4BDC-B70D-0E49AFBA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B54DA-7E54-431C-BC50-9F6DA288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FD335-30DE-4096-85DE-BAEFDB4A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EF09-C85B-4084-9800-0366E1D6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783-FFB4-44EB-A2ED-66FBED88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C8A07-80C2-4B79-A57B-15168D0B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041B7-5F9A-4CFD-926B-531CAF09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5602-BBC6-4C3D-A06E-1EA874CE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A8B7-30F9-4D42-9DB2-EAA59246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ED15D-D4C1-49C4-8CDE-982AD803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57104-484D-419F-9AF4-E0C367F7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F849B-D0CD-4FF6-92F8-037B720B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F9EA5-749C-44FC-B601-EFE22406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C2D9B-0A5E-4274-844B-3C942E56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2101C-3100-4E84-A1E8-ECA403F9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B6F-CD16-4807-B02C-2A708E7F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B5D1E-CC56-44AB-AE78-1A4C1FDE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E6103-BAF4-422A-84B2-5BE04835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A3469-F453-4DE8-A186-A79DBCD1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961B0-D237-4382-B789-AC6B051E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9B71C-E0ED-42AB-927B-29E761EB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5D9A6-B779-4FB0-A0CF-D5F01447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DC157-880E-4BC2-9536-A3DD9873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8ECC8-86D4-4DBA-91E5-CE30C5A3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009F8-DEC9-4A46-A0B0-5D80055F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ADB86-C826-402B-86D8-8D26D2C9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69A-A554-4843-9A09-FD763797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80B52-9EA6-446A-B4B8-EABD4F39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A2E19-6FD9-429C-823D-F5F01D04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48B43-5B52-4B6E-BA46-FB4DF0D3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8AE74-D276-4438-9DDF-26B9BDA5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19251-E637-4F17-B8D3-DCB2CDE1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6156B-47BF-45F2-BD5D-6C25E533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1B89C-B727-4249-8480-55BEA2F7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4A704-90FB-411A-A567-F029A281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E3444-B156-4675-97AC-125910B9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240D3-26A3-4242-A849-19B2ED3F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217-668D-429C-A46E-756F8E0E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9A1E1-1E56-4322-A0BC-45E63293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514B1-A02F-40A2-9E1C-4F9BC9A0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640B3-C33A-4715-90C1-8FC79C6A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39C78-610A-429F-A86D-4E2AB5A7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E1F58-C265-4802-875E-678BC803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31773-350D-4297-B48B-9BE17CAF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4FBDD-B483-44FD-9A80-13C0004E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EB325-96CE-4156-9FEA-99CF0A4A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B2EDE-F0CD-4086-AA08-4FF22DB5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6488B-7DF3-4988-9F19-328289A2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9E2F-05B2-492C-8E52-85DF283D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4D965-D34C-40FE-A02A-74712E75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C2599-EB03-4555-9C04-AEF59556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7A5A0-B55C-4754-B170-8C61C909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D8E07-D8E8-4A5B-831E-C3490740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0589E-86AF-4F35-8007-9913250E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634B5-0281-4711-9D2B-D74D61FC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026FD-F873-43CF-9992-C1ACF01F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DF4A1-6B28-47DA-9310-84C6F0A5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62834-DFB4-4292-A265-DEB411F0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B960C-26AC-4FE9-B0F3-770EE085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37E-AFFB-4BFE-97F1-FA9E3DBA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2698F-58D7-425E-B0E1-FA8F4976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8F575-64D0-4B2F-A0C4-543FF443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6BBEF-CCA1-40FB-9D2E-9C9CF66D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F7B24-EBED-42A2-BDE8-98872A85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1C80B-5A67-489C-9010-F9FD08C2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01D3B-6427-4971-BADB-27AB9227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F1161-0F64-43A0-831E-8FF8E6B2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B83C1-1F33-4EB8-B339-14C8599D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84DB2-5D65-46AD-8A21-8BD3B030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16703-1731-4421-BC1C-FAE8340E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772-2CA7-478E-A33F-CB9973F0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C2ACD-B8D5-4DA0-A4DF-3E2C1DC8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E019D-9DC4-45A3-A962-71A505DA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2131D-1F3F-4484-862A-6FDC2952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F9C5A-9347-4AFE-8C7D-3BEFE2BE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13D70-7815-4B60-81FB-A625BB6D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393B8-3439-49B9-AF8F-83F711B5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333DA-A3CE-4AD0-8CB4-CB58C9F3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CD7EB-230B-404C-8832-D6CD84C4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4E213-C1B3-4E22-AA2D-314A3204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50245-2652-43F5-BD6A-DE1D010B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1330D-804F-42C4-ACD8-9D393B4162C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79AC8-E1CA-4602-8BB8-946F88D0506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2211E-EFEC-4D3C-9833-03D4796D77D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AC456-78F4-4F61-A751-ECAB8521FB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5806C-0767-49F3-A2D3-14C133EAB61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9D8A6-3361-470F-AF92-E1EE0281FE1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6BC71-5C71-4684-AFF2-A0B23D128A8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9FB83-0D83-427A-8E9C-22362217689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D73D4-E9BB-4A97-AE83-ADE5D38BA0B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073160" y="3249720"/>
            <a:ext cx="965520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793800" y="2260440"/>
            <a:ext cx="10864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Franklin Gothic Book"/>
              </a:rPr>
              <a:t>До какой температуры надо нагреть железную руду, чтобы она перешла в жидкое состояни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Franklin Gothic Book"/>
              </a:rPr>
              <a:t>Можно ли это сделать на газовой плите или в дровяной печ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517680" y="128520"/>
            <a:ext cx="9656640" cy="220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"/>
          <p:cNvPicPr/>
          <p:nvPr/>
        </p:nvPicPr>
        <p:blipFill>
          <a:blip r:embed="rId1"/>
          <a:stretch/>
        </p:blipFill>
        <p:spPr>
          <a:xfrm>
            <a:off x="471600" y="415800"/>
            <a:ext cx="5089320" cy="3243240"/>
          </a:xfrm>
          <a:prstGeom prst="rect">
            <a:avLst/>
          </a:prstGeom>
          <a:ln w="0">
            <a:noFill/>
          </a:ln>
        </p:spPr>
      </p:pic>
      <p:sp>
        <p:nvSpPr>
          <p:cNvPr id="403" name="TextBox 2"/>
          <p:cNvSpPr/>
          <p:nvPr/>
        </p:nvSpPr>
        <p:spPr>
          <a:xfrm>
            <a:off x="646200" y="4413240"/>
            <a:ext cx="62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Franklin Gothic Book"/>
              </a:rPr>
              <a:t>Литье в изложн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6751800" y="1117440"/>
            <a:ext cx="2701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Franklin Gothic Book"/>
              </a:rPr>
              <a:t>Изложница – это форма для отливки металла для получения сли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1" descr=""/>
          <p:cNvPicPr/>
          <p:nvPr/>
        </p:nvPicPr>
        <p:blipFill>
          <a:blip r:embed="rId1"/>
          <a:stretch/>
        </p:blipFill>
        <p:spPr>
          <a:xfrm>
            <a:off x="331920" y="711360"/>
            <a:ext cx="5243400" cy="342108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7093080" y="401760"/>
            <a:ext cx="4600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Franklin Gothic Book"/>
              </a:rPr>
              <a:t>Па́йка — технологическая операция, применяемая для получения неразъёмного соединения деталей из различных материалов путём введения между этими деталями расплавленного металла (припоя), имеющего более низкую температуру плавления, чем материал соединяемых дета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262080" y="5121360"/>
            <a:ext cx="11485440" cy="1322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1"/>
          <p:cNvSpPr/>
          <p:nvPr/>
        </p:nvSpPr>
        <p:spPr>
          <a:xfrm>
            <a:off x="6359400" y="484200"/>
            <a:ext cx="5029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Сва́рка — процесс получения неразъёмных соединений посредством установления межатомных связей между свариваемыми частями при их местном или общем нагреве, пластическом деформировании или совместном действии того и другого</a:t>
            </a:r>
            <a:r>
              <a:rPr b="0" lang="ru-RU" sz="2800" spc="-1" strike="noStrike" baseline="30000">
                <a:solidFill>
                  <a:srgbClr val="00b050"/>
                </a:solidFill>
                <a:latin typeface="Arial"/>
              </a:rPr>
              <a:t>[1]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. Специалист, занимающийся сварными работами, называется сварщ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https://upload.wikimedia.org/wikipedia/commons/thumb/a/aa/GMAW.welding.af.ncs.jpg/220px-GMAW.welding.af.ncs.jpg"/>
          <p:cNvPicPr/>
          <p:nvPr/>
        </p:nvPicPr>
        <p:blipFill>
          <a:blip r:embed="rId1"/>
          <a:stretch/>
        </p:blipFill>
        <p:spPr>
          <a:xfrm>
            <a:off x="743040" y="1055520"/>
            <a:ext cx="2674800" cy="3015000"/>
          </a:xfrm>
          <a:prstGeom prst="rect">
            <a:avLst/>
          </a:prstGeom>
          <a:ln w="0">
            <a:noFill/>
          </a:ln>
        </p:spPr>
      </p:pic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244440" y="-103320"/>
            <a:ext cx="11484000" cy="1335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3T14:59:32Z</dcterms:created>
  <dc:creator>RePack by Diakov</dc:creator>
  <dc:description/>
  <dc:language>en-US</dc:language>
  <cp:lastModifiedBy>Acer</cp:lastModifiedBy>
  <dcterms:modified xsi:type="dcterms:W3CDTF">2022-11-16T17:11:41Z</dcterms:modified>
  <cp:revision>84</cp:revision>
  <dc:subject/>
  <dc:title>Плавление материалов и отливка изделий. Пайка металлов. Сварка.</dc:title>
</cp:coreProperties>
</file>