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0320" cy="3397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3976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FDB4-69E8-46B1-A19D-6D675841F9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F00B3-13B4-49D3-A579-7FD1C4385E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DE0D4-02E1-4C18-AAC4-47A0B4984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DB40-8E1F-4810-A244-38EFBBA9B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773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2EE3-ACDE-4E01-B7AD-5E8B897F5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0D61-6A15-413C-B469-E1B011D7D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448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3088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448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3088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B49D-C038-4769-81F3-7E89747AC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5332-34CC-4F95-A3F5-0A241F5D76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98CB-C3E3-47DE-B2E7-9B0858392D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F4DB-0634-407F-AABD-C16BFE7A47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1BBF-F9F5-4A0B-9168-6252056887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807E-A64E-4C81-BDC3-0D004DBEC2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5344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34A8-C028-433C-AE29-755F9C8B5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3477-B49D-4F74-BDEA-25A7873D0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5C08-81C4-487B-B270-7D93C6DEE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0A15-04A0-4B39-9F6A-AE5271AAD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3095-BC34-4E46-A0A9-49068B1C9E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773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3428-BE00-4214-B3F3-C7364BE30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90EF-C29C-47E5-994F-6A9E32F4D8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448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0880" y="19047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448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30880" y="4077360"/>
            <a:ext cx="256788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4DF5-2776-413D-A15D-B512CE442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0B5C-745B-43D6-9195-7DDB4AC6D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8EBD-D055-4B8C-9DB6-BE7E7DAE0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E6D4-7240-47DD-9E0D-A8C2F8B38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5344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ACDF-4D8E-4151-A3B2-062FAB6A5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7212-6AE8-48FC-B52B-06D4D5113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40773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8293-076D-4F6A-8925-A3D9BB27B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904760"/>
            <a:ext cx="389196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77360"/>
            <a:ext cx="7975800" cy="198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4936-F824-40B6-ABF4-9CF2EF71A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793360" cy="4997520"/>
            <a:chOff x="318960" y="1828800"/>
            <a:chExt cx="8793360" cy="499752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274240" cy="22082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778960" cy="499752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274240" cy="21718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282080" cy="14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14400" cy="28018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14400" cy="221616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38880" cy="14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15840" cy="2216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4920"/>
            <a:ext cx="1870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EF43B-F138-4FE4-A0FA-52C26682503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793360" cy="5097600"/>
            <a:chOff x="318960" y="1752480"/>
            <a:chExt cx="8793360" cy="509760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778960" cy="507384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274240" cy="30164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53280" cy="14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37480" cy="14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15840" cy="30765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14400" cy="50878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79758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4920"/>
            <a:ext cx="1870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AE99C1-2875-47B0-B522-5503639394F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55720" y="3549600"/>
            <a:ext cx="79279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 Black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28720" y="360360"/>
            <a:ext cx="71280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1140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>
              <a:lnSpc>
                <a:spcPct val="15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«Целеполагание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как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важнейшее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условие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процессом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воспита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и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обуч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63640" y="1709640"/>
            <a:ext cx="78487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4c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Тема-вопро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урока формулируется в виде вопроса. Учащимся необходимо построить план действий, чтобы ответить на поставленный вопр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0000" y="639720"/>
            <a:ext cx="6559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52360" y="1452600"/>
            <a:ext cx="712800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rebuchet MS"/>
              </a:rPr>
              <a:t>Работа над понят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чащимся предлагается для зрительного восприятия название темы урока и просьба объяснить значение каждого слова или отыскать в "Толковом словаре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24000" y="706320"/>
            <a:ext cx="643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08000" y="1440000"/>
            <a:ext cx="7128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rebuchet MS"/>
              </a:rPr>
              <a:t>Подводящий диал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 этапе актуализации учебного материала ведется беседа, направленная на обобщение, конкретизацию, логику рассуждения. Но все звенья подведения опираются на уже пройденный классом материал, а последний обобщающий вопрос позволяет ученикам сформулировать тему и цель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431640"/>
            <a:ext cx="643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6000" y="314280"/>
            <a:ext cx="8856720" cy="81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ок русского языка по теме «Правописание мягкого знака после шипящих на конце существительны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Прочитайте слова на дос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читают: душ, ночь, ложь, страж, дочь, муж, клю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 Чем все эти слова похож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:  Это существительные с шипящими на ко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А чем слова отличаю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: В одних на конце есть мягкий знак, а в других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 Можем ли мы объяснить, почему так пишутся эти сло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: Мы этого ещё не изуч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Какова цель нашего уро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: Узнать, как пишутся существительные с шипящими на ко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4520" y="227160"/>
            <a:ext cx="8640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rebuchet MS"/>
              </a:rPr>
              <a:t>Домысливание</a:t>
            </a:r>
            <a:r>
              <a:rPr b="1" lang="ru-RU" sz="2400" spc="-1" strike="noStrike">
                <a:solidFill>
                  <a:srgbClr val="e6e64c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редлагается тема урока и слова «помощники»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А) Повтори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Б) Изучи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В) Узна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Г) Провери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С помощью слов «помощников» обучающиеся формулируют цели уро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00" y="4784760"/>
            <a:ext cx="87120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4c"/>
                </a:solidFill>
                <a:latin typeface="Arial"/>
              </a:rPr>
              <a:t>На уроке русского языка по теме "Будущее время глаголов" предлагаем детям продолжить ряды сл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4c"/>
                </a:solidFill>
                <a:latin typeface="Arial"/>
              </a:rPr>
              <a:t>Играть – играл – играю –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4c"/>
                </a:solidFill>
                <a:latin typeface="Arial"/>
              </a:rPr>
              <a:t>Читать – читал – читаю –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63640" y="1038240"/>
            <a:ext cx="7488360" cy="77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rebuchet MS"/>
              </a:rPr>
              <a:t>Ситуация яркого пятна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реди множества однотипных предметов, слов, цифр, букв, фигур одно выделено цветом или разме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0" y="395928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52360" y="287280"/>
            <a:ext cx="643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28720" y="1224000"/>
            <a:ext cx="5759640" cy="4033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32000" y="5327640"/>
            <a:ext cx="5327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4c"/>
                </a:solidFill>
                <a:latin typeface="Trebuchet MS"/>
              </a:rPr>
              <a:t>Длина Удава -  5 мартышек, 2 слоненка, 38 попуг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1360" y="287280"/>
            <a:ext cx="367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4c"/>
                </a:solidFill>
                <a:latin typeface="Trebuchet MS"/>
              </a:rPr>
              <a:t>Ситуация яркого пятна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20720" y="747720"/>
            <a:ext cx="7775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Группировка.</a:t>
            </a:r>
            <a:r>
              <a:rPr b="1" lang="ru-RU" sz="2400" spc="-1" strike="noStrike">
                <a:solidFill>
                  <a:srgbClr val="e6e64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 слов, предметов, фигур, цифр разделить на группы. Основанием классификации будут внешние признаки, а вопрос: "Почему имеют такие признаки?" будет задачей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7880" y="4159080"/>
            <a:ext cx="84661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апример: Урок математики по теме "Двузначные числа" можно начать с предлож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"Разделите на две группы числ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6, 12, 17, 5, 46, 1, 21, 72, 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6680" y="287280"/>
            <a:ext cx="643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08000" y="776160"/>
            <a:ext cx="755964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Trebuchet MS"/>
              </a:rPr>
              <a:t>Исключение</a:t>
            </a:r>
            <a:r>
              <a:rPr b="1" lang="ru-RU" sz="3600" spc="-1" strike="noStrike">
                <a:solidFill>
                  <a:srgbClr val="ffff6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ием можно использовать через зрительное или слуховое восприя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68560" y="3568680"/>
            <a:ext cx="4895640" cy="2951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92320" y="345960"/>
            <a:ext cx="643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изуальные приемы целеполаг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0720" y="216000"/>
            <a:ext cx="813600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Проблемная ситу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оздаётся ситуация противоречия между известным и   неизвестным. Последовательность применения данного приема так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амостоятельное р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оллективная проверка результ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ыявление причин разногласий результатов или затруднений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становка цели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6000" y="720720"/>
            <a:ext cx="84232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"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Когда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человек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не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знает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,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к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какой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пристани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он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держит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путь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,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для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него</a:t>
            </a:r>
            <a:br>
              <a:rPr sz="2800"/>
            </a:b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ни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один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ветер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не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будет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попутным</a:t>
            </a: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'Open Sans';sans-serif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                            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ff9966"/>
                </a:solidFill>
                <a:latin typeface="Arial Black"/>
                <a:ea typeface="Calibri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Сенека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63640" y="758880"/>
            <a:ext cx="8783640" cy="9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ок русского языка, 4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6e64c"/>
                </a:solidFill>
                <a:latin typeface="Arial"/>
              </a:rPr>
              <a:t>«Неопределенная форма глагол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доске записаны слова: играть, ехать, колоть, п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 Определить лицо и число глагол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47640" y="284040"/>
            <a:ext cx="7704360" cy="77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Аудиальные приемы целеполаг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rebuchet MS"/>
              </a:rPr>
              <a:t>Подводящий диало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Диалог подводят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0000" y="647640"/>
            <a:ext cx="66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Аудиальные приемы целеполаг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376360"/>
            <a:ext cx="7704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e6e64c"/>
                </a:solidFill>
                <a:latin typeface="Arial"/>
              </a:rPr>
              <a:t>Собери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урока определяется через кроссворд, ребус, головоломку, шифр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7280" y="71280"/>
            <a:ext cx="8280360" cy="75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Аудиальные приемы целеполаг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640" y="1041480"/>
            <a:ext cx="8207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e6e64c"/>
                </a:solidFill>
                <a:latin typeface="Arial"/>
              </a:rPr>
              <a:t>Проблема предыдущего ур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онце урока детям предлагается задание, в ходе которого должны возникнуть трудности с выполнением, из-за недостаточности знаний или недостаточностью времени, что подразумевает продолжение работы на следующем ур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06440" y="2049480"/>
            <a:ext cx="830592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«Мир уступает дорогу том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Кто знает, куда иде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Ральф Уолдо Эмерс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Благодарю за вним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11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Желаю Вам и учащимся правильных целей и их достижения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 algn="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1152360"/>
            <a:ext cx="871236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Удовлетворите всем желаниям человека, но отнимите у него цель в жизни и посмотрите, каким несчастным и ничтожным существом явится он. Следовательно, не удовлетворение желаний — то, что обыкновенно называют счастьем, а цель в жизни является сердцевиной человеческого достоинства и человеческого счасть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792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регулятивные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Open Sans';sans-serif"/>
              </a:rPr>
              <a:t>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учебные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Open Sans';sans-serif"/>
              </a:rPr>
              <a:t>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580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- целеполаг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- планир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рогнозир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резуль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коррекц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волева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аморегуляц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4c"/>
                </a:solidFill>
                <a:latin typeface="Trebuchet MS"/>
                <a:ea typeface="Calibri"/>
              </a:rPr>
              <a:t>            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Что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times new roman';times"/>
              </a:rPr>
              <a:t>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же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times new roman';times"/>
              </a:rPr>
              <a:t>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такое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times new roman';times"/>
              </a:rPr>
              <a:t> 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Calibri"/>
              </a:rPr>
              <a:t>цель</a:t>
            </a:r>
            <a:r>
              <a:rPr b="1" lang="ru-RU" sz="3200" spc="-1" strike="noStrike">
                <a:solidFill>
                  <a:srgbClr val="e6e64c"/>
                </a:solidFill>
                <a:latin typeface="Trebuchet MS"/>
                <a:ea typeface="'times new roman';time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6720" y="1905120"/>
            <a:ext cx="741528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1140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b80047"/>
                </a:solidFill>
                <a:latin typeface="Trebuchet MS"/>
                <a:ea typeface="'times new roman';times"/>
              </a:rPr>
              <a:t>Цель- это «то, к чему стремятся, то, что нужно осуществить..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'times new roman';times"/>
                <a:ea typeface="'times new roman';times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'times new roman';times"/>
              </a:rPr>
              <a:t>(словарь С.И. Ожего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957920"/>
            <a:ext cx="92883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63640" y="528480"/>
            <a:ext cx="75596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b84700"/>
                </a:solidFill>
                <a:latin typeface="Calibri"/>
                <a:ea typeface="Calibri"/>
              </a:rPr>
              <a:t>Целеполагание</a:t>
            </a:r>
            <a:r>
              <a:rPr b="1" lang="ru-RU" sz="3600" spc="-1" strike="noStrike">
                <a:solidFill>
                  <a:srgbClr val="cccc00"/>
                </a:solidFill>
                <a:latin typeface="'Open Sans';sans-serif"/>
                <a:ea typeface="'Open Sans';sans-serif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- 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это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роцесс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выявлен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целей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задач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убъектов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еятельности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учител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),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их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редъявлен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руг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ругу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гласован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остижения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Оно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должно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быть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убъектным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ответствовать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ланируемому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результату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'Open Sans';sans-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7440" y="2433600"/>
            <a:ext cx="9215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1140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1140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760" y="2506680"/>
            <a:ext cx="2643120" cy="64296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Microsoft YaHei"/>
              </a:rPr>
              <a:t>образова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0240" y="3792600"/>
            <a:ext cx="3071880" cy="85716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72120" y="2793960"/>
            <a:ext cx="2857680" cy="64296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31960" y="200160"/>
            <a:ext cx="3475080" cy="2249280"/>
          </a:xfrm>
          <a:prstGeom prst="rect">
            <a:avLst/>
          </a:prstGeom>
          <a:ln w="0">
            <a:noFill/>
          </a:ln>
        </p:spPr>
      </p:pic>
      <p:cxnSp>
        <p:nvCxnSpPr>
          <p:cNvPr id="140" name=""/>
          <p:cNvCxnSpPr/>
          <p:nvPr/>
        </p:nvCxnSpPr>
        <p:spPr>
          <a:xfrm flipH="1">
            <a:off x="1571400" y="1292040"/>
            <a:ext cx="1715040" cy="1215000"/>
          </a:xfrm>
          <a:prstGeom prst="straightConnector1">
            <a:avLst/>
          </a:prstGeom>
          <a:ln cap="sq"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endCxn id="137" idx="0"/>
          </p:cNvCxnSpPr>
          <p:nvPr/>
        </p:nvCxnSpPr>
        <p:spPr>
          <a:xfrm>
            <a:off x="4429080" y="1363320"/>
            <a:ext cx="108720" cy="2429640"/>
          </a:xfrm>
          <a:prstGeom prst="straightConnector1">
            <a:avLst/>
          </a:prstGeom>
          <a:ln cap="sq"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>
            <a:off x="5357880" y="1292040"/>
            <a:ext cx="2002320" cy="1430640"/>
          </a:xfrm>
          <a:prstGeom prst="straightConnector1">
            <a:avLst/>
          </a:prstGeom>
          <a:ln cap="sq"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1280" y="23976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64440" y="287964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Microsoft YaHei"/>
              </a:rPr>
              <a:t>воспита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6000" y="400680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Microsoft YaHei"/>
              </a:rPr>
              <a:t>развивающ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7640" y="936720"/>
            <a:ext cx="8064720" cy="84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rebuchet MS"/>
              </a:rPr>
              <a:t>Цель урока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лжна включать в себ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rebuchet MS"/>
              </a:rPr>
              <a:t>предмет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это объект воздействия, то на что воздействует педаг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rebuchet MS"/>
              </a:rPr>
              <a:t>средство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тражает каким образом происходит это воздействие, т.е. средства достижения ц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rebuchet MS"/>
              </a:rPr>
              <a:t>конечный результат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– это конкретное знание, умение , которому хотят научить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Trebuchet MS"/>
              </a:rPr>
              <a:t>способ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84360" y="152280"/>
            <a:ext cx="5472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rebuchet MS"/>
                <a:ea typeface="Times New Roman"/>
              </a:rPr>
              <a:t>Все приемы целеполагания классифицируются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9240" y="2016000"/>
            <a:ext cx="80074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rebuchet MS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rebuchet MS"/>
                <a:ea typeface="Times New Roman"/>
              </a:rPr>
              <a:t>визуальные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 </a:t>
            </a:r>
            <a:r>
              <a:rPr b="1" i="1" lang="ru-RU" sz="24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             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rebuchet MS"/>
                <a:ea typeface="Times New Roman"/>
              </a:rPr>
              <a:t>ауд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Тема-вопрос                            Подводящий диалог Работа над понятием           Собери слово            Ситуация яркого пятна        Исключение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Исключение                            Проблема                  Домысливание                       предыдущего урока. Проблемная ситуация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Группировка.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22T10:36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