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89B-4D22-4B18-8987-69C3FE43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072-5AB5-4F51-8A37-C4B82025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57F-9446-4417-927E-153B5DED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B10-ED3E-4462-848F-5C552DC1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C17-C1E8-440D-BC05-B0C1435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046-BA43-447E-A106-89766CA9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2FB-8BF5-4061-AA3C-7B627BD8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6F3-06A6-4A48-9D03-F2D13CDF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A6A-690A-449B-8338-A54540B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60D-28A4-4A7B-BD42-10E3EE9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C34-1CF3-4CFA-9AAF-DD50417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BD7-356B-4339-A8D8-29EB211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AAF-17FD-4CDF-A61C-AC03F74DE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16000" y="2925720"/>
            <a:ext cx="64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Государственные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484360" y="4292640"/>
            <a:ext cx="3818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символ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552760" y="5227560"/>
            <a:ext cx="36748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Росси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76720" y="1413000"/>
            <a:ext cx="561636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30-60-е годы XVIII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казом императрицы Екатерины I от 11 марта 1726 года было закреплено описание герба: "Орел черный с распростертыми крыльями, в желтом поле, на нем ездец в красном пол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Герб  России. 30-60-е годы XVIII века."/>
          <p:cNvPicPr/>
          <p:nvPr/>
        </p:nvPicPr>
        <p:blipFill>
          <a:blip r:embed="rId1"/>
          <a:stretch/>
        </p:blipFill>
        <p:spPr>
          <a:xfrm>
            <a:off x="328680" y="907920"/>
            <a:ext cx="30193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5280" y="1125360"/>
            <a:ext cx="50403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убеж XVIII-XIX ве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0 августа 1799 года Павлом I был подписан Указ о включении в состав государственного герба мальтийских креста и короны. На груди орла под мальтийской короной располагался щит со Святым Георгием (Павел толковал его как "коренной герб России"), наложенный на мальтийский кр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мператор Александр I Указом от 26 апреля 1801 года убрал мальтийские крест и корону с герба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Герб  России. 30-60-е годы XVIII века."/>
          <p:cNvPicPr/>
          <p:nvPr/>
        </p:nvPicPr>
        <p:blipFill>
          <a:blip r:embed="rId1"/>
          <a:stretch/>
        </p:blipFill>
        <p:spPr>
          <a:xfrm>
            <a:off x="384120" y="1079640"/>
            <a:ext cx="29638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357336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 императоре Николае I официально было закреплено одновременное существование двух типов государственного о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ервый тип - орел с расправленными крыльями, под одной короной, с образом Святого Георгия на груди и со скипетром и державой в лап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ерб России. 1-я половина XIX века"/>
          <p:cNvPicPr/>
          <p:nvPr/>
        </p:nvPicPr>
        <p:blipFill>
          <a:blip r:embed="rId1"/>
          <a:stretch/>
        </p:blipFill>
        <p:spPr>
          <a:xfrm>
            <a:off x="900000" y="692280"/>
            <a:ext cx="2189160" cy="2854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176720" y="2997360"/>
            <a:ext cx="485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торой тип представлял собой орла с поднятыми крыльями, на которых изображались титульные гербы: на правом - Казанский, Астраханский, Сибирский, на левом - Польский, Таврический, Финляндский. Некоторое время имела хождение и другая версия - с гербами трех "главных" древнерусских Великих Княжеств (Киевского, Владимирского и Новгородской земли) и трех царств - Казанского, Астраханского и Сибирск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Герб России. 1-я половина XIX века"/>
          <p:cNvPicPr/>
          <p:nvPr/>
        </p:nvPicPr>
        <p:blipFill>
          <a:blip r:embed="rId2"/>
          <a:stretch/>
        </p:blipFill>
        <p:spPr>
          <a:xfrm>
            <a:off x="5867280" y="115920"/>
            <a:ext cx="181476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348000" y="1484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-я полов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XIX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635280" y="1420920"/>
            <a:ext cx="5183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ередина XIX ве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855-1857 годах , тип государственного орла был изменен под влиянием германских образ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т вариант герба отличался от предшествующих не только изображением орла, но и количеством "титульных" гербов на крыль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Герб России. Середина XIX века"/>
          <p:cNvPicPr/>
          <p:nvPr/>
        </p:nvPicPr>
        <p:blipFill>
          <a:blip r:embed="rId1"/>
          <a:stretch/>
        </p:blipFill>
        <p:spPr>
          <a:xfrm>
            <a:off x="324000" y="1197000"/>
            <a:ext cx="32479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780000" y="765000"/>
            <a:ext cx="496872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ольшой Государственный герб 1882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4 июля 1882 года Император Александр III утвердил рисунок Большого Герба Российской империи, на котором была сохранена композиция, но изменены детали, в частности фигуры арханге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Герб России. Большой Государственный герб, 1882 г."/>
          <p:cNvPicPr/>
          <p:nvPr/>
        </p:nvPicPr>
        <p:blipFill>
          <a:blip r:embed="rId1"/>
          <a:stretch/>
        </p:blipFill>
        <p:spPr>
          <a:xfrm>
            <a:off x="395280" y="1052640"/>
            <a:ext cx="3014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1125360"/>
            <a:ext cx="525636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ал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осударственный 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1883-1917 г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январе 1895 г. императором Николаем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был утвержден  вариант Малого герба России в котором как и прежде сохранялось германское вли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Герб России. Малый Государственный герб, &#10;1883-1917 гг."/>
          <p:cNvPicPr/>
          <p:nvPr/>
        </p:nvPicPr>
        <p:blipFill>
          <a:blip r:embed="rId1"/>
          <a:stretch/>
        </p:blipFill>
        <p:spPr>
          <a:xfrm>
            <a:off x="395280" y="1052640"/>
            <a:ext cx="3014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989440" y="1711440"/>
            <a:ext cx="59036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ерб России, 1917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сле Февральской революции 1917 года было принято решение о возможности использовать изображения двуглавого орла, лишенного почти всех символов власти. Его использовали, вплоть до принятия нового советского герба 24 июля 1918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Герб России. Герб России, 1917 г."/>
          <p:cNvPicPr/>
          <p:nvPr/>
        </p:nvPicPr>
        <p:blipFill>
          <a:blip r:embed="rId1"/>
          <a:stretch/>
        </p:blipFill>
        <p:spPr>
          <a:xfrm>
            <a:off x="250920" y="1484280"/>
            <a:ext cx="2739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067280" y="907920"/>
            <a:ext cx="4752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осударственный гер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СФСР, 1918-1993 г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Летом 1918 года советское правительств решило порвать с исторической символикой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вуглавый орел был заменен красным щитом, на котором изображались перекрещенные серп и молот и восходящее солнце как знак пере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 1920 года вверху на щите помещалось сокращенное название государства - РСФ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Щит окаймляли пшеничные колосья, закрепленные красной лентой с надписью "Пролетарии всех стран, соединяйтесь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Герб России. Государственный герб РСФСР, 1918-1993 гг."/>
          <p:cNvPicPr/>
          <p:nvPr/>
        </p:nvPicPr>
        <p:blipFill>
          <a:blip r:embed="rId1"/>
          <a:stretch/>
        </p:blipFill>
        <p:spPr>
          <a:xfrm>
            <a:off x="324000" y="1125360"/>
            <a:ext cx="3240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492360" y="404640"/>
            <a:ext cx="5329440" cy="58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ерб Советского Союза 1922г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ерп и молот символ новой власти и мирный труд; колосья - жизнеспособность государства, процветание; солнце - свет идей Октября, источник силы советского государства, светлое будущее; красная звезда - пролетарский интернационализм и борьбу труда с капиталом на пяти континентах; а золотая кайма звезды - отблеск огня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ussr78"/>
          <p:cNvPicPr/>
          <p:nvPr/>
        </p:nvPicPr>
        <p:blipFill>
          <a:blip r:embed="rId1"/>
          <a:stretch/>
        </p:blipFill>
        <p:spPr>
          <a:xfrm>
            <a:off x="250920" y="1557360"/>
            <a:ext cx="31780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492360" y="1557360"/>
            <a:ext cx="51120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осударственный 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оссийской Федер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1993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993г. Указом Президента России Б.Н. Ельцина, золотой двуглавый орел был утвержден в качестве государств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Герб России. Государственный герб Российской Федерации, 1993 г."/>
          <p:cNvPicPr/>
          <p:nvPr/>
        </p:nvPicPr>
        <p:blipFill>
          <a:blip r:embed="rId1"/>
          <a:stretch/>
        </p:blipFill>
        <p:spPr>
          <a:xfrm>
            <a:off x="250920" y="981000"/>
            <a:ext cx="3349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39640" y="26028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у каждого государства, у России есть свои государственные симво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393372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ГЕР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492360" y="3951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588000" y="3951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ГИМ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71640" y="2276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908000" y="3284640"/>
            <a:ext cx="5184720" cy="791640"/>
            <a:chOff x="1908000" y="3284640"/>
            <a:chExt cx="5184720" cy="791640"/>
          </a:xfrm>
        </p:grpSpPr>
        <p:sp>
          <p:nvSpPr>
            <p:cNvPr id="50" name="Line 11"/>
            <p:cNvSpPr/>
            <p:nvPr/>
          </p:nvSpPr>
          <p:spPr>
            <a:xfrm>
              <a:off x="1908000" y="3284640"/>
              <a:ext cx="5184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>
              <a:off x="1908000" y="3284640"/>
              <a:ext cx="0" cy="79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>
              <a:off x="4313160" y="3284640"/>
              <a:ext cx="0" cy="79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7092720" y="3284640"/>
              <a:ext cx="0" cy="79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24360" y="836640"/>
            <a:ext cx="4394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осударственный герб  Российской Федерации,       200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8 декабря 2000 года Государственная Дума приняла Федеральный конституционный закон "о Государственном гербе Российской Федерации". Который был одобрен Советом Федерации и подписан Президен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Герб России. Государственный герб Российской &#10;Федерации, 2000 г."/>
          <p:cNvPicPr/>
          <p:nvPr/>
        </p:nvPicPr>
        <p:blipFill>
          <a:blip r:embed="rId1"/>
          <a:stretch/>
        </p:blipFill>
        <p:spPr>
          <a:xfrm>
            <a:off x="539640" y="1773360"/>
            <a:ext cx="23367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03640" y="333360"/>
            <a:ext cx="561636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начение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олотой двуглавый орел на красном поле сохраняет историческую преемственность в цветовой гамме гербов конца XV - XVI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ад головами орла изображены три исторические короны Петра Великого, символизирующие в новых условиях суверенитет, как всей Российской Федерации, так и ее частей, субъектов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 лапах - скипетр и держава, олицетворяющие государственную власть и единое государ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а груди - изображение всадника, поражающего копьем дракона. Это один из древних символов борьбы добра со злом, света с тьмой, защиты От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Герб России. Государственный герб Российской &#10;Федерации, 2000 г."/>
          <p:cNvPicPr/>
          <p:nvPr/>
        </p:nvPicPr>
        <p:blipFill>
          <a:blip r:embed="rId1"/>
          <a:stretch/>
        </p:blipFill>
        <p:spPr>
          <a:xfrm>
            <a:off x="539640" y="1773360"/>
            <a:ext cx="23367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24000" y="278136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осударственный флаг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03640" y="620640"/>
            <a:ext cx="59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780000" y="404640"/>
            <a:ext cx="536400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ее официальный государственный символ (наряду с гербом и гимном). Утвержден Указом Президента Российской Федерации №2126 от 11 декабря 1993года "О Государственном флаге Российской Федерации". Представляет собой прямоугольное полотнище из трёх равновеликих горизонтальных полос: верхней — белого, средней — синего и нижней — красного цвета. Отношение ширины флага к его длине составляет 2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191247"/>
          <p:cNvPicPr/>
          <p:nvPr/>
        </p:nvPicPr>
        <p:blipFill>
          <a:blip r:embed="rId1"/>
          <a:stretch/>
        </p:blipFill>
        <p:spPr>
          <a:xfrm>
            <a:off x="179280" y="722160"/>
            <a:ext cx="6201000" cy="5515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39640" y="189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Государственный флаг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0_5dc65_1ff14c8_XL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79280" y="333360"/>
            <a:ext cx="87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лаг  подлежит защите как внутри страны, так за её пред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го оскорбление рассматривается как оскорбление чести народа и государства. Надругательство над Государственным флагом Российской Федерации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ступлени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Надругательство может выражаться в совершении лицами, достигшими 16 лет, самых разнообразных активных публичных действий, свидетельствующих о неуважительном отношении к флагу, например, в его уничтожении, повреждении, нанесении циничных рисунков или надпи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stellar"/>
              </a:rPr>
              <a:t>ФЛАГ-</a:t>
            </a:r>
            <a:r>
              <a:rPr b="1" i="1" lang="ru-RU" sz="4800" spc="-1" strike="noStrike">
                <a:solidFill>
                  <a:srgbClr val="000000"/>
                </a:solidFill>
                <a:latin typeface="Castellar"/>
              </a:rPr>
              <a:t> это СВЯТЫ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333360"/>
            <a:ext cx="76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лаг Российской Федерации</a:t>
            </a:r>
            <a:endParaRPr b="1" i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003640" y="184464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На нашем фл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три ц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stellar"/>
              </a:rPr>
              <a:t>Б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stellar"/>
              </a:rPr>
              <a:t>С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Флаг - трикол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dr"/>
          <p:cNvPicPr/>
          <p:nvPr/>
        </p:nvPicPr>
        <p:blipFill>
          <a:blip r:embed="rId1"/>
          <a:stretch/>
        </p:blipFill>
        <p:spPr>
          <a:xfrm>
            <a:off x="539640" y="2421000"/>
            <a:ext cx="36943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191247"/>
          <p:cNvPicPr/>
          <p:nvPr/>
        </p:nvPicPr>
        <p:blipFill>
          <a:blip r:embed="rId1"/>
          <a:srcRect l="0" t="0" r="41936" b="0"/>
          <a:stretch/>
        </p:blipFill>
        <p:spPr>
          <a:xfrm>
            <a:off x="324000" y="1052640"/>
            <a:ext cx="3600360" cy="5514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История происхождения трико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9280" y="1052640"/>
            <a:ext cx="877572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У историков существует несколько версий происхождения цветов в Государственном фл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ервая версия относится к временам правления Петра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, который взял эти цвета у герба Моск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stellar"/>
              </a:rPr>
              <a:t>Белы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- это белый</a:t>
            </a:r>
            <a:r>
              <a:rPr b="1" i="1" lang="ru-RU" sz="2800" spc="-1" strike="noStrike">
                <a:solidFill>
                  <a:srgbClr val="ffff99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ко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stellar"/>
              </a:rPr>
              <a:t>Сини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синий плащ на Георгии Победонос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красный щит гер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11280" y="404640"/>
            <a:ext cx="779292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stellar"/>
              </a:rPr>
              <a:t>Вторая точка зрения утверждает, что появление триколора имеет истор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89000" y="1197000"/>
            <a:ext cx="87757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Чередующиеся белая, синяя и красная полосы появились во времена правления отца Петра</a:t>
            </a:r>
            <a:r>
              <a:rPr b="1" i="1" lang="en-US" sz="3000" spc="-1" strike="noStrike">
                <a:solidFill>
                  <a:srgbClr val="000000"/>
                </a:solidFill>
                <a:latin typeface="Castellar"/>
              </a:rPr>
              <a:t> I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– царя Алексея Михайлович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В те времена Россия была многонациональным государством, и основными народами считалис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Белорусы ( </a:t>
            </a:r>
            <a:r>
              <a:rPr b="1" i="1" lang="ru-RU" sz="3000" spc="-1" strike="noStrike">
                <a:solidFill>
                  <a:srgbClr val="ffffff"/>
                </a:solidFill>
                <a:latin typeface="Castellar"/>
              </a:rPr>
              <a:t>белый цвет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Украинцы ( </a:t>
            </a:r>
            <a:r>
              <a:rPr b="1" i="1" lang="ru-RU" sz="3000" spc="-1" strike="noStrike">
                <a:solidFill>
                  <a:srgbClr val="000099"/>
                </a:solidFill>
                <a:latin typeface="Castellar"/>
              </a:rPr>
              <a:t>синий цвет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Русские ( </a:t>
            </a:r>
            <a:r>
              <a:rPr b="1" i="1" lang="ru-RU" sz="3000" spc="-1" strike="noStrike">
                <a:solidFill>
                  <a:srgbClr val="cc0000"/>
                </a:solidFill>
                <a:latin typeface="Castellar"/>
              </a:rPr>
              <a:t>красный цвет</a:t>
            </a:r>
            <a:r>
              <a:rPr b="1" i="1" lang="ru-RU" sz="30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флаг"/>
          <p:cNvPicPr/>
          <p:nvPr/>
        </p:nvPicPr>
        <p:blipFill>
          <a:blip r:embed="rId1"/>
          <a:srcRect l="3087" t="6508" r="3087" b="4492"/>
          <a:stretch/>
        </p:blipFill>
        <p:spPr>
          <a:xfrm>
            <a:off x="5796000" y="4444920"/>
            <a:ext cx="3097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55640" y="18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stellar"/>
              </a:rPr>
              <a:t>По – иному объясняют расцветку Российского флага</a:t>
            </a:r>
            <a:r>
              <a:rPr b="1" i="1" lang="ru-RU" sz="44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astellar"/>
              </a:rPr>
              <a:t>геральд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557360"/>
            <a:ext cx="896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( учёные, которые изучают символы государ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Они полагают, что белый и синий цвета издревле считались цветами Русской православн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stellar"/>
              </a:rPr>
              <a:t>БЕЛЫЙ</a:t>
            </a:r>
            <a:r>
              <a:rPr b="1" i="1" lang="ru-RU" sz="3200" spc="-1" strike="noStrike">
                <a:solidFill>
                  <a:srgbClr val="ffff66"/>
                </a:solidFill>
                <a:latin typeface="Castellar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doni MT"/>
              </a:rPr>
              <a:t>ОЗНАЧАЕ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Bodoni MT"/>
              </a:rPr>
              <a:t>ОТКРОВЕННОСТЬ, БЛАГОРОДСТВО, СОВЕРШ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stellar"/>
              </a:rPr>
              <a:t>СИНИ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stellar"/>
              </a:rPr>
              <a:t>ВЕРНОСТЬ И Ч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</a:t>
            </a:r>
            <a:r>
              <a:rPr b="1" i="1" lang="ru-RU" sz="2800" spc="-1" strike="noStrike">
                <a:solidFill>
                  <a:srgbClr val="009999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stellar"/>
              </a:rPr>
              <a:t>МУЖЕСТВО, ОТВАГУ, ГЕРО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11280" y="149400"/>
            <a:ext cx="77724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stellar"/>
              </a:rPr>
              <a:t>В России существует праздник, который торжественно отмеч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opperplate Gothic Bold"/>
              </a:rPr>
              <a:t>22 АВГУСТА –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Rockwell Extra Bold"/>
              </a:rPr>
              <a:t>ДЕНЬ ГОСУДАРСТВЕННОГО ФЛ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Rockwell Extra Bold"/>
              </a:rPr>
              <a:t>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1275215348_rrrrr5"/>
          <p:cNvPicPr/>
          <p:nvPr/>
        </p:nvPicPr>
        <p:blipFill>
          <a:blip r:embed="rId1"/>
          <a:stretch/>
        </p:blipFill>
        <p:spPr>
          <a:xfrm>
            <a:off x="2124000" y="2924280"/>
            <a:ext cx="48182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5600" y="1052640"/>
            <a:ext cx="82195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Гербы появились очень давно,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около 4 тысяч лет назад.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Слово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 ГЕРБ »</a:t>
            </a: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 немецкое  ЭР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обознач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АСЛЕ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Герб показ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исторические традиц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755640" y="33336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Verdana"/>
              </a:rPr>
              <a:t>ГОСУДАРСТВЕННЫЙ ГИМ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24360" y="2133720"/>
            <a:ext cx="49687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Rockwell Extra Bold"/>
              </a:rPr>
              <a:t>Гимн</a:t>
            </a:r>
            <a:r>
              <a:rPr b="0" lang="ru-RU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это главная песн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о гимн греческое и означа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Rockwell Extra Bold"/>
              </a:rPr>
              <a:t>ВОСХВАЛЕНИЕ</a:t>
            </a:r>
            <a:r>
              <a:rPr b="0" i="1" lang="ru-RU" sz="2400" spc="-1" strike="noStrike">
                <a:solidFill>
                  <a:srgbClr val="0000cc"/>
                </a:solidFill>
                <a:latin typeface="Rockwell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а гимна написал Сергей Михалков, а слова Александр Алексан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Гимн России был прин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в 200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гимн1"/>
          <p:cNvPicPr/>
          <p:nvPr/>
        </p:nvPicPr>
        <p:blipFill>
          <a:blip r:embed="rId1"/>
          <a:stretch/>
        </p:blipFill>
        <p:spPr>
          <a:xfrm>
            <a:off x="395280" y="1844640"/>
            <a:ext cx="3525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26920" y="33336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2924280"/>
            <a:ext cx="741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осударственный гимн Российской Федерации должен исполняться в точном соответствии с утвержденными музыкальной редакцией и 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ри официальном исполнении Государственного гимна Российской Федерации присутствующие выслушивают его стоя, мужчины — без головных уб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0" y="0"/>
            <a:ext cx="9144000" cy="2249640"/>
            <a:chOff x="0" y="0"/>
            <a:chExt cx="9144000" cy="2249640"/>
          </a:xfrm>
        </p:grpSpPr>
        <p:sp>
          <p:nvSpPr>
            <p:cNvPr id="121" name="Rectangle 7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0" y="765000"/>
              <a:ext cx="9144000" cy="76536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0" y="1484280"/>
              <a:ext cx="9144000" cy="76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268360" y="189000"/>
            <a:ext cx="58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 — священная наша держав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я — любимая наша стран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гучая воля, великая слава —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вься, Отечество наше 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ратских народов союз вековой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ками данная мудрость 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 южных морей до полярного края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инулись наши леса и поля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дна ты на свете! Одна ты такая —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окий простор для мечты и для жизн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ядущие нам открывают год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м силу даёт наша верность Отчизне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0" y="0"/>
            <a:ext cx="2268360" cy="841320"/>
            <a:chOff x="0" y="0"/>
            <a:chExt cx="2268360" cy="84132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22683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0" y="285840"/>
              <a:ext cx="2268360" cy="2862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>
              <a:off x="0" y="555120"/>
              <a:ext cx="2268360" cy="28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0"/>
          <p:cNvGrpSpPr/>
          <p:nvPr/>
        </p:nvGrpSpPr>
        <p:grpSpPr>
          <a:xfrm>
            <a:off x="6875640" y="6016680"/>
            <a:ext cx="2268360" cy="841320"/>
            <a:chOff x="6875640" y="6016680"/>
            <a:chExt cx="2268360" cy="841320"/>
          </a:xfrm>
        </p:grpSpPr>
        <p:sp>
          <p:nvSpPr>
            <p:cNvPr id="130" name="Rectangle 11"/>
            <p:cNvSpPr/>
            <p:nvPr/>
          </p:nvSpPr>
          <p:spPr>
            <a:xfrm>
              <a:off x="6875640" y="6016680"/>
              <a:ext cx="22683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6875640" y="6302520"/>
              <a:ext cx="2268360" cy="2862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6875640" y="6571800"/>
              <a:ext cx="2268360" cy="28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14" descr="Герб России. Государственный герб Российской &#10;Федерации, 2000 г.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15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Герб России. Государственный герб Российской &#10;Федерации, 2000 г."/>
          <p:cNvPicPr/>
          <p:nvPr/>
        </p:nvPicPr>
        <p:blipFill>
          <a:blip r:embed="rId2"/>
          <a:stretch/>
        </p:blipFill>
        <p:spPr>
          <a:xfrm>
            <a:off x="0" y="5370480"/>
            <a:ext cx="1092240" cy="151452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7"/>
          <p:cNvSpPr txBox="1"/>
          <p:nvPr/>
        </p:nvSpPr>
        <p:spPr>
          <a:xfrm rot="5400000">
            <a:off x="-566280" y="287892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18"/>
          <p:cNvSpPr txBox="1"/>
          <p:nvPr/>
        </p:nvSpPr>
        <p:spPr>
          <a:xfrm rot="5400000">
            <a:off x="6922080" y="287892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ССИ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755640" y="0"/>
            <a:ext cx="439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ОССИЙ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ФЕДЕР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ГЕРБ, ФЛАГ, 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moscow_kremlin_st_basil"/>
          <p:cNvPicPr/>
          <p:nvPr/>
        </p:nvPicPr>
        <p:blipFill>
          <a:blip r:embed="rId1"/>
          <a:srcRect l="0" t="0" r="20764" b="13388"/>
          <a:stretch/>
        </p:blipFill>
        <p:spPr>
          <a:xfrm>
            <a:off x="250920" y="2492280"/>
            <a:ext cx="5076720" cy="41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Герб России. Государственный герб Российской &#10;Федерации, 2000 г."/>
          <p:cNvPicPr/>
          <p:nvPr/>
        </p:nvPicPr>
        <p:blipFill>
          <a:blip r:embed="rId2"/>
          <a:stretch/>
        </p:blipFill>
        <p:spPr>
          <a:xfrm>
            <a:off x="7308720" y="4221000"/>
            <a:ext cx="154008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-flag-hor"/>
          <p:cNvPicPr/>
          <p:nvPr/>
        </p:nvPicPr>
        <p:blipFill>
          <a:blip r:embed="rId3"/>
          <a:srcRect l="0" t="0" r="36484" b="0"/>
          <a:stretch/>
        </p:blipFill>
        <p:spPr>
          <a:xfrm>
            <a:off x="5580000" y="189000"/>
            <a:ext cx="302436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95640" y="692280"/>
            <a:ext cx="47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Орел увенчан двумя малыми коронами и - над ними - одной большой короной, соединенными лентой. В правой лапе орла - скипетр, в левой - держава. На груди орла, в красном щите, - серебряный всадник в синем плаще на серебряном коне, поражающий серебряным копьем черного опрокинутого навзничь и попранного кон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Герб России. Государственный герб Российской &#10;Федерации, 2000 г."/>
          <p:cNvPicPr/>
          <p:nvPr/>
        </p:nvPicPr>
        <p:blipFill>
          <a:blip r:embed="rId1"/>
          <a:stretch/>
        </p:blipFill>
        <p:spPr>
          <a:xfrm>
            <a:off x="468360" y="907920"/>
            <a:ext cx="3203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50920" y="33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Хронология гер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Герб  России.  XV век."/>
          <p:cNvPicPr/>
          <p:nvPr/>
        </p:nvPicPr>
        <p:blipFill>
          <a:blip r:embed="rId1"/>
          <a:stretch/>
        </p:blipFill>
        <p:spPr>
          <a:xfrm>
            <a:off x="247680" y="1413000"/>
            <a:ext cx="2955960" cy="40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419640" y="1197000"/>
            <a:ext cx="5329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XV век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ремя правления великого князя Ивана III (1462-1505 гг.) - важнейший этап складывания единого Российского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ербом России стал двуглавый орел, олицетворяющий верховную власть, независимость, то, что называлось на Руси «самодержав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Герб  России.  Середина XVI века."/>
          <p:cNvPicPr/>
          <p:nvPr/>
        </p:nvPicPr>
        <p:blipFill>
          <a:blip r:embed="rId1"/>
          <a:stretch/>
        </p:blipFill>
        <p:spPr>
          <a:xfrm>
            <a:off x="324000" y="1052640"/>
            <a:ext cx="287316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1484280"/>
            <a:ext cx="4680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ередина XVI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эпоху Ивана Грозного на золотой булле (государственной печати) 1562 года в центре двуглавого орла появилось изображение всадника ("езца") - одного из древнейших символов княжеской власти на "Рус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419640" y="404640"/>
            <a:ext cx="5329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нец XVI - начало XVII века</a:t>
            </a:r>
            <a:br>
              <a:rPr sz="28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правление царя Федора Ивановича между коронованными головами двуглавого орла появляется знак страстей Христовых: так называемый голгофский крест, придающий религиозную окраску гербу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явление "голгофского креста" в гербе России совпадает со временем утверждения в 1589 году патриаршества и церковной независимости Росс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Герб  России.  Конец XVI - начало XVII века."/>
          <p:cNvPicPr/>
          <p:nvPr/>
        </p:nvPicPr>
        <p:blipFill>
          <a:blip r:embed="rId1"/>
          <a:stretch/>
        </p:blipFill>
        <p:spPr>
          <a:xfrm>
            <a:off x="324000" y="907920"/>
            <a:ext cx="29098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08360" y="404640"/>
            <a:ext cx="475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и первом царе этой династии - Михаиле Федоровиче - Государственный герб несколько меняется. В 1625 году впервые двуглавый орел изображается под тремя кор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 1613 года по решению Земского собора в России стала править династия Романов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сле вхождения Украины в состав Российского государства орел под тремя коронами изображен держащим в когтях символы власти: скипетр и державу и с поднятыми крыльями, что отличало его от византийского образ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Герб  России.  XVII век."/>
          <p:cNvPicPr/>
          <p:nvPr/>
        </p:nvPicPr>
        <p:blipFill>
          <a:blip r:embed="rId1"/>
          <a:stretch/>
        </p:blipFill>
        <p:spPr>
          <a:xfrm>
            <a:off x="285840" y="1052640"/>
            <a:ext cx="31287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492360" y="1052640"/>
            <a:ext cx="5400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1 четверть XVIII ве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 годы правления Петра I в государственную геральдику России вошла новая эмблема - орденская цепь ордена Св. апостола Андрея Первозван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Уже с 1710 года (на десятилетие раньше, чем Петр I был провозглашен императором (1721 г.), а Россия - империей). Над орлом стали изображать императорские кор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        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 первой четверти XVIII века цветами двуглавого орла стали коричневый (естественный) или че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Герб  России. 1 четверть XVIII века."/>
          <p:cNvPicPr/>
          <p:nvPr/>
        </p:nvPicPr>
        <p:blipFill>
          <a:blip r:embed="rId1"/>
          <a:stretch/>
        </p:blipFill>
        <p:spPr>
          <a:xfrm>
            <a:off x="274680" y="981000"/>
            <a:ext cx="3043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20:15Z</dcterms:created>
  <dc:creator>GaS</dc:creator>
  <dc:description/>
  <dc:language>en-US</dc:language>
  <cp:lastModifiedBy>Home</cp:lastModifiedBy>
  <dcterms:modified xsi:type="dcterms:W3CDTF">2017-06-19T18:10:08Z</dcterms:modified>
  <cp:revision>42</cp:revision>
  <dc:subject/>
  <dc:title>Слайд 1</dc:title>
</cp:coreProperties>
</file>