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4C2-EE71-4B7E-B07F-D10B762F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851-E26A-40F1-A9A6-3B76E55F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DBE-41A6-49BF-B9AA-7B434568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7F5-F05C-431E-A936-904F0D6A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F20-2834-43AA-B33F-837CFC08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8FA7-CD7B-4DFE-A6F7-EE9084CC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0F4D-84CF-41BD-811A-3D585D81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508-C740-4044-8969-E878ECFF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742-BF2A-4AF1-928C-41C116D9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94B0-F0F8-4F0B-A590-A138CAAA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7B6-2205-4CEE-8A47-0E80CE4F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90C6-EF48-42BE-89EE-BBFFDFC2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4C1B-A0B4-4C3A-889F-22874A9C29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5805360"/>
            <a:ext cx="1300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иридова Ольга Михайловна 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БОУ СОШ №1 п. Клетня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ни генерал-майора авиации Г.П.Политык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 flipV="1" rot="10800000">
            <a:off x="971640" y="24015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ТЕР-КЛАС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195640" y="620640"/>
            <a:ext cx="47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ро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s://phonoteka.org/uploads/posts/2021-04/thumbs/1619699024_7-phonoteka_org-p-lestnitsa-bez-fona-8.png"/>
          <p:cNvPicPr/>
          <p:nvPr/>
        </p:nvPicPr>
        <p:blipFill>
          <a:blip r:embed="rId1"/>
          <a:stretch/>
        </p:blipFill>
        <p:spPr>
          <a:xfrm>
            <a:off x="900000" y="1773360"/>
            <a:ext cx="7488360" cy="4557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580000" y="2565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СПЕ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468360" y="5013360"/>
            <a:ext cx="24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</a:rPr>
              <a:t>УВЛЕ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1547640" y="41562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</a:rPr>
              <a:t>УДИВ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3419640" y="357192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</a:rPr>
              <a:t>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1264680" y="1857240"/>
            <a:ext cx="1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ФГ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9" descr=""/>
          <p:cNvPicPr/>
          <p:nvPr/>
        </p:nvPicPr>
        <p:blipFill>
          <a:blip r:embed="rId2"/>
          <a:stretch/>
        </p:blipFill>
        <p:spPr>
          <a:xfrm>
            <a:off x="7089840" y="4456080"/>
            <a:ext cx="14446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4"/>
          <p:cNvSpPr/>
          <p:nvPr/>
        </p:nvSpPr>
        <p:spPr>
          <a:xfrm>
            <a:off x="0" y="214200"/>
            <a:ext cx="93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ем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Приёмы технологии критического мышления-    путь к успех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0" y="1332000"/>
            <a:ext cx="962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звитие интеллектуальных способностей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х не только в учёбе, но и в обычной жиз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0" y="2771640"/>
            <a:ext cx="60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ительный —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тадия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ыз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0" y="341964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риятие нового —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мысловая ста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0" y="40734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своение информации —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тадия  рефлек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0" descr=""/>
          <p:cNvPicPr/>
          <p:nvPr/>
        </p:nvPicPr>
        <p:blipFill>
          <a:blip r:embed="rId1"/>
          <a:stretch/>
        </p:blipFill>
        <p:spPr>
          <a:xfrm>
            <a:off x="6705720" y="3881520"/>
            <a:ext cx="182700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ее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8821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D:\Данные\Рабочий стол\1класс2021\учит0.jpg"/>
          <p:cNvPicPr/>
          <p:nvPr/>
        </p:nvPicPr>
        <p:blipFill>
          <a:blip r:embed="rId1"/>
          <a:stretch/>
        </p:blipFill>
        <p:spPr>
          <a:xfrm>
            <a:off x="1258920" y="765000"/>
            <a:ext cx="6843600" cy="352764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452680" y="4699080"/>
            <a:ext cx="456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"/>
          <p:cNvPicPr/>
          <p:nvPr/>
        </p:nvPicPr>
        <p:blipFill>
          <a:blip r:embed="rId2"/>
          <a:stretch/>
        </p:blipFill>
        <p:spPr>
          <a:xfrm>
            <a:off x="7164360" y="4357800"/>
            <a:ext cx="18003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848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удуще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Учителям повысят зарплату на 30% в случае прохождения квалификационного экзамена / Казахстанский агрегатор новостей"/>
          <p:cNvPicPr/>
          <p:nvPr/>
        </p:nvPicPr>
        <p:blipFill>
          <a:blip r:embed="rId1"/>
          <a:stretch/>
        </p:blipFill>
        <p:spPr>
          <a:xfrm>
            <a:off x="1168560" y="1628640"/>
            <a:ext cx="6806880" cy="44974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4211640" y="2905200"/>
            <a:ext cx="33847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 должен быть учитель в этом современном стремительно меняющемся Х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НКВЕЙ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99680" y="1213920"/>
            <a:ext cx="89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прилагательных (признаки понятия)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глагола (действия, связанные с      понятием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предложение, отражающее суть понят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3200" spc="-1" strike="noStrike">
                <a:solidFill>
                  <a:srgbClr val="f808d6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-ито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4" descr=""/>
          <p:cNvPicPr/>
          <p:nvPr/>
        </p:nvPicPr>
        <p:blipFill>
          <a:blip r:embed="rId1"/>
          <a:stretch/>
        </p:blipFill>
        <p:spPr>
          <a:xfrm>
            <a:off x="7667640" y="5084640"/>
            <a:ext cx="13683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6000" spc="-1" strike="noStrike">
                <a:solidFill>
                  <a:srgbClr val="f808d6"/>
                </a:solidFill>
                <a:latin typeface="Calibri"/>
              </a:rPr>
              <a:t>УДАЧИ ВАМ ВО ВСЁМ, </a:t>
            </a:r>
            <a:br>
              <a:rPr sz="5400"/>
            </a:br>
            <a:r>
              <a:rPr b="1" lang="ru-RU" sz="6000" spc="-1" strike="noStrike">
                <a:solidFill>
                  <a:srgbClr val="f808d6"/>
                </a:solidFill>
                <a:latin typeface="Calibri"/>
              </a:rPr>
              <a:t>ДОРОГИЕ КОЛЛЕГИ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5720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7:35:15Z</dcterms:created>
  <dc:creator>HOUSE</dc:creator>
  <dc:description/>
  <dc:language>en-US</dc:language>
  <cp:lastModifiedBy>admin</cp:lastModifiedBy>
  <dcterms:modified xsi:type="dcterms:W3CDTF">2022-03-16T23:29:27Z</dcterms:modified>
  <cp:revision>139</cp:revision>
  <dc:subject/>
  <dc:title>Слайд 1</dc:title>
</cp:coreProperties>
</file>