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5F7-9E40-4BC5-AFCD-6A3BE222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DD2-EECF-43D3-9C54-714CCE25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02E-6A95-4CAE-A910-A415D281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C1A-803B-4844-A8A0-00E74581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3F68-7EB7-49F3-AA84-14BBFB4B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CE55-AE6E-43D0-8FAC-561F8F8B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0C13-B7E4-4626-8F24-F89C0A77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7B8B-EB63-4A3D-BB1F-D8E4B509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2E0C-B927-416F-98F3-4F4D9BF0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274E-6EFC-4475-B689-11003315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9D44-9AB5-4100-9C5A-1DCC8E7A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AB72-CA24-4230-8E4D-B88817D9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AEF0-55C9-4ED8-B23E-C661D836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FE64-7287-4224-8E18-F2A0F891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EFCB-07C7-44BB-BE65-F245E364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1121-7A0C-4444-A53A-3C6D294E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CA70-DC70-4FCC-9BD8-867AC1CE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7C9A-65B3-4FC1-B1A8-6B44746B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29CA9-F9B3-46BE-9750-FE83F0AE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86866-FD96-46B8-9294-F4B21EED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626A6-4A8A-4006-A4B2-3118A6AF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00C78-6093-410E-BE0D-9530CDAE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319-21F9-4D5C-9F29-C8977A18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277FE-9452-4ADF-8F04-4E000FF0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A0F3-502F-45FA-B7C5-1D1DEB5E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C9D54-D9E5-48E0-83CB-DA721539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F22BC-4637-4158-A9AC-98BFB120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8D2D8-D8D7-453B-BB17-D4FBAF40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B6536-395D-4E4C-8180-A4A142DE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350C-529E-408F-B65F-B535B5C1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0CD6A-C7A1-4A67-AFB5-3E98D916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C80FE-0B68-48C4-9A4D-D765113E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30588-E610-4415-B26B-47E91599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7AB-E292-46CC-8455-A719D445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B8512-B207-44D1-AC80-6DC38E22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F6BA4-CFBE-461E-A54C-8AA48CC6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EA19C-2BAB-4C90-86DC-0FCF5A1E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672EB-3EC8-48D3-B599-AF2D2C09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13E15-7494-479B-9FD0-C264BE97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05E92-E82E-4B62-96FC-FEFA1E8A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996B1-D047-468C-ABBB-218E65C7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2FEAE-D519-432B-BFDB-BC994ED9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67D6B-2D28-4C06-9308-D4A0D132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423-ACE4-4B0D-87A8-45ABE920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F86-A16C-42E0-A9D2-6176290F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770-638C-4C2D-BBA4-25D021BD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DBE-E8AC-4D4A-B08A-F1E3DEFA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9BA-5BF3-4474-B1D3-C03A009F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072D-E655-498D-AC26-5D9FED2559B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520C-A32F-4360-A08B-0821E3F4448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4CAA-F75F-4A54-9384-81299347FD8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A2E3-E06F-4AD7-8772-D799585DB62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5120" y="1295280"/>
            <a:ext cx="62485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7f7f7f"/>
                </a:solidFill>
                <a:latin typeface="Trebuchet MS"/>
              </a:rPr>
              <a:t>Приготовление     песочного   теста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7f7f7f"/>
                </a:solidFill>
                <a:latin typeface="Trebuchet MS"/>
              </a:rPr>
              <a:t>МДК 05.02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7f7f7f"/>
                </a:solidFill>
                <a:latin typeface="Trebuchet MS"/>
              </a:rPr>
              <a:t>Процессы приготовления,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7f7f7f"/>
                </a:solidFill>
                <a:latin typeface="Trebuchet MS"/>
              </a:rPr>
              <a:t>подготовки к реализации хлебобулочных,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7f7f7f"/>
                </a:solidFill>
                <a:latin typeface="Trebuchet MS"/>
              </a:rPr>
              <a:t>мучных кондитерских изделий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rebuchet MS"/>
              </a:rPr>
              <a:t>Профессия «ПОВАР-КОНДИТЕР»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rebuchet MS"/>
              </a:rPr>
              <a:t>4 КУРС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rebuchet MS"/>
              </a:rPr>
              <a:t>ПРЕПОДАВАТЕЛЬ ЛСИТ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rebuchet MS"/>
              </a:rPr>
              <a:t>ОНИНА Ю.В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одзаголовок 2"/>
          <p:cNvSpPr/>
          <p:nvPr/>
        </p:nvSpPr>
        <p:spPr>
          <a:xfrm>
            <a:off x="4572000" y="54864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93d46"/>
                </a:solidFill>
                <a:latin typeface="Trebuchet MS"/>
              </a:rPr>
              <a:t>Для выпекания песочных пирожных </a:t>
            </a:r>
            <a:br>
              <a:rPr sz="2500"/>
            </a:b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1920" y="1066320"/>
            <a:ext cx="266724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есто раскатывают  в пласт  толщиной 6-7 мм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 помощью металлических выемок вырубают  заготовки </a:t>
            </a:r>
            <a:r>
              <a:rPr b="0" i="1" lang="ru-RU" sz="1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(кольца, ромбы и др.)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кладывают  на сухие  листы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ыпекают при  Т 260-270 </a:t>
            </a:r>
            <a:r>
              <a:rPr b="0" lang="ru-RU" sz="1900" spc="-1" strike="noStrike" baseline="30000">
                <a:solidFill>
                  <a:srgbClr val="262626"/>
                </a:solidFill>
                <a:latin typeface="Times New Roman"/>
                <a:ea typeface="Times New Roman"/>
              </a:rPr>
              <a:t>0</a:t>
            </a:r>
            <a:r>
              <a:rPr b="0" lang="ru-RU" sz="1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 в   течении 10-12 мин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2" descr="C:\Users\nina\Desktop\684fbcd7aa77dbb5e9717e077a3115f7.jpg"/>
          <p:cNvPicPr/>
          <p:nvPr/>
        </p:nvPicPr>
        <p:blipFill>
          <a:blip r:embed="rId1"/>
          <a:stretch/>
        </p:blipFill>
        <p:spPr>
          <a:xfrm>
            <a:off x="4403880" y="241920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C:\Users\nina\Desktop\2233148.jpg"/>
          <p:cNvPicPr/>
          <p:nvPr/>
        </p:nvPicPr>
        <p:blipFill>
          <a:blip r:embed="rId2"/>
          <a:stretch/>
        </p:blipFill>
        <p:spPr>
          <a:xfrm rot="1470000">
            <a:off x="5946840" y="2728440"/>
            <a:ext cx="1749240" cy="1165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C:\Users\nina\Desktop\8fa1a468c4250655.jpeg"/>
          <p:cNvPicPr/>
          <p:nvPr/>
        </p:nvPicPr>
        <p:blipFill>
          <a:blip r:embed="rId3"/>
          <a:stretch/>
        </p:blipFill>
        <p:spPr>
          <a:xfrm>
            <a:off x="4572000" y="4189320"/>
            <a:ext cx="14479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900" spc="-1" strike="noStrike">
                <a:solidFill>
                  <a:srgbClr val="293d46"/>
                </a:solidFill>
                <a:latin typeface="Times New Roman"/>
                <a:ea typeface="Times New Roman"/>
              </a:rPr>
              <a:t>Для выпекания песочных корзинок 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1295280"/>
            <a:ext cx="29718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Тесто раскатывают  в пласт  толщиной  5-7 мм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верху плотно  накладывают  формы дном вверх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калкой прокатывают по донышкам форм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ырезают нужные порции теста и формуют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Формы  выпекают при Т 240-250</a:t>
            </a:r>
            <a:r>
              <a:rPr b="0" lang="ru-RU" sz="2000" spc="-1" strike="noStrike" baseline="30000">
                <a:solidFill>
                  <a:srgbClr val="404040"/>
                </a:solidFill>
                <a:latin typeface="Trebuchet MS"/>
              </a:rPr>
              <a:t>0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С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2" descr="C:\Users\nina\Desktop\i.jpg"/>
          <p:cNvPicPr/>
          <p:nvPr/>
        </p:nvPicPr>
        <p:blipFill>
          <a:blip r:embed="rId1"/>
          <a:stretch/>
        </p:blipFill>
        <p:spPr>
          <a:xfrm>
            <a:off x="4243320" y="3321000"/>
            <a:ext cx="2340000" cy="1560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nina\Desktop\img_3628.jpg"/>
          <p:cNvPicPr/>
          <p:nvPr/>
        </p:nvPicPr>
        <p:blipFill>
          <a:blip r:embed="rId2"/>
          <a:stretch/>
        </p:blipFill>
        <p:spPr>
          <a:xfrm>
            <a:off x="4695840" y="1752480"/>
            <a:ext cx="1778040" cy="1333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Users\nina\Desktop\korzinki 027.jpg"/>
          <p:cNvPicPr/>
          <p:nvPr/>
        </p:nvPicPr>
        <p:blipFill>
          <a:blip r:embed="rId3"/>
          <a:stretch/>
        </p:blipFill>
        <p:spPr>
          <a:xfrm>
            <a:off x="3146400" y="4179960"/>
            <a:ext cx="132408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93d46"/>
                </a:solidFill>
                <a:latin typeface="Trebuchet MS"/>
              </a:rPr>
              <a:t>Показатели  качества песочного теста (</a:t>
            </a:r>
            <a:r>
              <a:rPr b="0" i="1" lang="ru-RU" sz="3200" spc="-1" strike="noStrike">
                <a:solidFill>
                  <a:srgbClr val="293d46"/>
                </a:solidFill>
                <a:latin typeface="Trebuchet MS"/>
              </a:rPr>
              <a:t>основного</a:t>
            </a:r>
            <a:r>
              <a:rPr b="0" lang="ru-RU" sz="3600" spc="-1" strike="noStrike">
                <a:solidFill>
                  <a:srgbClr val="293d46"/>
                </a:solidFill>
                <a:latin typeface="Trebuchet MS"/>
              </a:rPr>
              <a:t>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rebuchet MS"/>
              </a:rPr>
              <a:t>Песочное тесто должно иметь гладкую поверхность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rebuchet MS"/>
              </a:rPr>
              <a:t>быть однородным без комочков и следов непромес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rebuchet MS"/>
              </a:rPr>
              <a:t>пластичной консистен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rebuchet MS"/>
              </a:rPr>
              <a:t>Цвет светло-желтого до желтого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rebuchet MS"/>
              </a:rPr>
              <a:t>Приятный запах  эссенци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rebuchet MS"/>
              </a:rPr>
              <a:t>Влажность теста 18,5 – 19,5 %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1295280" y="1066680"/>
            <a:ext cx="7467840" cy="182880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есочный полуфабрикат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это рассыпчатый полуфабрикат с большим содержанием жира, яиц, сахар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Picture 2" descr="C:\Users\nina\Desktop\-DkKZdRczVg.jpg"/>
          <p:cNvPicPr/>
          <p:nvPr/>
        </p:nvPicPr>
        <p:blipFill>
          <a:blip r:embed="rId1"/>
          <a:stretch/>
        </p:blipFill>
        <p:spPr>
          <a:xfrm rot="20747400">
            <a:off x="193320" y="3070080"/>
            <a:ext cx="2913120" cy="19432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2" descr=""/>
          <p:cNvPicPr/>
          <p:nvPr/>
        </p:nvPicPr>
        <p:blipFill>
          <a:blip r:embed="rId2"/>
          <a:stretch/>
        </p:blipFill>
        <p:spPr>
          <a:xfrm>
            <a:off x="4572000" y="3527280"/>
            <a:ext cx="340200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293d46"/>
                </a:solidFill>
                <a:latin typeface="Trebuchet MS"/>
              </a:rPr>
              <a:t>Особенности теста: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rebuchet MS"/>
              </a:rPr>
              <a:t>мука «слабая»  с небольшим количеством клейковины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rebuchet MS"/>
              </a:rPr>
              <a:t>тесто готовят с большим количеством масла и сахар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rebuchet MS"/>
              </a:rPr>
              <a:t>без воды (</a:t>
            </a:r>
            <a:r>
              <a:rPr b="1" i="1" lang="ru-RU" sz="2600" spc="-1" strike="noStrike">
                <a:solidFill>
                  <a:srgbClr val="262626"/>
                </a:solidFill>
                <a:latin typeface="Trebuchet MS"/>
              </a:rPr>
              <a:t>влажность теста 18-20%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rebuchet MS"/>
              </a:rPr>
              <a:t>используют химические разрыхлители (</a:t>
            </a:r>
            <a:r>
              <a:rPr b="1" i="1" lang="ru-RU" sz="2600" spc="-1" strike="noStrike">
                <a:solidFill>
                  <a:srgbClr val="262626"/>
                </a:solidFill>
                <a:latin typeface="Trebuchet MS"/>
              </a:rPr>
              <a:t>сода, аммоний</a:t>
            </a:r>
            <a:r>
              <a:rPr b="1" lang="ru-RU" sz="2600" spc="-1" strike="noStrike">
                <a:solidFill>
                  <a:srgbClr val="262626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rebuchet MS"/>
              </a:rPr>
              <a:t>замес теста производят быстро (</a:t>
            </a:r>
            <a:r>
              <a:rPr b="1" i="1" lang="ru-RU" sz="2600" spc="-1" strike="noStrike">
                <a:solidFill>
                  <a:srgbClr val="262626"/>
                </a:solidFill>
                <a:latin typeface="Trebuchet MS"/>
              </a:rPr>
              <a:t>длительный замес приводит к образованию затянутого теста, изделия будут жесткими, не рассыпчатыми</a:t>
            </a:r>
            <a:r>
              <a:rPr b="1" lang="ru-RU" sz="2600" spc="-1" strike="noStrike">
                <a:solidFill>
                  <a:srgbClr val="262626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rebuchet MS"/>
              </a:rPr>
              <a:t>выпекают на сухих кондитерских листах или формах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Users\nina\Desktop\6_1200-5.jpg"/>
          <p:cNvPicPr/>
          <p:nvPr/>
        </p:nvPicPr>
        <p:blipFill>
          <a:blip r:embed="rId1"/>
          <a:stretch/>
        </p:blipFill>
        <p:spPr>
          <a:xfrm rot="1074600">
            <a:off x="6562440" y="1438200"/>
            <a:ext cx="2413080" cy="1568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293d46"/>
                </a:solidFill>
                <a:latin typeface="Trebuchet MS"/>
              </a:rPr>
              <a:t>Приготовление теста: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2" name="Picture 1" descr="C:\Users\nina\Desktop\post_5bc769173b590.jpg"/>
          <p:cNvPicPr/>
          <p:nvPr/>
        </p:nvPicPr>
        <p:blipFill>
          <a:blip r:embed="rId2"/>
          <a:stretch/>
        </p:blipFill>
        <p:spPr>
          <a:xfrm rot="20328600">
            <a:off x="274680" y="1339560"/>
            <a:ext cx="4040280" cy="22716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" descr=""/>
          <p:cNvPicPr/>
          <p:nvPr/>
        </p:nvPicPr>
        <p:blipFill>
          <a:blip r:embed="rId3"/>
          <a:stretch/>
        </p:blipFill>
        <p:spPr>
          <a:xfrm>
            <a:off x="1033560" y="3340080"/>
            <a:ext cx="4451400" cy="32385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3" descr=""/>
          <p:cNvPicPr/>
          <p:nvPr/>
        </p:nvPicPr>
        <p:blipFill>
          <a:blip r:embed="rId4"/>
          <a:stretch/>
        </p:blipFill>
        <p:spPr>
          <a:xfrm>
            <a:off x="5791320" y="3713040"/>
            <a:ext cx="304164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93d46"/>
                </a:solidFill>
                <a:latin typeface="Trebuchet MS"/>
              </a:rPr>
              <a:t>соединяют яйца, раствор аммония, соду, соль, ванильную эссенцию ( ванилин), все   перемешивают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Содержимое 3" descr="C:\Users\nina\Desktop\1736299.jpg"/>
          <p:cNvPicPr/>
          <p:nvPr/>
        </p:nvPicPr>
        <p:blipFill>
          <a:blip r:embed="rId1"/>
          <a:stretch/>
        </p:blipFill>
        <p:spPr>
          <a:xfrm>
            <a:off x="2451240" y="2971800"/>
            <a:ext cx="3935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93d46"/>
                </a:solidFill>
                <a:latin typeface="Trebuchet MS"/>
              </a:rPr>
              <a:t>Соединяют яйца со взбитым маслом и сахаром, продолжают взбивать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Содержимое 3" descr="https://donatewales.org/wp-content/uploads/6/4/9/649c056d8b6b0217ce16ec08080862a0.jpeg"/>
          <p:cNvPicPr/>
          <p:nvPr/>
        </p:nvPicPr>
        <p:blipFill>
          <a:blip r:embed="rId1"/>
          <a:stretch/>
        </p:blipFill>
        <p:spPr>
          <a:xfrm>
            <a:off x="1447920" y="1676520"/>
            <a:ext cx="3657600" cy="24652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" descr="https://avatars.mds.yandex.net/i?id=296e0befc011afbbbe12f0f1a90ecd24-5885515-images-thumbs&amp;ref=rim&amp;n=33&amp;w=225&amp;h=150"/>
          <p:cNvPicPr/>
          <p:nvPr/>
        </p:nvPicPr>
        <p:blipFill>
          <a:blip r:embed="rId2"/>
          <a:stretch/>
        </p:blipFill>
        <p:spPr>
          <a:xfrm>
            <a:off x="5791320" y="1676520"/>
            <a:ext cx="2923920" cy="20574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https://avatars.mds.yandex.net/get-zen_doc/3963198/pub_6085ed051ae7ef64bef35ccd_6085ee0fe2c7114111f9d308/scale_1200"/>
          <p:cNvPicPr/>
          <p:nvPr/>
        </p:nvPicPr>
        <p:blipFill>
          <a:blip r:embed="rId3"/>
          <a:stretch/>
        </p:blipFill>
        <p:spPr>
          <a:xfrm>
            <a:off x="5638680" y="3886200"/>
            <a:ext cx="2594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93d46"/>
                </a:solidFill>
                <a:latin typeface="Trebuchet MS"/>
              </a:rPr>
              <a:t>всыпают  муку и быстро замешивают тесто 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Содержимое 6" descr="https://img.povar.ru/uploads/fa/8c/d2/2f/prostoi_recept_yablochnogo_piroga-441490.jpg"/>
          <p:cNvPicPr/>
          <p:nvPr/>
        </p:nvPicPr>
        <p:blipFill>
          <a:blip r:embed="rId1"/>
          <a:stretch/>
        </p:blipFill>
        <p:spPr>
          <a:xfrm>
            <a:off x="4950000" y="2211480"/>
            <a:ext cx="1984320" cy="12952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7" descr="https://vyborok.com/wp-content/uploads/2019/11/0432bb0322f88a65a379c4ec3865d497.jpg"/>
          <p:cNvPicPr/>
          <p:nvPr/>
        </p:nvPicPr>
        <p:blipFill>
          <a:blip r:embed="rId2"/>
          <a:stretch/>
        </p:blipFill>
        <p:spPr>
          <a:xfrm>
            <a:off x="5334120" y="4129200"/>
            <a:ext cx="2239920" cy="1585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https://ne-dieta.ru/wp-content/uploads/2017/04/6_1200-5.jpg"/>
          <p:cNvPicPr/>
          <p:nvPr/>
        </p:nvPicPr>
        <p:blipFill>
          <a:blip r:embed="rId3"/>
          <a:stretch/>
        </p:blipFill>
        <p:spPr>
          <a:xfrm>
            <a:off x="1146240" y="1981080"/>
            <a:ext cx="27018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93d46"/>
                </a:solidFill>
                <a:latin typeface="Trebuchet MS"/>
              </a:rPr>
              <a:t>Тесто раскатывают  в пласт или формуют на столе с помощью резцов или выемок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Picture 2" descr="C:\Users\nina\Desktop\kak-prigotovit-pesochnoe-26A3E.jpg"/>
          <p:cNvPicPr/>
          <p:nvPr/>
        </p:nvPicPr>
        <p:blipFill>
          <a:blip r:embed="rId1"/>
          <a:stretch/>
        </p:blipFill>
        <p:spPr>
          <a:xfrm>
            <a:off x="2341440" y="3138480"/>
            <a:ext cx="2884680" cy="1925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Users\nina\Desktop\590.jpg"/>
          <p:cNvPicPr/>
          <p:nvPr/>
        </p:nvPicPr>
        <p:blipFill>
          <a:blip r:embed="rId2"/>
          <a:stretch/>
        </p:blipFill>
        <p:spPr>
          <a:xfrm rot="20908200">
            <a:off x="1120680" y="1666800"/>
            <a:ext cx="343548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293d46"/>
                </a:solidFill>
                <a:latin typeface="Trebuchet MS"/>
              </a:rPr>
              <a:t>Готовое тесто  делят на куски (1,5-2 кг) , </a:t>
            </a:r>
            <a:br>
              <a:rPr sz="2200"/>
            </a:br>
            <a:r>
              <a:rPr b="0" lang="ru-RU" sz="2200" spc="-1" strike="noStrike">
                <a:solidFill>
                  <a:srgbClr val="293d46"/>
                </a:solidFill>
                <a:latin typeface="Trebuchet MS"/>
              </a:rPr>
              <a:t>раскатывают в пласт толщиной  не более 8 мм</a:t>
            </a:r>
            <a:br>
              <a:rPr sz="2200"/>
            </a:br>
            <a:r>
              <a:rPr b="0" lang="ru-RU" sz="2200" spc="-1" strike="noStrike">
                <a:solidFill>
                  <a:srgbClr val="293d46"/>
                </a:solidFill>
                <a:latin typeface="Trebuchet MS"/>
              </a:rPr>
              <a:t> по размеру  кондитерского  листа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9" name="Picture 2" descr="C:\Users\nina\Desktop\pirojnoe_pesochnoe_po_22_kop-165790.jpg"/>
          <p:cNvPicPr/>
          <p:nvPr/>
        </p:nvPicPr>
        <p:blipFill>
          <a:blip r:embed="rId1"/>
          <a:stretch/>
        </p:blipFill>
        <p:spPr>
          <a:xfrm>
            <a:off x="3309840" y="2219400"/>
            <a:ext cx="2006640" cy="1447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nina\Desktop\pirog-kuritsa-1.jpg"/>
          <p:cNvPicPr/>
          <p:nvPr/>
        </p:nvPicPr>
        <p:blipFill>
          <a:blip r:embed="rId2"/>
          <a:stretch/>
        </p:blipFill>
        <p:spPr>
          <a:xfrm rot="20056800">
            <a:off x="836640" y="2501640"/>
            <a:ext cx="1816200" cy="1181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C:\Users\nina\Desktop\da8087202b49fca75d1a76f5e8ea63d5_49725.jpg"/>
          <p:cNvPicPr/>
          <p:nvPr/>
        </p:nvPicPr>
        <p:blipFill>
          <a:blip r:embed="rId3"/>
          <a:stretch/>
        </p:blipFill>
        <p:spPr>
          <a:xfrm rot="20278200">
            <a:off x="5451120" y="2400120"/>
            <a:ext cx="1530360" cy="1017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C:\Users\nina\Desktop\82e9f2755759a938de9770ec1ff948db-800x800.jpeg"/>
          <p:cNvPicPr/>
          <p:nvPr/>
        </p:nvPicPr>
        <p:blipFill>
          <a:blip r:embed="rId4"/>
          <a:stretch/>
        </p:blipFill>
        <p:spPr>
          <a:xfrm rot="1345200">
            <a:off x="7095960" y="2258640"/>
            <a:ext cx="1433520" cy="14335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2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3d46"/>
                </a:solidFill>
                <a:latin typeface="Times New Roman"/>
                <a:ea typeface="Times New Roman"/>
              </a:rPr>
              <a:t>Готовность пласта определяют по цвету – светло-коричневый с золотистым  оттенк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Рисунок 3" descr=""/>
          <p:cNvPicPr/>
          <p:nvPr/>
        </p:nvPicPr>
        <p:blipFill>
          <a:blip r:embed="rId5"/>
          <a:stretch/>
        </p:blipFill>
        <p:spPr>
          <a:xfrm>
            <a:off x="3809880" y="4145040"/>
            <a:ext cx="15066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_1</cp:lastModifiedBy>
  <dcterms:modified xsi:type="dcterms:W3CDTF">2022-11-16T15:05:3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