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B2A-1D8D-43BD-98B7-57121958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72B-2E0A-4A3A-813C-AC002DA7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135-4528-48F6-9B96-A9D070B6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B21-16D8-4BDE-8EFE-99908285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B62F-8B0E-4DC2-BC24-BCF73538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6A6C-6DB0-41E9-836C-DF6B8D10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755B-17F6-4FFF-9630-0BEAA02D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1EF8-52E4-461A-A826-78AC35FB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EEB4-ADE0-49EA-AE17-75355E69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F023-A584-457F-BE40-77B0B036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C043-2BE8-4C98-A6C9-3E0F7484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9CA-0B08-48B3-BF18-E9B66BB3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3C82-503E-4453-B34E-129807AF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C9CA-45DE-4047-B7AF-C6A49F18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B10A-4A76-4B58-B558-7D2F435F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C7DD-828F-47AE-8D95-560C039F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49C5-62FE-4628-AFA2-D2E97573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E45D-061F-45BD-AC21-E0FEA558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6D00-EC1F-478B-96A6-746A7371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DE17-ABA7-4F51-8E2E-F21B990E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3A8A9-64C2-4617-9236-6618EE58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5BDB-FD99-4266-89F4-C24E49C6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37C-F7C8-41B0-B660-F90E7A01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31E1-ABB8-4CB2-B4B6-B34AD4A4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A23C-9802-4B89-AC58-0484B64C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8DC10-66F8-4B13-A9A3-A8131EB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B86B-B4FE-48C5-A5CD-6B6C4E70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ABB8-D984-4315-A22E-38899ABB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EC00-7550-458E-8A69-6ECC823B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C757-EF71-4998-ACA3-D06EA72E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C5B-9A68-4482-AA35-49E8AE41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809-10E1-402C-B961-0AAC17B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0EA-ED75-4F7C-8ED8-064F2546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51F-0A12-40C5-90BF-2EBB017B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A69-A012-49C5-9AA7-78031882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DD5-FC41-4DC9-BDF1-C5775D21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912960"/>
            <a:ext cx="32004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238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7053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62000" y="6714720"/>
            <a:ext cx="355428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7053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C842-2C65-441E-9B0B-9A3C0720F8CE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976640" y="76320"/>
            <a:ext cx="416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fc4"/>
                </a:solidFill>
                <a:latin typeface="Arial"/>
              </a:rPr>
              <a:t>Конференция пользователей, Каз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029200" y="763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fc4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6686-ECEE-42C4-8A9D-940E3A6486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7E4E-7FA5-4637-9C00-30957D33A1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28800" y="3357360"/>
            <a:ext cx="62481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тему: Развитие скоростно-силовых качеств плов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Развитие скоростных качеств и способностей юных пловцов и повышение их уровня специальной силовой подготовленности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3920"/>
            <a:ext cx="74008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ные способности пловца характеризуются умением проплывать короткий отрезок дистанции с абсолютно высокой скоростью. Удержать такую скорость квалифицированный взрослый пловец может на отрезке не более 75 м, пловец-подросток - на отрезке не более 5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ные способности неразрывно связаны с техническим мастерством пловца. Вне рационального варианта техники плавания, рационального выполнения старта и поворотов нет и высоких скоростей. Совершенство темпового варианта техники плавания избранным способом, умение выполнять движения с максимальной мобилизацией, без излишнего мышечного напряжения, сохраняя точность, координированность и оптимальную амплитуду, - важнейшая предпосылка высокого уровня скоростны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корость движений пловца зависит также от специальной силовой подготовленности, от мощности анаэробных алактатных источников энергии: запасов АТФ, креатинфосфата, миоглобина в мышечных клетках, скорости развертывания биохимических анаэробных реа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Развитие скоростных качеств и способностей юных пловцов и повышение их уровня специальной силовой подготовленности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428480"/>
            <a:ext cx="72579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ологической основой скоростных способностей является оптимальный уровень возбудимости и функционирования центральной нервной системы, совершенство координационных механизмов двигательного аппарата, подвижность нервных процессов, способность мышц быстрее сокращаться и быстрее переходить от возбуждения к расслаблению. Скоростные способности воспитываются, как правило, в единстве с ловкостью и координирова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ю скоростных способностей юных пловцов, и прежде всего на этапе базовой подготовки, способствует развитие так называемых элементарных форм проявления быстроты в упражнениях на суше; быстроты двигательной реакции; способности развивать максимальный темп движений, выполнять с высокой скоростью однократные "взрывные" движения (например, выпрыгивания вверх, броски набивного мяча, отталкивания руками и ногами от пола в положении лежа). Разносторонняя физическая подготовка пловцов-подростков на суше создает хорошие предпосылки для развития скоростных способностей в более зрелы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25796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звитие скоростных качеств и способностей юных пловцов и повышение их уровня специальной силовой подготовленности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142640"/>
            <a:ext cx="7572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стороны волевых качеств, необходимых для развития скоростных способностей, от пловца требуется умение сосредоточиваться, приводить себя в состояние оптимальной готовности для прохождения короткой дистанции или ее отрезков с максимальной скоростью в условиях соревновательной обстановки. Пловец должен быть также психологически и тактически подготовлен к выполнению спуртов (ускорений) со старта, в середине дистанции (чаще всего перед поворотом и непосредственно после него), на фини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скоростных способностей начинается в процессе овладения рациональной спортивной техникой. Прежде всего добиваются точности и свободы движений при плавании в различном темпе на средних и коротких дистанциях и их отрезках. Чем совершеннее техника плавания, тем в большем объеме используются в учебно-тренировочных группах эстафеты и игры, связанные со спринтерским плаванием на коротких отрезках. Уделяют внимание формированию темповых вариантов техники для выполнения спуртов и финишных ускорений, освоению техники проплывания 10-15-метровых отрезков со старта и повор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звитие скоростных качеств и способностей юных пловцов и повышение их уровня специальной силовой подготовленности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213920"/>
            <a:ext cx="7257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ре прочного овладения основами техники (примерно 3-4-й годы подготовки в учебно-тренировочной, группе) ставится задача постепенно увеличивать силу гребковых движений, сохраняя их точность и легкость, Наиболее полно эта задача, как и задача существенного повышения уровня анаэробно-алактатной производительности, решается в группах спортивного совершенствования и высшего спортивного мастерства. В этих группах упражнения по воспитанию скоростных способностей органически сливаются с упражнениями на повышение специальной силовой подготовленности и специальной выносливости плов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азвития. скоростных способностей применяются нагрузки зоны V - плавание на коротких отрезках (15 - 25 м) с максимальной мобилизацией сил. Доля подобных нагрузок не превышает в учебно-тренировочной группе 2-3%, а в группе спортивного совершенствования-4-5% от общего объема пла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звитие скоростных качеств и способностей юных пловцов и повышение их уровня специальной силовой подготовленности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3840" y="1000080"/>
            <a:ext cx="79297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данные нагрузки, руководствуются следующими методическ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спринтерские упражнения выполняются с акцентом на технике плавания, стартов, поворотов; используются так называемые контролируемые скорости плавания, при которых спортсмен способен сохранять точность и свободу движ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продолжительность плавания с предельной скоростью не превышает в одной попытке 15-20 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между отдельными "порциями" спринтерской работы планируют паузы отдыха, оптимальные для восстановления; при появлении признаков утомления скоростные упражнения заканчивают или переходят на более легкие режимы их выпол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спринтерские упражнения планируют на основную часть урока; один-два спринтерских отрезка можно проплыть в заключительной части занятия, если оно не было утомительны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чтобы избежать образования косного стереотипа движений, спринтерские упражнения выполняют в различных сочетаниях, формах, услов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в работе с пловцами добиваются постепенного, но неуклонного повышения из года в год абсолютной скорости плавания на контрольных отрез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методы,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оспитания скоростных способностей - это повторный, контрольно-соревновательный, переменно-дистанцион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7:04:16Z</dcterms:created>
  <dc:creator>bukreev</dc:creator>
  <dc:description/>
  <dc:language>en-US</dc:language>
  <cp:lastModifiedBy>user</cp:lastModifiedBy>
  <dcterms:modified xsi:type="dcterms:W3CDTF">2022-11-16T08:54:10Z</dcterms:modified>
  <cp:revision>88</cp:revision>
  <dc:subject/>
  <dc:title>Слайд 1</dc:title>
</cp:coreProperties>
</file>