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6DE-61A8-4A56-A153-45593DEB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A98-BA61-4560-88EA-58FA519B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725-551A-42A0-854E-FE3BF055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0AA-3792-4361-895A-859AAA1F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4614-33F8-470A-B921-F79B79C6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1B85-98D6-4479-8226-FDE1679E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50F6-15D2-4EA6-866B-1A0947F2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242C-0A98-4B14-A7AC-6ED7C075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9A66-EA04-4827-8C10-094A01C1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D595-E515-4FE9-A34D-CEA91750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31E3-15BA-4107-88C5-7164927D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0EB-CF33-41FD-9646-A6653C80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FBCA-1C1C-4505-9604-D14C8F16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F6C5-A830-4A44-B344-256977EB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FCB4-ECE0-4452-AF85-1FE029DA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B605-2B13-4D4A-AF7A-D42130A3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ECE9-AB48-4335-B134-196B5139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6FCA-3210-405E-871D-603CCAFE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1823F-CB8F-494A-A144-D8E0ACE1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4C30E-86D3-4CDA-92AD-C796EC8A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B73AB-AA53-4166-955C-679A615F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FA64-E603-4168-85F9-970BB5FF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12F-5492-4B40-9033-06F0B333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6EE44-149F-42DB-A5F2-30E0D7A7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7B8A4-B60C-4AD9-AD11-1B1F67C6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5EAE5-888B-4105-B3B8-334C23DD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99C77-F85A-40E6-886A-314593EE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7AD99-286A-42AD-A939-3359904D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E113A-5509-4DE4-A18C-92A62A4C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AEE01-AFBB-4193-AA69-7734D3F2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6B985-F89A-4F4F-886C-614D88F8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DB838-8BA0-4408-A077-10037C76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4854A-3710-4963-B083-A3609E4F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243-9100-4D92-9227-D57954B3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97560-89E9-49EE-87FA-B485429E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D131F-4256-45FD-9797-37CB6F07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AD034-FF29-4343-94B8-FE2C39EF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A21B6-C091-4001-BFB9-41952AE1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1438A-A1F4-4B70-BD6F-DBA884D5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83D7A-FABC-4533-BB8B-C6E06034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39D8E-7726-4FF4-80BD-E20280A7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0F14A-FD4B-4924-8FA6-76B5AB52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16193-C8D0-434A-8FCF-BC647A6B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564-005E-484B-842B-38CD288F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559-F88A-4C00-9B3A-7C75FCCA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D21-1561-4A96-A65C-4D0CF8CD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8693-387E-4510-9DD0-6D0A3134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1F4-7D1A-459B-B6D5-2EDAE0EB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904B-37F6-4906-A6DB-A1916114214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FDC5-8206-421F-9652-67D73630C7B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8B43-0042-4E5F-8A47-B2016D82F89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A6C8-B5B3-404B-9A37-491E2D77F08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6756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федеральное казенное профессиональное образовательное учреждение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560" y="907560"/>
            <a:ext cx="7993080" cy="3025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о-поисковые средства (СПС)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56000" y="5373360"/>
            <a:ext cx="4788000" cy="1484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вный справочни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очник о составе, содержании и местонахождении архивных документов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48428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ая документная информ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окументная информация о составе, содержании и адресах (поисковых данных) архивных документов и архивных фондов, получаемая в результате аналитико-синтетической переработки первичной документной информации архивов с целью ее поиска и использо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483920"/>
            <a:ext cx="40384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документная информ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окументная информация архивных документов, отражающих материальную и духовную жизнь общества, имеющих историческое, научное, социальное, экономическое, политическое и культурное значение, и подлежащих постоянному хранению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Архивный каталог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560" y="1412640"/>
            <a:ext cx="4257720" cy="5445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рхивный каталог -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о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межфондовый архивный справочни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в котором информация о содержании документов архива сгруппирована по предметам (темам, отраслям), расположенным в соответствии с принятой для данного каталога схемой классификации документной информа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Содержимое 6" descr="28305625-1.jpg"/>
          <p:cNvPicPr/>
          <p:nvPr/>
        </p:nvPicPr>
        <p:blipFill>
          <a:blip r:embed="rId1"/>
          <a:stretch/>
        </p:blipFill>
        <p:spPr>
          <a:xfrm>
            <a:off x="4851360" y="1413000"/>
            <a:ext cx="3834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Архивный каталог 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отличие от архивной описи каталог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правило,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хватывает большинство фондов архив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опись же составляется на документы одного архивного фонда или его ча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ораздо подробнее опис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так как может содержать информацию не только одной ед. хр., но и части документа, одного документа, группы документов и т.д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отличие от описи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является учетным справочнико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ись строится на основе собственной схемы систематизации материалов данного фонда, а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таложные карточки всех фондов архива упорядочиваются в соответствии с единой схем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10920" y="2565000"/>
            <a:ext cx="7848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Схема 3" descr=""/>
          <p:cNvPicPr/>
          <p:nvPr/>
        </p:nvPicPr>
        <p:blipFill>
          <a:blip r:embed="rId1"/>
          <a:stretch/>
        </p:blipFill>
        <p:spPr>
          <a:xfrm>
            <a:off x="378000" y="1231920"/>
            <a:ext cx="8467560" cy="51879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Архивный каталог 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95280" y="105264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аталогизация архивных документов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складывается из следующих видов работ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ение вида каталог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работка схемы классификации документной информации в каталог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явление и отбор документной информации для каталогиз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исание документной информации на каталожных карточка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дексирование каталожных карточе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стематизация карточек и ведение каталог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Архивный каталог 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Архивный каталог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Содержимое 3" descr="o12.jpg"/>
          <p:cNvPicPr/>
          <p:nvPr/>
        </p:nvPicPr>
        <p:blipFill>
          <a:blip r:embed="rId1"/>
          <a:stretch/>
        </p:blipFill>
        <p:spPr>
          <a:xfrm>
            <a:off x="468360" y="1935000"/>
            <a:ext cx="82803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Наиболее распространенными видами каталогов являются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стематическ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- по отраслям знании и практической деятельности обществ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ематическ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- по темам, подтемам, рубрикам, подрубрика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 истории учрежден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- по отраслям, подведомственности, типам учреждений в алфавитном порядк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 истории административно-территориального делен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- по видам административно-территориальных единиц, а внутри их - по алфавиту наименован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ронологическ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- по хронологии событий, либо по датировке документов, либо по времени освещаемых событ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Наиболее распространенными видами каталогов являются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79280" y="1484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менной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о алфавиту лиц, упоминаемых в документах, либо по авторам документ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географическ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- по алфавиту географических и топографических объект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едомственный по личному состав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- данные о трудовом стаже, зарплате, других показателях для начисления пенсий, при передаче в архив может использоваться для составления именного каталог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званий фондов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и большом количестве фондов может использоваться для первичного знакомства с фондами, их названиями, номерами, крайними дат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Каталогизация документ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79280" y="1125360"/>
            <a:ext cx="4608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Группы документов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рганизационно-распорядительные, планово-отчетные и др.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уководящие документы вышестоящих орган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чатные изда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пии предложений, проектов, постановлений, актов проверки, по своей ценности и трудности заслуживающие каталогиз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858920" y="1341360"/>
            <a:ext cx="40338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ритерии отбор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учно-историческая це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ногосторонность Д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обходимость использования документов в плановой, текущей работе архи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ндекс и индексирование документной информ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95280" y="1773000"/>
            <a:ext cx="8569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декс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это условное обозначение, элемент языка, цифр, букв и условных знаков в системе классифик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дексировани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процесс выбора или составления индексов по схеме и проставление их на каталожной карточк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истема индексирования необходим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закрепления места и отражения взаимосвязей деления схем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азой для индексирования являет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КДИ АФ РФ (ВНИИДАД, 2007 г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468360" y="69660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1.1. Понятие о системе СПС к архивным докумен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&amp;Icy;&amp;zcy;&amp;ocy;&amp;bcy;&amp;rcy; &amp;pcy;&amp;ocy; &amp;KHcy;&amp;rcy;&amp;acy;&amp;ncy;&amp;iecy;&amp;ncy;&amp;icy;&amp;iecy; &amp;Dcy;&amp;ocy;&amp;kcy;&amp;ucy;&amp;mcy;&amp;iecy;&amp;ncy;&amp;tcy;&amp;ocy;&amp;vcy; &amp;Vcy; &amp;Acy;&amp;rcy;&amp;khcy;&amp;icy;&amp;vcy;&amp;iecy;"/>
          <p:cNvPicPr/>
          <p:nvPr/>
        </p:nvPicPr>
        <p:blipFill>
          <a:blip r:embed="rId1"/>
          <a:stretch/>
        </p:blipFill>
        <p:spPr>
          <a:xfrm>
            <a:off x="5076720" y="2060640"/>
            <a:ext cx="3767400" cy="4500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"/>
          <p:cNvSpPr/>
          <p:nvPr/>
        </p:nvSpPr>
        <p:spPr>
          <a:xfrm>
            <a:off x="250920" y="458244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СПС = 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179280" y="226548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у справочно-поисковых средств (система СПС) также называют научно-справочным аппаратом (Н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Индекс и индексирование документной информаци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5280" y="148428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КДИ АФ РФ (ВНИИДАД, 2007 г.) – современный методический инструмент дл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ъединения архивных ресурсов АФ РФ в единое информационное пространств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нификации структурирования и регулирования постоянно растущего объема архивное информ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еспечения совместимости всех элементов архивной информационной сред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я эффективности поиска и использования архивной документ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можности внесения изменений и новых понятий без нарушения принятой структуры классифик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еречень профессий и специальностей СП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9640" y="1557360"/>
          <a:ext cx="8229600" cy="4029120"/>
        </p:xfrm>
        <a:graphic>
          <a:graphicData uri="http://schemas.openxmlformats.org/drawingml/2006/table">
            <a:tbl>
              <a:tblPr/>
              <a:tblGrid>
                <a:gridCol w="1513080"/>
                <a:gridCol w="39733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УМАНИТАРНЫЕ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.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СТОРИЯ И АРХЕ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.02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кументационное обеспечение управления и архив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ециалист по документационному обеспечению управления, архив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72f"/>
                          </a:solidFill>
                          <a:latin typeface="Constantia"/>
                        </a:rPr>
                        <a:t>49.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72f"/>
                          </a:solidFill>
                          <a:latin typeface="Constantia"/>
                        </a:rPr>
                        <a:t>ФИЗИЧЕСКАЯ КУЛЬТУРА И 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4c55"/>
                          </a:solidFill>
                          <a:latin typeface="Constantia"/>
                        </a:rPr>
                        <a:t>9.02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изическ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дагог по физической культуре и спор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енер/Учитель физическ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ЕКДИ АФ РФ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(ВНИИДАД, 2007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КДИ АФ РФ разработан на принципах исторического подхода к  документной информации АФ РФ, его логического, всестороннего и комплексного анализа для обоснованного разбиения понятий на всех уровнях иерархии и конструирования классификационной системы, адекватно отражающей предметную область АФ РФ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се общие понятия, образующие структуру Классификатора, делятся по следующим принципа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логическом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и котором применяется действие от общего к частному и от высшего к низшем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)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сторическому (хронологическому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0752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ЕКДИ АФ РФ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 (ВНИИДАД, 2007)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79280" y="119664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)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логический принцип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котором применяется действие от общего к частному и от высшего к низшем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пример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05.02.00.00. Внешнеполитические связ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05.02.01.00. Межгосударственные отнош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05.02.02.00. Внешние снош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05.02.02.01. Встречи на высшем уровн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05.02.02.02. Обмен межгосударственными визитами, делегациями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ли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1.01.00.00. Торговл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1.01.02.00. Внутренняя торговл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1.01.03.00. Внешняя торговл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1.01.04.00. Государственная внешняя торговл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1.01.05.00. Кооперативная внешняя торговл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50752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ЕКДИ АФ РФ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 (ВНИИДАД, 2007)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) исторический (хронологический) принцип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пример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06.02.01.00. Войны и военные конфликты до XVII 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06.02.02.00. Войны и военные конфликты XVII 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06.02.03.00. Войны и военные конфликты XVIII 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06.02.04.00. Войны и военные конфликты XIХ 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06.02.05.00. Войны и военные конфликты XХ в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утеводите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563640" y="1341000"/>
            <a:ext cx="532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утеводител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это архивный справочник, содержащий краткие сведения о документах одного или нескольких архив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утеводитель является обязательным справочно-информационным изданием архива, дающим общее представление о составе и содержании его документов на уровне фонд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Рисунок 3" descr="2 999.jpg"/>
          <p:cNvPicPr/>
          <p:nvPr/>
        </p:nvPicPr>
        <p:blipFill>
          <a:blip r:embed="rId1"/>
          <a:stretch/>
        </p:blipFill>
        <p:spPr>
          <a:xfrm>
            <a:off x="179280" y="1268280"/>
            <a:ext cx="34560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утеводите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980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утеводители охватывают информацию на уровне Архивного фонда РФ, группы архивов, архива, ряда архивных фондов. В зависимости от этого путеводители подразделяются н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. путеводитель по фондам архив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. краткий справочник по фондам архив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. тематический путеводитель по фондам архив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. путеводитель по архива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Рисунок 3" descr="34.jpg"/>
          <p:cNvPicPr/>
          <p:nvPr/>
        </p:nvPicPr>
        <p:blipFill>
          <a:blip r:embed="rId1"/>
          <a:srcRect l="0" t="14838" r="0" b="10746"/>
          <a:stretch/>
        </p:blipFill>
        <p:spPr>
          <a:xfrm>
            <a:off x="395280" y="4554360"/>
            <a:ext cx="8424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утеводите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-24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утеводитель по фондам архива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ределяет состав архива на уровне фонд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н содержит систематизированный перечень характеристик архивных фондов, включающий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звани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мер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ъем фонд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го крайние даты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торическую справку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нотаци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блиографи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утеводите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Краткий справочник по фондам архива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общает сведения об архивных фондах более общего или более узкотематического, чем путеводитель по фондам, характер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нем ук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звания фондов и краткие сведения о них, 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ним относятс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омер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бъем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райние даты фонд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правочники могут быть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нотированными и неаннотированны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утеводите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0560" y="105228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Тематический путеводитель по фондам архива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общает сведения о фондах, определяемые конкретной темо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нем, в соответствии с темами, указываютс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звани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мер фонд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айние его даты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мера описей, содержащих документы по теме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учно-справочный аппарат к фонду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нотаци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блиограф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Дополнительно могут быть указаны сведения по истории фондообразователя и условия доступа и использования документ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468360" y="9403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СПС к архивным докумен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&amp;Icy;&amp;zcy;&amp;ocy;&amp;bcy;&amp;rcy; &amp;pcy;&amp;ocy; &amp;KHcy;&amp;rcy;&amp;acy;&amp;ncy;&amp;iecy;&amp;ncy;&amp;icy;&amp;iecy; &amp;Dcy;&amp;ocy;&amp;kcy;&amp;ucy;&amp;mcy;&amp;iecy;&amp;ncy;&amp;tcy;&amp;ocy;&amp;vcy; &amp;Vcy; &amp;Acy;&amp;rcy;&amp;khcy;&amp;icy;&amp;vcy;&amp;iecy;"/>
          <p:cNvPicPr/>
          <p:nvPr/>
        </p:nvPicPr>
        <p:blipFill>
          <a:blip r:embed="rId1"/>
          <a:stretch/>
        </p:blipFill>
        <p:spPr>
          <a:xfrm>
            <a:off x="5076720" y="2060640"/>
            <a:ext cx="3767400" cy="45003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"/>
          <p:cNvSpPr/>
          <p:nvPr/>
        </p:nvSpPr>
        <p:spPr>
          <a:xfrm>
            <a:off x="179280" y="2164680"/>
            <a:ext cx="475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СПС к документам архива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эт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мплек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заимосвязанных и взаимодополняемых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архивных справочников о составе и содержании архивных докумен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создаваемых на единой методической основе для поиска архивных документов и архивной информации в целях эффективного исполь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утеводите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119700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утеводитель по архивам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ключает сведения о ряде архивов, начиная с Архивного фонда РФ и продолжая группой архивов. Он определяет состав архива, группы архивов, состав Архивного фонда РФ по хранилищам его всего или отдельных его часте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арактеристика архива в этом путеводителе содержит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звание и адрес архи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правочные данные по видам документации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торическую справку и аннот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полнительно может сообщаться библиография по архиву. В зависимости от задач, стоящих перед таким путеводителем, он может быть общим или тематически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утеводите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196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утеводитель состоит из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сновной част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в которой дается характеристика фондов и документо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правочного аппарат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включающег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титульный лист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оглавлени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предислови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список сокращений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5. указател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утеводите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24000" y="119664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арактеристика фонд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это совокупность сведений, включающи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название фонд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справочные данные о нем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историю организации-фондообразователя (для фонда личного происхождения - основные биографические сведения о лице)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информацию о составе и содержании документов фонд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5. Она может дополняться библиографическим списком литературы о фонд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утеводите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1196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рядок расположения характеристик зависит от классификационной схемы, которая определяется составом фондов архив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к, для архивов, хранящих фонды досоветского, советского и современного периодов, характеристики на них даются раздельно по историческим периодам, например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онды досоветского перио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онды советских, современных учреждений, организаций и предприят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утеводите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68360" y="119700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и составлении характеристик фондов существуют различные методы и способы описания документов данного фонда или группы фондов архива, которые заключаются в выбор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нципа группировки в аннотаци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личной методике подачи информации о содержании отдельных видов документо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разной степени подробности сведений, включаемых в историческую справку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оставе и степени полноты справочного аппарата к издани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правочный аппарат к путеводителю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сновными элементами 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справочного аппарата в путеводителе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являютс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98720" indent="-457200" algn="just">
              <a:spcBef>
                <a:spcPts val="700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итульный лист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98720" indent="-457200" algn="just">
              <a:spcBef>
                <a:spcPts val="700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главление (содержание)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98720" indent="-457200" algn="just">
              <a:spcBef>
                <a:spcPts val="700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едисловие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98720" indent="-457200" algn="just">
              <a:spcBef>
                <a:spcPts val="700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писок сокращений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98720" indent="-457200" algn="just">
              <a:spcBef>
                <a:spcPts val="700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казател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правочный аппарат к путеводителю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итульный лист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только завершает оформление справочника, но и содержит основные сведения справочно-ориентирующего характер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то - информация общего характер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 подведомственности данного архи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звании архи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звании справочник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 месте и времени изд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правочный аппарат к путеводителю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Оглавл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главление несет определенную информационную нагрузку, показывая основные ступени систематизации, давая конкретную и наглядную информацию о структуре описания комплекса документов в цел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правочный аппарат к путеводителю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1197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Предисловие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ключает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общие сведения по истории архив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по составу и содержанию документ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построению справочник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История архива дается очень кратко, освещаются такие вопросы, как история комплектования архива, его объем и профил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ное внимание в предисловии уделяется характеристике материалов и принципам построения справочника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 правило, дается общая оценка хранящихся документов. Основной акцент делается на те аспекты их содержания, которые составляют специфику данного архи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правочный аппарат к путеводителю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24000" y="1197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Предисловие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основное внимание в предисловии уделяется характеристике материалов и принципам построения справочника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 правило, дается общая оценка хранящихся документов. Основной акцент делается на те аспекты их содержания, которые составляют специфику данного архив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казывается объем, степень сохранности документов, приводятся сведения об опубликованных документах архив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хема 5" descr=""/>
          <p:cNvPicPr/>
          <p:nvPr/>
        </p:nvPicPr>
        <p:blipFill>
          <a:blip r:embed="rId1"/>
          <a:stretch/>
        </p:blipFill>
        <p:spPr>
          <a:xfrm>
            <a:off x="615960" y="396720"/>
            <a:ext cx="822312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правочный аппарат к путеводителю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24000" y="1197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Предисловие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следует включать сведения о материалах, относящихся к профилю архива, но хранящихся в других архивах, библиотеках, музе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при отсутствии в путеводителе списка непрофильных фондов, хранящихся в архиве, в предисловии целесообразно оговорить их наличие в составе архи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ледней части предисловия даются сведения о принципах построения справочника и т.д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правочный аппарат к путеводителю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ыбор остальных элементов справочного аппарата зависит от назначен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для широкой информации или целевого информирования) и формы издания (архивный справочник или научно-популярное издание)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многотомных изданий составляется справочный аппарат как для всего издания в целом, так и для отдельных томов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етодика составления 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списка сокращений, указателей и оглавления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путеводителям аналогична методике подготовки этих элементов справочного аппарата к опис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2360" cy="20113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10920" y="3860640"/>
            <a:ext cx="7854840" cy="920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ОБЗОРЫ АРХИВНЫХ ДОКУМЕНТ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ЗОРЫ АРХИВНЫХ ДОКУМЕНТО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зор архивных документов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это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ип архивного справочник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включающий систематизированные сведения о составе и содержании отдельных комплексов документов, дополненные в необходимых случаях источникововедческим анализом этих докумен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Виды обзоров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. обзоры архивных фондов (объединенных фондов, коллекций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. тематические обзор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ЗОР АРХИВНОГО ФОНД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79280" y="1196640"/>
            <a:ext cx="3888000" cy="38876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БЗОР АРХИВНОГО ФОН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то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ид обзора документов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включающий систематизированные сведени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 составе и содержании документов архивного фонд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их поисковыми данными и даже в ряде случаев с источниковедческим анализ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140360" y="1196640"/>
            <a:ext cx="4752720" cy="388764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ЕМАТИЧЕСКИЙ ОБЗОР ДОКУМЕНТ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то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ид обзора документов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включающий систематизированные сведени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 составе и содержании документов одного или нескольких архивных фондов по определенной теме, а такж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поисковыми данными и возможным источниковедческим анализом этих документ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ЗОР АРХИВНОГО ФОНД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Содержимое 2"/>
          <p:cNvSpPr/>
          <p:nvPr/>
        </p:nvSpPr>
        <p:spPr>
          <a:xfrm>
            <a:off x="539640" y="1197000"/>
            <a:ext cx="813600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стоят из двух основных ча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о обз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юще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сведения о составе и содержании документов (аннот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 источниковедчески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поисков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ый аппар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итульный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гл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еди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писок сокра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хемы построения обзоров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8000" y="1412640"/>
            <a:ext cx="3887640" cy="439236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хемами построения обзора архивного фонд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вляютс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руктурна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раслевая (функциональная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матическа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ронологическа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минальна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1640" y="1412640"/>
            <a:ext cx="4321080" cy="43923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хемами построения тематического обзора документо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вляютс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раслевая (функциональная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матическа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ронологическа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хемы построения обзоров</a:t>
            </a:r>
            <a:br>
              <a:rPr sz="40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имеры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39280" y="1628640"/>
            <a:ext cx="3311640" cy="439272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хемами построения архивного фонд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вляютс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труктурна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284720" y="3141720"/>
            <a:ext cx="4535280" cy="345600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правление дела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плановый отде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 производственно-технический отде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геологически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Аннотация документов в обзорах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68360" y="1483920"/>
            <a:ext cx="3743280" cy="259236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обзоре дается информация о составе и содержании документов, т.е.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аннотаци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787640" y="1484280"/>
            <a:ext cx="3816360" cy="51134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 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групповых аннотациях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формация представляется в более обобщенной форме с указанием разновидностей документов, номеров, авторов, краткого описания содержания, хронологических рамок и объема документ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Содержимое 2"/>
          <p:cNvSpPr/>
          <p:nvPr/>
        </p:nvSpPr>
        <p:spPr>
          <a:xfrm>
            <a:off x="468360" y="4221000"/>
            <a:ext cx="3743280" cy="236880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Может  составляться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на группу, на отдельные докум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Источниковедческий анализ документо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55640" y="1773000"/>
            <a:ext cx="7632720" cy="26636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Благодаря включению в аннотации элементов источниковедческого характера подтверждается значение той или иной группы документов, или конкретного документа, или изучения темы, показывается полнота и степень сохранности документов, отмечается характер содержащихся в них фактических данных, их достоверност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Схема 4" descr=""/>
          <p:cNvPicPr/>
          <p:nvPr/>
        </p:nvPicPr>
        <p:blipFill>
          <a:blip r:embed="rId1"/>
          <a:stretch/>
        </p:blipFill>
        <p:spPr>
          <a:xfrm>
            <a:off x="378000" y="615960"/>
            <a:ext cx="84610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Поисковые данны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5280" y="1125000"/>
            <a:ext cx="835344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став поисковых данных в обзорах архивных фондов складываетс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омеров описей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(если их несколько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единиц хранени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став поисковых данных в тематических обзорах может быть более широким, поскольку эти обзоры составляются по документам нескольких фондов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омеров описей (если их несколько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единиц хранения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омера фондов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азваниями архивов (если создается межархивный справочник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Поисковые данные указываются рядом с аннотацией документов и заключаются в круглые скоб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тельные архивные справочни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11280" y="2349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КАЗАТЕЛИ В СИСТЕМЕ СП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РТОТЕ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ЕМАТИЧЕСКИЕ ПЕРЕЧНИ ДОКУМЕН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АЗЫ ДАННЫ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УКАЗАТЕЛИ В СИСТЕМЕ СП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8360" y="1700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КАЗАТЕЛЬ – это архивный справочник,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яющий собой алфавитный, систематический или составленный по какому-либо другому признаку перечень названий предметов, упоминаемых в архивных документах, с указанием поисковых данных этих докумен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Содержимое 3" descr="slide_19.jp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Схема 1" descr=""/>
          <p:cNvPicPr/>
          <p:nvPr/>
        </p:nvPicPr>
        <p:blipFill>
          <a:blip r:embed="rId1"/>
          <a:stretch/>
        </p:blipFill>
        <p:spPr>
          <a:xfrm>
            <a:off x="390600" y="103320"/>
            <a:ext cx="850896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Схема 1" descr=""/>
          <p:cNvPicPr/>
          <p:nvPr/>
        </p:nvPicPr>
        <p:blipFill>
          <a:blip r:embed="rId1"/>
          <a:stretch/>
        </p:blipFill>
        <p:spPr>
          <a:xfrm>
            <a:off x="590400" y="689040"/>
            <a:ext cx="81997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ТЕМАТИЧЕСКИЕ ПЕРЕЧН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5056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ЕМАТИЧЕСКИЕ ПЕРЕЧНИ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ются при подготовке ответов на сложные тематические запросы, требующие большой работы по выявлению документов. Один экземпляр остается в архив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ид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карточная фор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табличная фор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Элементы оформле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мер п/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головок документа (д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ата докумен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рхивный шиф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БАЗЫ ДАННЫ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78920" y="1557000"/>
            <a:ext cx="8713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АЗЫ ДАННЫ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разрабатываются и размещаются на официальных сайтах, что обеспечивает возможность оперативного и многоаспектного поиска и представления документной информации в режиме удаленного доступ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хема 1" descr=""/>
          <p:cNvPicPr/>
          <p:nvPr/>
        </p:nvPicPr>
        <p:blipFill>
          <a:blip r:embed="rId1"/>
          <a:stretch/>
        </p:blipFill>
        <p:spPr>
          <a:xfrm>
            <a:off x="603360" y="438120"/>
            <a:ext cx="81500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Схема 1" descr=""/>
          <p:cNvPicPr/>
          <p:nvPr/>
        </p:nvPicPr>
        <p:blipFill>
          <a:blip r:embed="rId1"/>
          <a:stretch/>
        </p:blipFill>
        <p:spPr>
          <a:xfrm>
            <a:off x="384120" y="420840"/>
            <a:ext cx="836928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Схема 1" descr=""/>
          <p:cNvPicPr/>
          <p:nvPr/>
        </p:nvPicPr>
        <p:blipFill>
          <a:blip r:embed="rId1"/>
          <a:stretch/>
        </p:blipFill>
        <p:spPr>
          <a:xfrm>
            <a:off x="603360" y="530280"/>
            <a:ext cx="8150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Схема 1" descr=""/>
          <p:cNvPicPr/>
          <p:nvPr/>
        </p:nvPicPr>
        <p:blipFill>
          <a:blip r:embed="rId1"/>
          <a:stretch/>
        </p:blipFill>
        <p:spPr>
          <a:xfrm>
            <a:off x="536400" y="463680"/>
            <a:ext cx="829008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4:30:02Z</dcterms:created>
  <dc:creator>kma</dc:creator>
  <dc:description/>
  <dc:language>en-US</dc:language>
  <cp:lastModifiedBy>Admin</cp:lastModifiedBy>
  <dcterms:modified xsi:type="dcterms:W3CDTF">2022-11-16T11:56:39Z</dcterms:modified>
  <cp:revision>461</cp:revision>
  <dc:subject/>
  <dc:title>Слайд 1</dc:title>
</cp:coreProperties>
</file>