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CF1-4589-4307-859F-0369BF6B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34D-2C54-4FE0-A120-F90B7C1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3EB-72E8-4019-B7D6-DAC2E375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F4C-6FF8-4683-B61C-5D8E88C2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4E6-14A2-4738-9474-F8A4765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D32-4134-484F-BA4C-D25FDA29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FB7-3C72-4FB2-AAFF-9EC5314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D71-812A-4D8F-A432-8D6FCEB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53F-DBF3-4232-9ECC-998CB9F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846-01D5-45B5-B419-CB59646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3E6-0916-4E52-BA00-2FC60FA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F97-3348-42B7-A29A-BE0121AD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42B-0956-4606-A775-8D65B8839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1547280" y="2419920"/>
            <a:ext cx="1230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Русская народная сказка «Царевна-ляг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179280" y="1080"/>
            <a:ext cx="8964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гда в сказке впервые появляется имя царевн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оценивает царь работу невесток? Почему сказка преувеличивает недостатки работы других невест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чем истинная красота героини сказ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царевич оценивает работу Василис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Рисунок8"/>
          <p:cNvPicPr/>
          <p:nvPr/>
        </p:nvPicPr>
        <p:blipFill>
          <a:blip r:embed="rId1"/>
          <a:stretch/>
        </p:blipFill>
        <p:spPr>
          <a:xfrm>
            <a:off x="1042920" y="4005360"/>
            <a:ext cx="3529080" cy="259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Рисунок32"/>
          <p:cNvPicPr/>
          <p:nvPr/>
        </p:nvPicPr>
        <p:blipFill>
          <a:blip r:embed="rId2"/>
          <a:stretch/>
        </p:blipFill>
        <p:spPr>
          <a:xfrm>
            <a:off x="5003640" y="4005360"/>
            <a:ext cx="3600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-1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Выразительное чтение эпизода 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Рисунок19"/>
          <p:cNvPicPr/>
          <p:nvPr/>
        </p:nvPicPr>
        <p:blipFill>
          <a:blip r:embed="rId1"/>
          <a:stretch/>
        </p:blipFill>
        <p:spPr>
          <a:xfrm>
            <a:off x="1619280" y="1052640"/>
            <a:ext cx="6335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187200"/>
            <a:ext cx="896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царь трижды испытывает невесток? В чём смысл пов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Рисунок33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07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Рисунок27"/>
          <p:cNvPicPr/>
          <p:nvPr/>
        </p:nvPicPr>
        <p:blipFill>
          <a:blip r:embed="rId2"/>
          <a:stretch/>
        </p:blipFill>
        <p:spPr>
          <a:xfrm>
            <a:off x="4788000" y="3605040"/>
            <a:ext cx="414648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васнецов"/>
          <p:cNvPicPr/>
          <p:nvPr/>
        </p:nvPicPr>
        <p:blipFill>
          <a:blip r:embed="rId1"/>
          <a:srcRect l="0" t="0" r="1276" b="0"/>
          <a:stretch/>
        </p:blipFill>
        <p:spPr>
          <a:xfrm>
            <a:off x="971640" y="1341360"/>
            <a:ext cx="7056360" cy="5268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79280" y="-305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Репродукция картины В.М.Васнецова «Царевна-ляг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-7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Иллюстрации И.Я.Билибина к сказке «Царевна-ляг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нок2"/>
          <p:cNvPicPr/>
          <p:nvPr/>
        </p:nvPicPr>
        <p:blipFill>
          <a:blip r:embed="rId1"/>
          <a:stretch/>
        </p:blipFill>
        <p:spPr>
          <a:xfrm>
            <a:off x="250920" y="1341360"/>
            <a:ext cx="416232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Рисунок4"/>
          <p:cNvPicPr/>
          <p:nvPr/>
        </p:nvPicPr>
        <p:blipFill>
          <a:blip r:embed="rId2"/>
          <a:stretch/>
        </p:blipFill>
        <p:spPr>
          <a:xfrm>
            <a:off x="4572000" y="1341360"/>
            <a:ext cx="42400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79280" y="187200"/>
            <a:ext cx="896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Иван-царевич сжёг лягушачью кож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стоин ли Иван-царевич Василисы Премуд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нок10"/>
          <p:cNvPicPr/>
          <p:nvPr/>
        </p:nvPicPr>
        <p:blipFill>
          <a:blip r:embed="rId1"/>
          <a:stretch/>
        </p:blipFill>
        <p:spPr>
          <a:xfrm>
            <a:off x="250920" y="1628640"/>
            <a:ext cx="4681440" cy="351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Рисунок24"/>
          <p:cNvPicPr/>
          <p:nvPr/>
        </p:nvPicPr>
        <p:blipFill>
          <a:blip r:embed="rId2"/>
          <a:stretch/>
        </p:blipFill>
        <p:spPr>
          <a:xfrm>
            <a:off x="4572000" y="3444840"/>
            <a:ext cx="42973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79640"/>
            <a:ext cx="8785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Василиса Премудрая отнеслась к поступку Ивана-царев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Иван-царевич отправился на поиски Василисы Премудр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 чем свидетельствует гипербола «..две пары железных сапог протер, два железных хлеба сглодал…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то рассказал Ивану-царевичу старич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Рисунок40"/>
          <p:cNvPicPr/>
          <p:nvPr/>
        </p:nvPicPr>
        <p:blipFill>
          <a:blip r:embed="rId1"/>
          <a:stretch/>
        </p:blipFill>
        <p:spPr>
          <a:xfrm>
            <a:off x="395280" y="3589200"/>
            <a:ext cx="4176720" cy="311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Рисунок41"/>
          <p:cNvPicPr/>
          <p:nvPr/>
        </p:nvPicPr>
        <p:blipFill>
          <a:blip r:embed="rId2"/>
          <a:stretch/>
        </p:blipFill>
        <p:spPr>
          <a:xfrm>
            <a:off x="4859280" y="3606840"/>
            <a:ext cx="40816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79280" y="-305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Репродукция картины В.М.Васнецова «Кащей Бессмертн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Рисунок44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58920" y="186840"/>
            <a:ext cx="8785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только после смерти Кащея герои могут стать счастлив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 чем сказка «Царевна-лягуш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сказка называется «Царевна-лягуш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Рисунок45"/>
          <p:cNvPicPr/>
          <p:nvPr/>
        </p:nvPicPr>
        <p:blipFill>
          <a:blip r:embed="rId1"/>
          <a:stretch/>
        </p:blipFill>
        <p:spPr>
          <a:xfrm>
            <a:off x="1835280" y="2492280"/>
            <a:ext cx="56163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24000" y="761040"/>
            <a:ext cx="8820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явление основной идеи сказ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навыка работы с иллюстрациями и лексической работы, выразительного чтения, чтения по ролям и художественного перес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спитание интереса к произведениям устного народного творчества, формирование представлений о подлинных ценност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215640"/>
            <a:ext cx="8569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то такое сказ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чего нужны чудеса в 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ие виды сказок н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кажите об особом построении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то такое эпитет, гиперб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ие обращения, повторы, постоянные эпитеты, гиперболы, встречающиеся в сказках,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зовите любимых героев русских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535680"/>
            <a:ext cx="27716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ы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ы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учи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у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удр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л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в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наря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78400" y="0"/>
            <a:ext cx="55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02560" y="11512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уклоняться от дела, бегать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979640" y="16606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(устаревшее значение слова) проверять чьи-либо ка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60000" y="259128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горевать, печал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268720" y="328356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горевать, тосковать, печал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410200" y="407556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загадочный, непонятный, замысловат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124000" y="479628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говорить, сказ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267280" y="55155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удивляться, поражаться чему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627280" y="603432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- запастись всем необходимым при отправлении куда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79280" y="186480"/>
            <a:ext cx="8785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 чем эта сказка? Назовите ее геро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то из героев понравился вам больше всего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то вы знаете об этих героях? Что можете о них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Рисунок14"/>
          <p:cNvPicPr/>
          <p:nvPr/>
        </p:nvPicPr>
        <p:blipFill>
          <a:blip r:embed="rId1"/>
          <a:stretch/>
        </p:blipFill>
        <p:spPr>
          <a:xfrm>
            <a:off x="2916360" y="3789360"/>
            <a:ext cx="376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403200"/>
            <a:ext cx="8785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героиня в сказке превращена именно в лягуш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Рисунок25"/>
          <p:cNvPicPr/>
          <p:nvPr/>
        </p:nvPicPr>
        <p:blipFill>
          <a:blip r:embed="rId1"/>
          <a:stretch/>
        </p:blipFill>
        <p:spPr>
          <a:xfrm>
            <a:off x="1908000" y="2565360"/>
            <a:ext cx="508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7159680"/>
        </p:xfrm>
        <a:graphic>
          <a:graphicData uri="http://schemas.openxmlformats.org/drawingml/2006/table">
            <a:tbl>
              <a:tblPr/>
              <a:tblGrid>
                <a:gridCol w="1979640"/>
                <a:gridCol w="3384360"/>
                <a:gridCol w="37800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Композиция волшебной ска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Экспозиц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чины, которые породили завязк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атовство, приказы цар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Завяз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асилиса Премудрая обернулась белой лебедью и улетела в окно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Развитие сюжет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ван-царевич отправляется на поиски и встречается с медведем, зайцем, уткой, селезнем, щуко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Кульминац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вный герой или героиня сражаются с противоборствующей силой и всегда побеждают ее или разгадывают трудные загадк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ван-царевич убивает Каще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Развяз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ван-царевич возвращается во дворец с Василисой Прекрасно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24000" y="-153360"/>
            <a:ext cx="511164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царь избрал такой странный способ выбора невест для своих сынов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де нашли невест старшие брат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Иван-царевич вначале хотел «отступиться от своей находки», «беж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братья смеются над Иваном-царевич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чему царь не стал противиться этому бра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Рисунок23"/>
          <p:cNvPicPr/>
          <p:nvPr/>
        </p:nvPicPr>
        <p:blipFill>
          <a:blip r:embed="rId1"/>
          <a:stretch/>
        </p:blipFill>
        <p:spPr>
          <a:xfrm>
            <a:off x="6012000" y="189000"/>
            <a:ext cx="2960640" cy="22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2"/>
          <p:cNvPicPr/>
          <p:nvPr/>
        </p:nvPicPr>
        <p:blipFill>
          <a:blip r:embed="rId2"/>
          <a:stretch/>
        </p:blipFill>
        <p:spPr>
          <a:xfrm>
            <a:off x="5003640" y="2565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Рисунок21"/>
          <p:cNvPicPr/>
          <p:nvPr/>
        </p:nvPicPr>
        <p:blipFill>
          <a:blip r:embed="rId3"/>
          <a:stretch/>
        </p:blipFill>
        <p:spPr>
          <a:xfrm>
            <a:off x="6084720" y="4473720"/>
            <a:ext cx="29037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1467720"/>
            <a:ext cx="287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Первый приказ ц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нок3"/>
          <p:cNvPicPr/>
          <p:nvPr/>
        </p:nvPicPr>
        <p:blipFill>
          <a:blip r:embed="rId1"/>
          <a:stretch/>
        </p:blipFill>
        <p:spPr>
          <a:xfrm>
            <a:off x="4211640" y="189000"/>
            <a:ext cx="4359240" cy="64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Рисунок25"/>
          <p:cNvPicPr/>
          <p:nvPr/>
        </p:nvPicPr>
        <p:blipFill>
          <a:blip r:embed="rId2"/>
          <a:stretch/>
        </p:blipFill>
        <p:spPr>
          <a:xfrm>
            <a:off x="324000" y="3554280"/>
            <a:ext cx="374328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4:49:32Z</dcterms:created>
  <dc:creator>user</dc:creator>
  <dc:description/>
  <dc:language>en-US</dc:language>
  <cp:lastModifiedBy>RePack by Diakov</cp:lastModifiedBy>
  <dcterms:modified xsi:type="dcterms:W3CDTF">2022-09-18T03:29:06Z</dcterms:modified>
  <cp:revision>8</cp:revision>
  <dc:subject/>
  <dc:title>Слайд 1</dc:title>
</cp:coreProperties>
</file>