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B5B3-55BC-4CB8-9038-1D24056C8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078-A9CE-4961-8EE1-D73797671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578-D29E-4F77-A682-A85F113F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2BE-97CC-402B-BEB1-0F94CF5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2EB-241C-481A-B00F-8D84908F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BF5-8027-473D-A35F-703AE7F6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AE3B-7EB0-47FA-93F4-EFFF25F5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5AAA-895E-49AA-8179-BEAC67EB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E2E7-41B9-4715-AFA9-B2EC2223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50F7-839B-4DA8-AC62-4B2456B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CF6-2BCB-40B2-832E-1D4FAF16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1A3A-5787-4EDB-96B6-71C236E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B56-7ACF-4C3C-8CF9-91D216F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593-34B9-4F99-8F32-0DB344A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97B-34F9-47B2-97CD-68911CB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4B5F-B614-4BF5-9DDC-21C3B95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36DF-33B1-43C1-BD45-15FD4D4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B709-6090-4AC1-AD4B-CDB4540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2919-E652-4D09-8B2A-4856E113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2E25-6A58-44CE-9366-C1D0FAFC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2954-A349-4CBB-8A7F-5D4A385E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5D9B-9CD1-4F28-B258-F764FB3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E77D-6CF3-4898-821E-73D7CC5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EB99-7E32-444C-BF96-54E5838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422-EF6B-4E21-99F6-6327318A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0AFE-BF53-4B97-9B83-5FFCFB89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74D4-3EB0-45E2-A833-D6E35D4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98C5-1409-479A-B0FA-1535FB3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1BDE-9BC1-4AF7-9098-2A78B4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31A7-F105-4FC2-B37B-42FBC92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E6CB-58CC-441D-B8D4-76984C99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EA9C-050A-4F44-8AFA-7E96E9D8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D738-FA17-4C19-BABD-AD2AD88E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D3ED-53D0-4158-A70D-7A1226B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9D11-CBC2-4609-B817-9E2CEF45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844-48FA-4008-9EFD-D93CD7D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6ACF-5539-4BC3-8ECF-D2EBD8E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47A0-457F-45F6-A01B-C53C035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B739-EFCB-4194-B40D-5A91813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36E4-AEC5-4262-943C-A7FBE46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9D94-0F74-4F4A-B6C4-5FD831E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6DA5-4105-4ACF-92CD-E1F5844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875B-918C-4BD2-882E-3450B9A1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AD10-E2E4-46EC-9E47-111FF772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A26F-DBE1-45E7-BB31-BF3835A3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5444-CB43-43FC-AEBD-792D8A99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9FC-E53A-4EB4-BA31-185FC9D1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5357-C706-4459-800D-2E697A1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D6E8-0C4C-4600-A4F2-E241F42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E23E-E899-4836-A08E-CC7BB747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2118-CEF4-46B4-B373-E44E3BF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74B26-59E3-47CB-A67F-D7E5089A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FE5F-7AAC-4813-8BE8-982FF98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01F6-DF60-4F62-AD9D-2B23A1D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EB9E-8432-47AB-A997-E7D457E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C88D4-34AB-4E26-8847-A323155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8F5F2-86AC-43A9-B665-DB049F81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0C9-45BC-413F-8B8A-0E72252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10601-32AB-4AC2-951E-7FCB3BBB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0142F-4D17-4373-BA3F-B492EDF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5201-B031-4762-9752-41759A23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84228-DA08-4099-939E-3BDDDF3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E4ED8-D32B-401C-BA0A-59B32F8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081B-AFC0-4AF3-B603-5E888576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3E623-9081-4688-AF1E-C3F5C6B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B8F6-950F-4471-BBCF-CAEE5CF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D75FD-5C4B-4BA3-B878-B6A42D9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B123-22D2-4CCE-ACC0-078E706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61F-9723-44CF-B74A-C564766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27DF-3E43-48B6-9A1F-9C46412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F8A2-3F7D-4139-879D-B44FA995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08F9-7EF8-48C3-BD62-FAA76448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710D-8207-4282-9340-12D4FEC7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8FD2-50C7-4FF6-B90D-3EAFDC36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55555-BDFC-413A-A53E-2E94FF3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21B6-AA58-41D5-BB04-B19212A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29BA-9DD5-4DC5-8F5A-50EE44C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6C51A-9625-441B-962B-34E106E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D6491-B05F-4CD0-95AF-3E87990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903-B6F7-462C-A5B0-7C58137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1E0C-9951-43BF-B4E7-511F3BE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0A9E-9679-4727-AA93-8D9A873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9BD4B-C46F-4B0B-B9E4-5F8FB39C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479F-14B0-4F9C-8FC3-C9135463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2EE4-149D-4235-A779-D6CDF09B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8BA-4BB9-429E-A1B0-55EE45F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4EBA-6174-4561-97E3-E7A69101CE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506-7729-4AC6-B7BA-4E12E48777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BC2-26F7-4FAE-BFEA-BB9E229FE6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FBE-6073-4FD6-A5DD-10682F04D8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E77-CFC8-4805-B3C8-64078D06A6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358-CD09-4012-A23F-E7ECCD748D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B0E-4E0C-4FD1-8FAD-3B1A2B50BC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3"/>
          <p:cNvGrpSpPr/>
          <p:nvPr/>
        </p:nvGrpSpPr>
        <p:grpSpPr>
          <a:xfrm>
            <a:off x="244440" y="1407960"/>
            <a:ext cx="8661600" cy="2944800"/>
            <a:chOff x="244440" y="1407960"/>
            <a:chExt cx="8661600" cy="2944800"/>
          </a:xfrm>
        </p:grpSpPr>
        <p:pic>
          <p:nvPicPr>
            <p:cNvPr id="34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44440" y="1407960"/>
              <a:ext cx="8661600" cy="29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50920" y="1413000"/>
              <a:ext cx="86421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ndara"/>
                  <a:ea typeface="Times New Roman"/>
                </a:rPr>
                <a:t>Закономерности развития детей раннего и дошкольного возраст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50920" y="2898360"/>
            <a:ext cx="864216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процессе воздействий и взаимодействий человек изменяется: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5606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стет (рост)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5606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Формируетс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5606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звиваетс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5606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овершенствуетс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5606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Обогаща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Правая фигурная скобка 7"/>
          <p:cNvSpPr/>
          <p:nvPr/>
        </p:nvSpPr>
        <p:spPr>
          <a:xfrm>
            <a:off x="4859280" y="3686040"/>
            <a:ext cx="368280" cy="2000520"/>
          </a:xfrm>
          <a:custGeom>
            <a:avLst/>
            <a:gdLst>
              <a:gd name="textAreaLeft" fmla="*/ 0 w 368280"/>
              <a:gd name="textAreaRight" fmla="*/ 132840 w 368280"/>
              <a:gd name="textAreaTop" fmla="*/ 104760 h 2000520"/>
              <a:gd name="textAreaBottom" fmla="*/ 18957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11"/>
                  <a:pt x="10800" y="3622"/>
                </a:cubicBezTo>
                <a:lnTo>
                  <a:pt x="10800" y="6767"/>
                </a:lnTo>
                <a:cubicBezTo>
                  <a:pt x="10800" y="8578"/>
                  <a:pt x="16200" y="10389"/>
                  <a:pt x="21600" y="10389"/>
                </a:cubicBezTo>
                <a:cubicBezTo>
                  <a:pt x="16200" y="10389"/>
                  <a:pt x="10800" y="12200"/>
                  <a:pt x="10800" y="14011"/>
                </a:cubicBezTo>
                <a:lnTo>
                  <a:pt x="10800" y="17978"/>
                </a:lnTo>
                <a:cubicBezTo>
                  <a:pt x="10800" y="19789"/>
                  <a:pt x="5400" y="21600"/>
                  <a:pt x="0" y="21600"/>
                </a:cubicBezTo>
              </a:path>
            </a:pathLst>
          </a:custGeom>
          <a:noFill/>
          <a:ln cap="rnd" w="41400">
            <a:solidFill>
              <a:srgbClr val="000000">
                <a:alpha val="8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5759280" y="3573360"/>
            <a:ext cx="29163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азвитие самосознания у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Группа 9" descr=""/>
          <p:cNvPicPr/>
          <p:nvPr/>
        </p:nvPicPr>
        <p:blipFill>
          <a:blip r:embed="rId1"/>
          <a:stretch/>
        </p:blipFill>
        <p:spPr>
          <a:xfrm>
            <a:off x="895320" y="334800"/>
            <a:ext cx="75596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Заголовок 1"/>
          <p:cNvSpPr/>
          <p:nvPr/>
        </p:nvSpPr>
        <p:spPr>
          <a:xfrm>
            <a:off x="250920" y="260280"/>
            <a:ext cx="87138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-ОСНОВА ОБРАЗОВАТЕЛЬНОЙ ВЕРТИКАЛ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углом вверх 15"/>
          <p:cNvSpPr/>
          <p:nvPr/>
        </p:nvSpPr>
        <p:spPr>
          <a:xfrm rot="5400000">
            <a:off x="2159280" y="4698000"/>
            <a:ext cx="1866960" cy="785880"/>
          </a:xfrm>
          <a:custGeom>
            <a:avLst/>
            <a:gdLst/>
            <a:ahLst/>
            <a:rect l="l" t="t" r="r" b="b"/>
            <a:pathLst>
              <a:path w="1867696" h="785813">
                <a:moveTo>
                  <a:pt x="0" y="657938"/>
                </a:moveTo>
                <a:lnTo>
                  <a:pt x="1664457" y="657938"/>
                </a:lnTo>
                <a:lnTo>
                  <a:pt x="1664457" y="386950"/>
                </a:lnTo>
                <a:lnTo>
                  <a:pt x="1589094" y="386950"/>
                </a:lnTo>
                <a:lnTo>
                  <a:pt x="1728395" y="0"/>
                </a:lnTo>
                <a:lnTo>
                  <a:pt x="1867696" y="386950"/>
                </a:lnTo>
                <a:lnTo>
                  <a:pt x="1792333" y="386950"/>
                </a:lnTo>
                <a:lnTo>
                  <a:pt x="1792333" y="785813"/>
                </a:lnTo>
                <a:lnTo>
                  <a:pt x="0" y="785813"/>
                </a:lnTo>
                <a:lnTo>
                  <a:pt x="0" y="65793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верх 16"/>
          <p:cNvSpPr/>
          <p:nvPr/>
        </p:nvSpPr>
        <p:spPr>
          <a:xfrm>
            <a:off x="8315280" y="1157400"/>
            <a:ext cx="460440" cy="5429160"/>
          </a:xfrm>
          <a:prstGeom prst="upArrow">
            <a:avLst>
              <a:gd name="adj1" fmla="val 30796"/>
              <a:gd name="adj2" fmla="val 110652"/>
            </a:avLst>
          </a:prstGeom>
          <a:solidFill>
            <a:srgbClr val="ffffff">
              <a:alpha val="77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C:\Users\Татьяна\Desktop\1 корпус\Ногинск\IMG_4804.JPG"/>
          <p:cNvPicPr/>
          <p:nvPr/>
        </p:nvPicPr>
        <p:blipFill>
          <a:blip r:embed="rId1"/>
          <a:stretch/>
        </p:blipFill>
        <p:spPr>
          <a:xfrm>
            <a:off x="3708360" y="169236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65" name="Скругленный прямоугольник 1"/>
          <p:cNvSpPr/>
          <p:nvPr/>
        </p:nvSpPr>
        <p:spPr>
          <a:xfrm>
            <a:off x="235080" y="1700280"/>
            <a:ext cx="3287520" cy="81108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пособности - ориентиры для воспитателе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а не знания и ум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17"/>
          <p:cNvSpPr/>
          <p:nvPr/>
        </p:nvSpPr>
        <p:spPr>
          <a:xfrm>
            <a:off x="3686040" y="5153040"/>
            <a:ext cx="4427640" cy="37476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250920" y="3137040"/>
            <a:ext cx="3286080" cy="37440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250920" y="3629160"/>
            <a:ext cx="3286080" cy="37440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Скругленный прямоугольник 20" descr=""/>
          <p:cNvPicPr/>
          <p:nvPr/>
        </p:nvPicPr>
        <p:blipFill>
          <a:blip r:embed="rId2"/>
          <a:stretch/>
        </p:blipFill>
        <p:spPr>
          <a:xfrm>
            <a:off x="1090440" y="4091040"/>
            <a:ext cx="543240" cy="2504880"/>
          </a:xfrm>
          <a:prstGeom prst="rect">
            <a:avLst/>
          </a:prstGeom>
          <a:ln w="0">
            <a:noFill/>
          </a:ln>
        </p:spPr>
      </p:pic>
      <p:pic>
        <p:nvPicPr>
          <p:cNvPr id="370" name="Скругленный прямоугольник 21" descr=""/>
          <p:cNvPicPr/>
          <p:nvPr/>
        </p:nvPicPr>
        <p:blipFill>
          <a:blip r:embed="rId3"/>
          <a:stretch/>
        </p:blipFill>
        <p:spPr>
          <a:xfrm>
            <a:off x="1962000" y="4059360"/>
            <a:ext cx="532080" cy="2627280"/>
          </a:xfrm>
          <a:prstGeom prst="rect">
            <a:avLst/>
          </a:prstGeom>
          <a:ln w="0">
            <a:noFill/>
          </a:ln>
        </p:spPr>
      </p:pic>
      <p:sp>
        <p:nvSpPr>
          <p:cNvPr id="371" name="Скругленный прямоугольник 22"/>
          <p:cNvSpPr/>
          <p:nvPr/>
        </p:nvSpPr>
        <p:spPr>
          <a:xfrm>
            <a:off x="3716280" y="5667480"/>
            <a:ext cx="4427640" cy="37440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23"/>
          <p:cNvSpPr/>
          <p:nvPr/>
        </p:nvSpPr>
        <p:spPr>
          <a:xfrm>
            <a:off x="3716280" y="6183360"/>
            <a:ext cx="4427640" cy="37296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ИНИЦИ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24"/>
          <p:cNvSpPr/>
          <p:nvPr/>
        </p:nvSpPr>
        <p:spPr>
          <a:xfrm>
            <a:off x="250920" y="2603520"/>
            <a:ext cx="3286080" cy="372960"/>
          </a:xfrm>
          <a:prstGeom prst="roundRect">
            <a:avLst>
              <a:gd name="adj" fmla="val 32662"/>
            </a:avLst>
          </a:prstGeom>
          <a:solidFill>
            <a:srgbClr val="b9d6fb">
              <a:alpha val="50000"/>
            </a:srgbClr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211640" y="1027080"/>
            <a:ext cx="468144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Природа хочет, чтобы дети были детьми, прежде чем быть взрослыми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Если мы хотим нарушить этот порядок, мы произведем скороспелые плоды, которые не будут иметь ни зрелости, ни вкуса и не замедлят испортиться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Дайте детству созреть в детях»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.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 Ж. Русс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6" descr="C:\Users\Татьяна\Desktop\Новая папка\FFJP8019.JPG"/>
          <p:cNvPicPr/>
          <p:nvPr/>
        </p:nvPicPr>
        <p:blipFill>
          <a:blip r:embed="rId1"/>
          <a:stretch/>
        </p:blipFill>
        <p:spPr>
          <a:xfrm>
            <a:off x="250920" y="836640"/>
            <a:ext cx="36734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4678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Объект 8" descr=""/>
          <p:cNvPicPr/>
          <p:nvPr/>
        </p:nvPicPr>
        <p:blipFill>
          <a:blip r:embed="rId1"/>
          <a:stretch/>
        </p:blipFill>
        <p:spPr>
          <a:xfrm>
            <a:off x="109440" y="1195560"/>
            <a:ext cx="866952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42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СОК ЛИТЕРАТУРЫ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Содержимое 2"/>
          <p:cNvSpPr/>
          <p:nvPr/>
        </p:nvSpPr>
        <p:spPr>
          <a:xfrm>
            <a:off x="250920" y="2133720"/>
            <a:ext cx="8642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Багдасарова, С. К. Психология и педагогика: учеб. пособие для ср. спец. учеб. заведений. – М.: Ростов н/Д: МарТ, 2013. – 315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Бандурка, А. М. Основы психологии и педагогики: учеб. пособие. – Ростов н/Д: Феникс, 2009. – 25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оспитание и обучение детей раннего возраста. – Л.: Просвещение, 2012. – 176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ыготский, Л. С. Педагогическая психология. – М.: Педагогика-пресс, 1999.533с.с.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зьмин А. М. Дневник развития ребенка от рождения до трех лет. – М.: Когито-Центр, 2011. – 7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920" y="1916280"/>
            <a:ext cx="8642160" cy="43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культурно-историческая концепция (Л.С.Выготский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деятельностный подход (П.Я. Гальперин, В.В. Давыдов, А.В. Запорожец и др.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учение о психологическом возрасте (Л.С.Выготский, Д.Б.Эльконин)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закономерности развития познавательных мотивов у детей дошкольного возраста (А.В. Запорожец, Л.А. Венгер, Н.Н. Подъяков и др.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теория амплификации (А.В. Запорожец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учение о ведущей роли обучения для развития (Л.С.Выготский, Д.Б.Эльконин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теория планомерно-поэтапного формирования умственных действий и понятий (П.Я.Гальперин) и другие научные подходы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91920" y="620280"/>
            <a:ext cx="7786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ССЛЕДОВАНИЯ  В  ОТЕЧЕСТВЕННОЙ   НАУ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  ОБЛАСТИ   ПСИХОЛОГИИ   И   ПЕДАГОГИ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14200" y="1628280"/>
            <a:ext cx="87156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В. П. Зинченко, Е. Б. Моргунов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творческий характер развития, проявляющийся в порождении ребенком знаков, символов, когда он уже с младенчества выступает как субъект культур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едущая роль социокультурного контекста развития, по-разному проявляющаяся в разных периодах, влияя, например, в школьном возрасте на процессы формирования образа мира, стиля поведения и деятель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собая значимость сенситивных периодов развития (разных для разных возрастов), т. е. периодов, наиболее чувствительных к осознанию, усвоению и реализации норм, форм, условий человеческой жизнедеятельности (языка, способов общения и т. д.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овместная деятельность взрослых и детей как движущая сила развития ребенка, передача детям взрослыми достижений исторического развития челове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0280" y="691920"/>
            <a:ext cx="7900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РИНЦИПЫ, ХАРАКТЕРИЗУЮЩИЕ  ПРОЦЕСС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СИХИЧЕСКОГО   РАЗВИТИЯ    РЕБЕНК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060280"/>
            <a:ext cx="86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едметная деятельность, выделение сенсорных эталон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оизвольное поведе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амосознание и самостоятель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величение запаса сл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нтенсивный рост организм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звитие слуховой чувствительности, восприятие чтения, музы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звитие желания рисовать, лепить, действовать с бумаг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38840" indent="-438840" algn="just">
              <a:spcBef>
                <a:spcPts val="4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ебенку все хочется потрогать, он постоянно обращается к взрослому с предложением поиграть вместе. Разворачивается ситуативно – деловое общение, которое составляет основу взаимодействия ребенка со взрослы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9160" y="620280"/>
            <a:ext cx="7901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АННИЙ ВОЗВРАСТ (ОТ ГОДА ДО ТРЕХ ЛЕТ)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Содержимое 2" descr=""/>
          <p:cNvPicPr/>
          <p:nvPr/>
        </p:nvPicPr>
        <p:blipFill>
          <a:blip r:embed="rId1"/>
          <a:stretch/>
        </p:blipFill>
        <p:spPr>
          <a:xfrm>
            <a:off x="255600" y="2017800"/>
            <a:ext cx="8705880" cy="42069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" descr=""/>
          <p:cNvPicPr/>
          <p:nvPr/>
        </p:nvPicPr>
        <p:blipFill>
          <a:blip r:embed="rId2"/>
          <a:stretch/>
        </p:blipFill>
        <p:spPr>
          <a:xfrm>
            <a:off x="1163520" y="712800"/>
            <a:ext cx="70786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920" y="836640"/>
            <a:ext cx="867888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Развивающее образование  -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такой тип образования, который не просто имеет развивающий эффект, но, будучи ориентированным на каждого ребенка, ставит основной своей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целью</a:t>
            </a:r>
            <a:r>
              <a:rPr b="0" i="1" lang="ru-RU" sz="2000" spc="-1" strike="noStrike">
                <a:solidFill>
                  <a:srgbClr val="000000"/>
                </a:solidFill>
                <a:latin typeface="Candara"/>
              </a:rPr>
              <a:t> его</a:t>
            </a: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 развитие, реальное продвиже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В системе развивающего образования знания, умения и навыки выполняют функцию не столько самостоятельных целей, сколько средств в процессе развития ребенка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. То есть воспитатель ставит задачу не столько научить ребенка тем или другим знаниям или умениям, сколько обеспечить его развитие с помощью этих знаний и умений.  Полученные ребенком знания, умения действительно должны иметь развивающий эффект - и именно для ребенк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ткровенная заинтересованность ребенка, его вовлеченность, любознательность и инициативность - вот очевидные показатели, что идет процесс развития, а не просто «натаскивание» на определенные зна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50920" y="78588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оздание психолого-педагогических условий для развития детей в соответствии с их способностями и интересами предполагает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предоставление им широкого выбора видов деятельности и предметных областей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обеспечивать детям возможность реального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ыбора)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тсутствие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жесткой предметности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поскольку именно в интегрированном содержании (например, проектного типа) дети свободны делать широкий выбор и проявлять свои пока еще не структурированные интересы и творческие способност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зрастная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пецифика дошкольного образования на разных ступенях  (особую значимость приобретает принцип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самоценности каждо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который может быть раскрыт  посредством двойного требования к содержанию и методам дошкольного образования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422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беспечение полноты реализации возможностей ребенка определенного возраст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422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пора на достижения предыдущего этапа развит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50920" y="549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сновное достижение дошкольного возраста - это развитие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 базиса личност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ребенка, его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 эмоциональное благополучие, развитие индивидуальных способностей и склонностей,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развитие его самостоятельности, инициативы, творческих возможностей, произвольности, любознательности, ответственности, коммуникативной и интеллектуальной компетентност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m</dc:creator>
  <dc:description/>
  <dc:language>en-US</dc:language>
  <cp:lastModifiedBy>Сементин Иван Николаевич</cp:lastModifiedBy>
  <dcterms:modified xsi:type="dcterms:W3CDTF">2022-11-05T11:31:37Z</dcterms:modified>
  <cp:revision>121</cp:revision>
  <dc:subject/>
  <dc:title>Интегрированное здоровье человека, общества, образования и вообще динамических саморегулирующихся систем</dc:title>
</cp:coreProperties>
</file>