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EDCFD-5DD5-4B13-97C7-A95E06176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4FE33-52FA-44F4-9D9F-7121ABC07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C932C-4232-4E97-BF98-097DB843A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84B97-333F-4742-8450-30B59D257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4A061-47ED-4CE0-8888-B358F833E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7EDEE-8650-4F3E-868A-1A614B617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4AB9F-9D66-479E-BA2C-DA8448D85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0125F-A934-42C2-92D5-8FE3250A1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2C8B0-A683-4B86-BF7D-217CCDBFB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AD61E-20C1-4778-A98D-E24BFF5B8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E1765-63C0-4055-9123-625C9B234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EA493-A462-4C6A-A333-246D820B1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E59DA-B5D6-4F1F-ADD4-C57BC3C9B706}" type="slidenum">
              <a:rPr b="0" lang="uk-U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1620720" y="-268560"/>
            <a:ext cx="647640" cy="30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8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755280" y="2421000"/>
            <a:ext cx="7931160" cy="37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800000"/>
                </a:solidFill>
                <a:latin typeface="Arial"/>
              </a:rPr>
              <a:t>Презентация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421e"/>
                </a:solidFill>
                <a:latin typeface="Arial"/>
              </a:rPr>
              <a:t>«Как насекомые к зиме готовятся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421e"/>
                </a:solidFill>
                <a:latin typeface="Arial"/>
              </a:rPr>
              <a:t>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Arial"/>
              </a:rPr>
              <a:t>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Объект 3" descr="Как насекомые готовятся к зиме, фото 4"/>
          <p:cNvPicPr/>
          <p:nvPr/>
        </p:nvPicPr>
        <p:blipFill>
          <a:blip r:embed="rId1"/>
          <a:stretch/>
        </p:blipFill>
        <p:spPr>
          <a:xfrm>
            <a:off x="395280" y="333360"/>
            <a:ext cx="842472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чёл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руженицы-пчелы на зиму в спячку не впадают. С наступлением холодов матка прекращает кладку яиц, а пчелки все больше времени проводят в гнезде. Все они скапливаются вокруг личинок и куколок, чтобы поддержать температуру, необходимую для их жизни. Никаких работ пчелки зимой не выполняют, сидят почти неподвижно. Клубок пчел состоит из 30-35 тысяч особей. Внутри клубка температура всегда выше, чем снаружи. Поэтому пчелки, которые замерзли, протискиваются вглубь, а их место занимают пчелы, которые побывали в тепле. Главные враги пчел зимой — сильные ветры, влажность и голод, поэтому пчеловоды должны постараться, чтобы обеспечить пчелкам спокойную и уютную зимовк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Объект 3" descr="Как насекомые готовятся к зиме, фото 5"/>
          <p:cNvPicPr/>
          <p:nvPr/>
        </p:nvPicPr>
        <p:blipFill>
          <a:blip r:embed="rId1"/>
          <a:stretch/>
        </p:blipFill>
        <p:spPr>
          <a:xfrm>
            <a:off x="468360" y="260280"/>
            <a:ext cx="842472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ау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сенью пауки скрываются, чтобы не встретиться лицом к лицу с холодной зимо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одяной паук кутается в кокон и погружается под воду, где засыпает до весн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ауки, которые живут в лесу, или на улице прячутся в деревянной кор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 те, что пугают нас дома, засыпают где-то в щеля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Объект 3" descr="Как насекомые готовятся к зиме, фото 6"/>
          <p:cNvPicPr/>
          <p:nvPr/>
        </p:nvPicPr>
        <p:blipFill>
          <a:blip r:embed="rId1"/>
          <a:stretch/>
        </p:blipFill>
        <p:spPr>
          <a:xfrm>
            <a:off x="395280" y="260280"/>
            <a:ext cx="8424720" cy="616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омары и мух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нтересно, что комарики и мухи на зиму прячутся в оконных рамах и щелях домов. Муха, которая упала в спячку, способна просуществовать полгода и больше. С наступлением тепла мухи оживают и ходят, словно сонные. Придя в себя, насекомые возвращаются к привычной жизни, которая обычно длится около месяца. А комары часто не доживают до зимы. Взрослые особи проводят всю свою жизнь, а именно лето и осень, на суше. Дальше все самцы-комары погибают, а самки (и то не все) отправляются на водоемы, чтобы переждать зиму, а весной отложить яйца для зарождения новой жиз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еперь мы знаем куда прячутся насекомые зимой: они находят себе удобные места, в которых крепко спят. А мы в это время играем в снежки, лепим снежную бабу, празднуем Рождество Христово и Новый год и очень редко встречаем сонных насекомых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1258560" y="1557360"/>
            <a:ext cx="742788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Мультимедийная презентация «Как насекомые к зиме готовятся»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предназначена для использования в процессе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- непосредственной образовательной деятельности с воспитанникам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групп старшего дошкольного возраста в рамках образовательной области «Познание»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Данная мультимедийная презентация направлена на достижение следующих задач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- способствовать формированию представлений детей о жизни насекомых в зимних условиях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- упражнять детей в умении определять приспособленческие признаки насекомых к зиме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- развивать любознательность, умение употреблять разные типы предложени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- воспитывать, бережное отношение ко всему живом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2268000" y="1600200"/>
            <a:ext cx="6418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Arial"/>
              </a:rPr>
              <a:t>У берега несмело </a:t>
            </a:r>
            <a:br>
              <a:rPr sz="3200"/>
            </a:br>
            <a:r>
              <a:rPr b="0" lang="ru-RU" sz="3200" spc="-1" strike="noStrike">
                <a:solidFill>
                  <a:srgbClr val="800000"/>
                </a:solidFill>
                <a:latin typeface="Arial"/>
              </a:rPr>
              <a:t>Ложится хрупкий лед.  </a:t>
            </a:r>
            <a:br>
              <a:rPr sz="3200"/>
            </a:br>
            <a:r>
              <a:rPr b="0" lang="ru-RU" sz="3200" spc="-1" strike="noStrike">
                <a:solidFill>
                  <a:srgbClr val="800000"/>
                </a:solidFill>
                <a:latin typeface="Arial"/>
              </a:rPr>
              <a:t>Печально туча серая </a:t>
            </a:r>
            <a:br>
              <a:rPr sz="3200"/>
            </a:br>
            <a:r>
              <a:rPr b="0" lang="ru-RU" sz="3200" spc="-1" strike="noStrike">
                <a:solidFill>
                  <a:srgbClr val="800000"/>
                </a:solidFill>
                <a:latin typeface="Arial"/>
              </a:rPr>
              <a:t>По дну пруда плывет. </a:t>
            </a:r>
            <a:br>
              <a:rPr sz="3200"/>
            </a:br>
            <a:r>
              <a:rPr b="0" lang="ru-RU" sz="3200" spc="-1" strike="noStrike">
                <a:solidFill>
                  <a:srgbClr val="800000"/>
                </a:solidFill>
                <a:latin typeface="Arial"/>
              </a:rPr>
              <a:t>Суровой дышит осенью </a:t>
            </a:r>
            <a:br>
              <a:rPr sz="3200"/>
            </a:br>
            <a:r>
              <a:rPr b="0" lang="ru-RU" sz="3200" spc="-1" strike="noStrike">
                <a:solidFill>
                  <a:srgbClr val="800000"/>
                </a:solidFill>
                <a:latin typeface="Arial"/>
              </a:rPr>
              <a:t>Прозрачная вода. </a:t>
            </a:r>
            <a:br>
              <a:rPr sz="3200"/>
            </a:br>
            <a:r>
              <a:rPr b="0" lang="ru-RU" sz="3200" spc="-1" strike="noStrike">
                <a:solidFill>
                  <a:srgbClr val="800000"/>
                </a:solidFill>
                <a:latin typeface="Arial"/>
              </a:rPr>
              <a:t>Деревья листья сбросили, </a:t>
            </a:r>
            <a:br>
              <a:rPr sz="3200"/>
            </a:br>
            <a:r>
              <a:rPr b="0" lang="ru-RU" sz="3200" spc="-1" strike="noStrike">
                <a:solidFill>
                  <a:srgbClr val="800000"/>
                </a:solidFill>
                <a:latin typeface="Arial"/>
              </a:rPr>
              <a:t>Встречая холо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Объект 3" descr="https://bipbap.ru/wp-content/uploads/2017/04/gandex.ru-13546_f19b2f71ba9e9a5bb039ed9a0410250e.jpg"/>
          <p:cNvPicPr/>
          <p:nvPr/>
        </p:nvPicPr>
        <p:blipFill>
          <a:blip r:embed="rId1"/>
          <a:srcRect l="0" t="5758" r="1019" b="0"/>
          <a:stretch/>
        </p:blipFill>
        <p:spPr>
          <a:xfrm>
            <a:off x="430200" y="297000"/>
            <a:ext cx="8420040" cy="627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Бабоч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1115640" y="1125360"/>
            <a:ext cx="72010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ольшинство видов бабочек, при наступлении осени погибает. Некоторые из видов, предчувствуя приближение холодов, совершает перелет в теплые края, подобно птицам (капустница, адмирал, траурница).   Из-за того, что тело бабочек довольно хрупкое, и не может выдержать низких температур большинство бабочек, подобно птицам, улетают зимовать в теплые края. Некоторые виды бабочек, такие как червонец, крапивница, впадают в состояние спячки, и таким образом спасаются от морозов. Многие виды бабочек с наступлением осени прячутся в коре деревьев или в подвалах жилых дом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Объект 3" descr="Как насекомые готовятся к зиме, фото 2"/>
          <p:cNvPicPr/>
          <p:nvPr/>
        </p:nvPicPr>
        <p:blipFill>
          <a:blip r:embed="rId1"/>
          <a:stretch/>
        </p:blipFill>
        <p:spPr>
          <a:xfrm>
            <a:off x="395280" y="260280"/>
            <a:ext cx="842472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Божья коров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Эта маленькая красавица всем нравится, потому что имеет яркую глянцевую окраску и считается символом счастья. Однако между собой жучки не слишком дружат— они, видимо, мечтатели, которые наслаждаются жизнью в одиночестве. Но когда на улице начинает опадать листья и воздух становится прохладным, божьи коровки объединяются в группки и ищут теплые места для зимовки, такие как: кора деревьев, мох, камни. Сообразительные красно-черные бусинки прячутся в квартирах. Основная задача солнышка осенью — поиск сухого и уютного места для отдыха. Снежную зиму эти насекомые, к сожалению, не видят, ведь впадают в спячку еще до ее прихо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Объект 3" descr="Как насекомые готовятся к зиме, фото 3"/>
          <p:cNvPicPr/>
          <p:nvPr/>
        </p:nvPicPr>
        <p:blipFill>
          <a:blip r:embed="rId1"/>
          <a:srcRect l="3682" t="2286" r="1744" b="0"/>
          <a:stretch/>
        </p:blipFill>
        <p:spPr>
          <a:xfrm>
            <a:off x="395280" y="404640"/>
            <a:ext cx="8424720" cy="61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уравь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уравьи постоянно держатся группами и всю жизнь строят домики, которые называются муравейниками. Эти трудолюбивые букашки совсем не боятся холода, потому что не замерзают даже тогда, когда мы надеваем шубы и перчатки. Им не нужно искать место для зимней ночевки, ведь они всегда могут отдохнуть в лабиринтах муравейника. Однако к зиме они, все же, готовятся. Так, осенью в теле муравья выделяется специальная жидкость, которая согревает его изнутри. А называется она глицерин. Именно благодаря этой магической жидкости муравьи не мерзнут зим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5T16:44:26Z</dcterms:created>
  <dc:creator>Мама</dc:creator>
  <dc:description/>
  <dc:language>en-US</dc:language>
  <cp:lastModifiedBy>Admin</cp:lastModifiedBy>
  <dcterms:modified xsi:type="dcterms:W3CDTF">2022-11-14T17:49:08Z</dcterms:modified>
  <cp:revision>37</cp:revision>
  <dc:subject/>
  <dc:title>Слайд 1</dc:title>
</cp:coreProperties>
</file>