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CA3-29FE-4279-ACC4-182A8075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42F-9D9B-4D3A-B24E-B1D992E4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6EB-3A4B-4236-B6BF-4D1DBA3B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195-0A1F-4A1D-921B-6B1B5BD7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D14-4B99-4B06-809A-B235F22F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968-5C76-4782-90E5-59732749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6D5-4EC5-4121-A928-ACC0F769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389-08B7-452A-9A4A-F499F989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84F-49C7-4980-AA35-2F2DC0EA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0CA-121E-4D97-8CB0-F60EB5A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8126-A7C9-4AA1-A166-C6862808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0B3-92D0-472C-8075-37FD42C1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A20F-C949-410E-9313-63D021FE7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985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286000" y="33336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746"/>
                </a:solidFill>
                <a:latin typeface="Arial"/>
              </a:rPr>
              <a:t>Образов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746"/>
                </a:solidFill>
                <a:latin typeface="Arial"/>
              </a:rPr>
              <a:t>Полевского  городского  ок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746"/>
                </a:solidFill>
                <a:latin typeface="Arial"/>
              </a:rPr>
              <a:t>муниципальное бюджетное  дошкольное  образовательное 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746"/>
                </a:solidFill>
                <a:latin typeface="Arial"/>
              </a:rPr>
              <a:t>Полевского городского округа </a:t>
            </a:r>
            <a:r>
              <a:rPr b="1" i="1" lang="ru-RU" sz="1400" spc="-1" strike="noStrike">
                <a:solidFill>
                  <a:srgbClr val="001746"/>
                </a:solidFill>
                <a:latin typeface="Arial"/>
              </a:rPr>
              <a:t>Орган  местного 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746"/>
                </a:solidFill>
                <a:latin typeface="Arial"/>
              </a:rPr>
              <a:t>Управл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746"/>
                </a:solidFill>
                <a:latin typeface="Arial"/>
              </a:rPr>
              <a:t>«Детский сад № 43  общеразвивающего  ви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746"/>
                </a:solidFill>
                <a:latin typeface="Arial"/>
              </a:rPr>
              <a:t>Победы  ул., д.24, г. Полевской,  Свердловской  области,  623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746"/>
                </a:solidFill>
                <a:latin typeface="Arial"/>
              </a:rPr>
              <a:t>Тел</a:t>
            </a:r>
            <a:r>
              <a:rPr b="1" lang="en-US" sz="1400" spc="-1" strike="noStrike">
                <a:solidFill>
                  <a:srgbClr val="001746"/>
                </a:solidFill>
                <a:latin typeface="Arial"/>
              </a:rPr>
              <a:t>.: 2-04-93; E-mail: </a:t>
            </a:r>
            <a:r>
              <a:rPr b="1" lang="en-US" sz="1400" spc="-1" strike="noStrike" u="sng">
                <a:solidFill>
                  <a:srgbClr val="001746"/>
                </a:solidFill>
                <a:uFillTx/>
                <a:latin typeface="Arial"/>
              </a:rPr>
              <a:t>dc_43@mail.ru</a:t>
            </a:r>
            <a:r>
              <a:rPr b="1" lang="en-US" sz="1400" spc="-1" strike="noStrike">
                <a:solidFill>
                  <a:srgbClr val="001746"/>
                </a:solidFill>
                <a:latin typeface="Arial"/>
              </a:rPr>
              <a:t>; </a:t>
            </a:r>
            <a:r>
              <a:rPr b="1" lang="en-US" sz="1400" spc="-1" strike="noStrike" u="sng">
                <a:solidFill>
                  <a:srgbClr val="001746"/>
                </a:solidFill>
                <a:uFillTx/>
                <a:latin typeface="Arial"/>
              </a:rPr>
              <a:t>www.</a:t>
            </a:r>
            <a:r>
              <a:rPr b="1" lang="ru-RU" sz="1400" spc="-1" strike="noStrike" u="sng">
                <a:solidFill>
                  <a:srgbClr val="001746"/>
                </a:solidFill>
                <a:uFillTx/>
                <a:latin typeface="Arial"/>
              </a:rPr>
              <a:t>рябинка</a:t>
            </a:r>
            <a:r>
              <a:rPr b="1" lang="en-US" sz="1400" spc="-1" strike="noStrike" u="sng">
                <a:solidFill>
                  <a:srgbClr val="001746"/>
                </a:solidFill>
                <a:uFillTx/>
                <a:latin typeface="Arial"/>
              </a:rPr>
              <a:t>96.</a:t>
            </a:r>
            <a:r>
              <a:rPr b="1" lang="ru-RU" sz="1400" spc="-1" strike="noStrike" u="sng">
                <a:solidFill>
                  <a:srgbClr val="001746"/>
                </a:solidFill>
                <a:uFillTx/>
                <a:latin typeface="Arial"/>
              </a:rPr>
              <a:t>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788000" y="5805360"/>
            <a:ext cx="41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а Раннего Возра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 : Гончарова Т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916360" y="2492280"/>
            <a:ext cx="5903640" cy="2837160"/>
          </a:xfrm>
          <a:prstGeom prst="rect">
            <a:avLst/>
          </a:prstGeom>
          <a:solidFill>
            <a:srgbClr val="f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ческая программа «Играй, общайся, развивай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части, формируемой участниками образовательных отношений, расширяющая содержание образователь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циально- коммуникативное развит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направлению «Обеспечение эмоционального благополучия детей раннего возраста посредством коммуникативных иг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2022-2024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4643280" y="765000"/>
            <a:ext cx="3203640" cy="234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4"/>
          <a:stretch/>
        </p:blipFill>
        <p:spPr>
          <a:xfrm>
            <a:off x="4140360" y="3573360"/>
            <a:ext cx="4248000" cy="2519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24000" y="3789360"/>
            <a:ext cx="3456000" cy="2980080"/>
          </a:xfrm>
          <a:prstGeom prst="rect">
            <a:avLst/>
          </a:prstGeom>
          <a:solidFill>
            <a:srgbClr val="fa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авайте Познакомим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налаживание взаимоотношений детей с группой и между собой, адаптация детей в группе, совершенствование коммуникативных навыков  Ситуации совместной деятельности детей для сплочения коллект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848360" cy="3889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24000" y="4365720"/>
            <a:ext cx="6912000" cy="1202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ма ,Папа я –дружная семья 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Формировать первоначальное представление о семь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ть у ребенка интерес к собственному имен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600360" cy="253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600360" cy="286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6804000" y="260280"/>
            <a:ext cx="2052720" cy="273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5"/>
          <a:stretch/>
        </p:blipFill>
        <p:spPr>
          <a:xfrm>
            <a:off x="4356000" y="333360"/>
            <a:ext cx="1998720" cy="2665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4427640" y="3429000"/>
            <a:ext cx="4392360" cy="7855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: Мя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зови свое Им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29272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651640" y="3573360"/>
            <a:ext cx="3168360" cy="2848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и любимые игруш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грушки ,которые живут в нашей групп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познакомить с игрушками в групповой комнате, определять их местонахождение, воспитывать бережное отношение к игрушк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587920" y="260280"/>
            <a:ext cx="3303720" cy="345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3024000" cy="3411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 flipV="1">
            <a:off x="395280" y="35532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4000" y="333360"/>
            <a:ext cx="4968720" cy="188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 лес к друзьям - лесные животны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: закреплять доброжелательное отношение детей к друг другу ,к окружающим людям ,умение контролировать свои эмоции, сдерживать негативное проявление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529160" cy="6039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5435640" y="404640"/>
            <a:ext cx="3384360" cy="2848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сень признаки, характерные особен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формировать экологическое воспитание через коммуникативную игру ,развивать фантазию, воображение ,творчеств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«Путешествие в осенний ле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3419640" y="404640"/>
            <a:ext cx="5308560" cy="5761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324000" y="2997360"/>
            <a:ext cx="2663640" cy="2025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удесный мешоч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ук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умение развивать и отгадывать фрукты ,овощ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468360" y="316080"/>
            <a:ext cx="4906800" cy="6541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796000" y="476280"/>
            <a:ext cx="2879640" cy="1751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ежда – одень кук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ю на прогул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продолжать учить детей играть самостоятельн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05T08:48:06Z</dcterms:created>
  <dc:creator>emachines</dc:creator>
  <dc:description/>
  <dc:language>en-US</dc:language>
  <cp:lastModifiedBy>AZ</cp:lastModifiedBy>
  <dcterms:modified xsi:type="dcterms:W3CDTF">2022-11-17T18:08:18Z</dcterms:modified>
  <cp:revision>4</cp:revision>
  <dc:subject/>
  <dc:title>Слайд 1</dc:title>
</cp:coreProperties>
</file>