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20B-D362-4CC7-8B29-FBD3DD57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25C-77F7-4BA9-89E6-9C0B2B0D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DC6-2233-49CB-8AA8-4EB1DD59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044-FE00-4D84-9AAF-DBC43737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833-EFE6-4C7B-9ECB-E3CB970D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877-E51B-46B1-98AD-0F2FA226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18C-338C-4AE8-8250-D08AC925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E0E-7BDF-4C73-ADF3-6A05930D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045-E8F5-4AB5-A26F-2102245C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48E-9763-420A-BE87-40EA2DA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C5E-F047-48A2-BCFA-5111845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869-FCD8-4F5F-A61C-3860A250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1A12-02DC-403B-9547-96BA2B4A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ременность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итие пл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ивный курс «Твое здоров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 НЕДЕЛЬ БЕРЕМ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 Развиваются пальчики, появляется некоторое количество волос на головке и тельц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 Ребенок сосет пальчик и становится более подвиж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 Это период быстрого развития головного моз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 Сердцебиение плода можно выслушать при помощи стетоско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 Начинают работать п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 Однако, у ребенка, появившегося на свет в этот срок, все еще мало шансов выжить вне утробы мат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1746360"/>
            <a:ext cx="43210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 НЕДЕЛИ БЕРЕМ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Происходит окостенение слуховых косточек, которые теперь способны проводить зв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Ребенок слышит маму: ее дыхание, биение сердца и голо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Начинают формироваться жировые отлож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Это период интенсивной прибавки в вес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Легкие развиваются настолько, что ребенок может выжить вне утробы матери, но лишь в условиях палаты интенсивной терап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У таких детей возможны расстройства функционирования органов, что требует длительного нахождения в палате интенсивной терап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33760" y="1557360"/>
            <a:ext cx="446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ЕТИЙ ТРИМЕСТР БЕРЕМЕН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 НЕДЕЛИ БЕРЕМЕННОСТ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бенок реагирует как на внешние звуки, так и на звуки, возникающие внутри матк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Улучшаются рефлекторные движения, а движения тела становятся более сильны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Продолжают свое развитие легк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Ребенок теперь засыпает и просып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Кожа становится красноватой и покрывается морщинками и тонкими волоси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         Приблизительно восемь из десяти детей, рождающихся в этот срок, выживают (в палатах ИТ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427640" y="1622520"/>
            <a:ext cx="4716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 НЕДЕЛЬ БЕРЕМ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Губы и ротик становятся более чувстви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Глазки приоткрываются и способны воспринимать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Характеристики мозговых импульсов сравнимы с таковыми у  доношенны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Около девяти из десяти родившихся на этом сроке детей продолжают жить (в палатах И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00720" y="169560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 НЕДЕЛЬ БЕРЕМ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гкие способны дышать обычным воздухом, но помощь медиков все еще требу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Ребенок открывает и закрывает глазки, сосет пальчик, плачет и отвечает на внешние зв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Ритмичное дыхание и температура тела контролируются головным мозгом (центральной нервной системо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Почти все дети, родившиеся с этими сроками, продолжают жить (с помощью мед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0320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0 НЕДЕЛЬ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Кожа утолщается и и розове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Увеличивается степень контактов между нервными клетками моз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Примерно с этого срока ребенок быстро раст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Почти все дети, родившиеся в этот срок, выживают (с помощью медик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2031840"/>
            <a:ext cx="43560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2 НЕДЕЛ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Ушки приобретают свою ф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Глазки открыты во время бодрствования, а во время сна закры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Кожа ребенка гладкая и розов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Почти все дети, родившиеся в этот срок, живут (только некоторым необходима медицинская помощ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16360" y="1911240"/>
            <a:ext cx="442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4 НЕДЕЛ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Волосы на голове становятся шелковист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Нарастает тонус мышц, и ребенок способен поворачивать и поднимать гол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Почти все родившиеся в этот срок дети продолжают 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3280" y="183816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6 НЕДЕЛЬ БЕРЕМ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гкие разв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Развивается хватательный реф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Ребенок реагирует на источник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Почти все дети, родившиеся в этот срок, жизнеспос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00720" y="1695600"/>
            <a:ext cx="4643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8 НЕДЕЛЬ БЕРЕМ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ребенка (от головы до ягодичек) составляет 30см, а полный рост – до 50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       вес – от 2,6 до 4к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       К моменту рождения у ребенка развиты более чем 70 разнообразных автоматических рефлекторных движений, необходимых для выжи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       Ребенок достаточно развит и подготовлен к рожд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62400" y="1557360"/>
            <a:ext cx="34610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Й ТРИМЕСТР БЕРЕМЕННОСТ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НЕДЕЛИ БЕРЕМ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ребёнка сформирована го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Формируются сердце, ручки и ножки. Устанавливается кровообращение, которое видно на ультразв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Формируется мозг и позвоноч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03760" y="1844640"/>
            <a:ext cx="42735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 НЕДЕ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Сердце теперь имеет четыре отд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Формируются пальчики на руках и ног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Рефлекторная активность начинается с формирования мозга и нерв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Начинают быть видны глаза, уши, челюсть; формируются лёгкие, желудок и печ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1833480"/>
            <a:ext cx="464328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 НЕДЕЛЬ БЕРЕМ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Присутствуют все важные части тела ребёнка, хотя они ещё не полностью сформиров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Хорошо заметны глазки, уши, руки и ножки ребё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Продолжают формироваться мышцы и скелет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Нервная система всё более усовершенство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1812960"/>
            <a:ext cx="47163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 НЕДЕЛЬ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Пальцы на руках и ногах уже имеют ног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Малыш начинает двигаться в животе матери. Но она этого пока ещё не чувству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Сердцебиение ребёнка может быть услышано специальным стетоскоп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Присутствуют все важные органы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         Продолжают развиваться мыш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6200" y="1700280"/>
            <a:ext cx="4133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 НЕДЕЛЬ БЕРЕМ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Ребёнок начинает глотать, почки производят мочу, кровь образуется внутри к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Сформировавшиеся мышцы позволяют ребёнку делать полные дви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Сформированы веки малыш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Можно определить пол ребё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0720" y="1960560"/>
            <a:ext cx="46432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ТОРОЙ ТРИМЕСТР БЕРЕМЕННОСТ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 НЕДЕЛЬ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ирована голова, руки и ног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Кожа ребёнка выглядет прозрач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Начинают расти волосы на голове ребё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        Движения малыша становятся всё более скоординиров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91160" y="1773360"/>
            <a:ext cx="4154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 НЕДЕЛЬ БЕРЕМ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Кожа ребёнка розовая, хорошо видны 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Хорошо видны все части тела и лицо ребё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Малыш может моргать, производит хватательные движения и открывает ро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         Продолжает активно толкаться в животе ма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00720" y="1812960"/>
            <a:ext cx="4643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 НЕДЕЛЬ БЕРЕМ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системы органов уже сформированы, и начинается период их ро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 Кожа плода покрыта специальной защитной сма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 Появляются дыхательные движения, однако, их недостаточно для выполнения нормальной функции лег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 К этому времени мать начинает ощущать движения пл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 Пол ребенка возможно определить с помощью УЗ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44276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8:43:52Z</dcterms:created>
  <dc:creator>x</dc:creator>
  <dc:description/>
  <dc:language>en-US</dc:language>
  <cp:lastModifiedBy>x</cp:lastModifiedBy>
  <dcterms:modified xsi:type="dcterms:W3CDTF">2010-03-04T18:53:30Z</dcterms:modified>
  <cp:revision>2</cp:revision>
  <dc:subject/>
  <dc:title>Беременность:  Развитие плода</dc:title>
</cp:coreProperties>
</file>