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0.png" ContentType="image/pn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924-5741-45EB-9E33-457AB48D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0F4-5A1F-473C-A457-359869AE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69B-3B5E-4E4C-823A-AA109C3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79A-8952-4314-8376-9685435B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598-A1B9-4244-86DE-66DB8D1C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FD03-D0D2-4E1A-92B4-0412436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07A-7DBE-4101-AC8D-21AA0D0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3FA-319C-4D29-ABD6-29660B3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4C88-58DC-4047-979F-D38FA054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7A80-2BF6-4E5E-9199-1220D1B7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1F13-4F98-451C-AD4A-6E0516A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32B-0E2A-4DA3-9FD1-7B5AD02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FAF5-63F0-4117-97EC-E99B50C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DA6D-D66B-4A8E-9280-9926EC7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1BE-8AE5-49CA-8D00-4213DB1F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2A9A-3A7E-4565-8648-5ED171FD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6E6E-6A78-4681-A9B8-6EC80EFC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74F-B97C-4F8B-9B0F-A305514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2BB-DA06-4568-B623-99D04FE9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A8C-E7F1-47A7-B6DC-7DD3973C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307-84BD-4939-BCB0-E83DCE1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418-0D9D-4F34-BC91-C5E9BFF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F61-42E2-45DF-BC37-28D694A4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E03-2952-4D56-9130-544EE2E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48A-7C2D-4A92-9F1C-A1C62E41A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F6DD-C89D-48AA-97FF-FF81FD93B5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143000"/>
            <a:ext cx="78598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нструмент и принадлежности сварщик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908000" y="333360"/>
            <a:ext cx="49676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итет по образ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б П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УХОВСКОЕ УЧИЛИЩЕ № 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484360" y="5985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первой категории Политов Александр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Щит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Щитк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готовляются дву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х вид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оловные  и руч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042920" y="2817720"/>
            <a:ext cx="2881440" cy="273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217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Щит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оловный щиток более удобен, так как освобождает руку сварщика от необходимости удерживать ручной щиток. Щитки изготавливают углубленной формы для того, чтобы они хорошо защищали все открытые части головы и шеи сварщ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Щит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щиты от вредного излучения дуг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щитки вставляют стеклянные светофильтры темно-зеленого цвета, которые не пропускают вредного излучения, но позволяют видеть дугу, расплавляемый металл и манипулировать электродом для лучшего формирования ш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Щит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403280" y="1949400"/>
            <a:ext cx="69138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Щит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Рисунок 199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Оч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х, находящихся в зоне сварки, следует снабдить очками и светофильтрами, предназначенными для подсобных рабочих. Излучение дуги опасно для зрения на расстоянии до 20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3240000" cy="2239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rcRect l="52561" t="-4029" r="0" b="0"/>
          <a:stretch/>
        </p:blipFill>
        <p:spPr>
          <a:xfrm>
            <a:off x="4932360" y="3666960"/>
            <a:ext cx="3960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ас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и, работающие на строительных площадках, обязаны носить каски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храняющие голову от возможного травмирования падающими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3024360" cy="2233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08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30891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пецодеж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одежда (куртки и брюки или комбинезон) изготавливается из материала, предохраняющего сварщика от излучения и пропитанного огнеустойчивым соста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1633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пецодеж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Рисунок 19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2857680" cy="4714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96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2752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Обувь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вь сварщика, работающего на монтажной площадке, должна быть с нескользящей подметкой и на клеевой подош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331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Электрододержател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служат для закрепления электрода и подвода к нему тока. В зависимости от способа закрепления различают вилочные, пасатижные, пружинные 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95280" y="4336920"/>
            <a:ext cx="3252960" cy="159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33843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укавиц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едохранения рук от ожогов применяют брезентовые рукавицы. А при выполнении потолочных швов и соединений, расположенных выше плеча, применяют кр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971640" y="4133880"/>
            <a:ext cx="216036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05" descr=""/>
          <p:cNvPicPr/>
          <p:nvPr/>
        </p:nvPicPr>
        <p:blipFill>
          <a:blip r:embed="rId2"/>
          <a:stretch/>
        </p:blipFill>
        <p:spPr>
          <a:xfrm>
            <a:off x="5456160" y="3645000"/>
            <a:ext cx="160992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Оч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щиты глаз при отбивании шлака применяют очки с прозрачными стек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700360" y="2959200"/>
            <a:ext cx="3456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20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312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Дополнительные средства защиты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редствам индивидуальной защиты относятся также резиновый коврик, резиновые перчатки и галоши, применяемые при работе в особо опасных мес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971640" y="3706920"/>
            <a:ext cx="3038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и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учить запись в тетрад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зучить пр. 6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полнить задание по карточкам.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http://www.dytbiblioteka-dovzhenka.edukit.cn.ua/files2/images/pod_2016/19102016/hay_bude_kniga/3164_html_a89ba28.gif"/>
          <p:cNvPicPr/>
          <p:nvPr/>
        </p:nvPicPr>
        <p:blipFill>
          <a:blip r:embed="rId1"/>
          <a:stretch/>
        </p:blipFill>
        <p:spPr>
          <a:xfrm>
            <a:off x="5786280" y="4429080"/>
            <a:ext cx="130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42920" y="428760"/>
          <a:ext cx="8858160" cy="6072120"/>
        </p:xfrm>
        <a:graphic>
          <a:graphicData uri="http://schemas.openxmlformats.org/drawingml/2006/table">
            <a:tbl>
              <a:tblPr/>
              <a:tblGrid>
                <a:gridCol w="4283640"/>
                <a:gridCol w="218880"/>
                <a:gridCol w="2396160"/>
                <a:gridCol w="1959480"/>
              </a:tblGrid>
              <a:tr h="101124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а уроке я рабо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01268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воей работой на уроке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01124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рок для меня показ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ч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01268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атериал урока мне б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лез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011240">
                <a:tc grid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Я считая, что я заработал оценку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3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Мое м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57160" y="1642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900000" y="1773360"/>
            <a:ext cx="741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2266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ододержате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Рисунок 187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771720" cy="196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90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Щетк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чистки кромок перед сваркой и удаления остатков шлака применяют стальные щ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63640" y="3500280"/>
            <a:ext cx="5419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нструмент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ывший шлак с поверхности шва удаляют молотком- шлакоотделителе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3887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нструмент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леймения швов, вырубки дефектных мест применяют соответственно клейма, зубило и мол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68240" y="3213000"/>
            <a:ext cx="231804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0" t="10010" r="4425" b="0"/>
          <a:stretch/>
        </p:blipFill>
        <p:spPr>
          <a:xfrm>
            <a:off x="4284720" y="2781360"/>
            <a:ext cx="2663640" cy="16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284720" y="4691160"/>
            <a:ext cx="46083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варочные пров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лужат для подвода тока от источника питания к электрододержателлю и заготовке. Используют гибкие многожильные изолированные провода. Сечение провода выбирают от мощности источника тока, длинны провода, напряжения и силы сварочного т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843280" y="4322880"/>
            <a:ext cx="33130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варочные пров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на гибкого кабеля не должна превышать 10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87640" y="2867040"/>
            <a:ext cx="38163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варочные пров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ещается соединять сварочные электропровода узлами, все соединения должны быть надежно изолиров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378080" cy="28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268360" y="3141720"/>
            <a:ext cx="3383280" cy="1598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5651640" y="4365720"/>
            <a:ext cx="33130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9:06:20Z</dcterms:created>
  <dc:creator>Учитель</dc:creator>
  <dc:description/>
  <dc:language>en-US</dc:language>
  <cp:lastModifiedBy>Екатерина</cp:lastModifiedBy>
  <cp:lastPrinted>2022-11-13T16:22:12Z</cp:lastPrinted>
  <dcterms:modified xsi:type="dcterms:W3CDTF">2022-11-17T17:46:42Z</dcterms:modified>
  <cp:revision>12</cp:revision>
  <dc:subject/>
  <dc:title>Инструмент и принадлежности сварщика.</dc:title>
</cp:coreProperties>
</file>