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2088-CBBF-4CB3-9087-DDB6F47FB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D488-3F1C-4A92-ADD3-A511C03EA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3CE3-0EE4-4AF6-9CF6-1456F0356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FE48-5D3A-4738-9741-629B0A187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F0FC-CBCD-4C5F-9747-BCDF3438C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D006-B413-4A9E-A577-009E22C39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3D25-E4F7-4F93-8802-01F95B18F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5797-3FE9-44E9-B3B7-F09CCBA14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2460-43EF-4B12-ABB3-8DA4E3B14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628F-CACA-43E5-8C26-AB8F3C586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6623-9D1E-41BE-B1E4-7E53A9768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A121-EB65-47B2-9A9A-2488D4F20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0985E-B126-4140-BF27-7D387812E1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осковское государство в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VI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ве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3828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дготовила учитель ис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кушевич В.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Период боярского прав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ительство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лены Глинско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существило ряд мер, направленных на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централизацию государств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повышение его боеспособн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нежная реформ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установившая единую монетную систему в стране (копейка = 2 деньги = 4 полушки),  в Москве создан государственный Монетный дв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нифика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введение единых для всей страны мер длины и объё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оительство новых и реорганизация старых крепостей, в том числ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итайгородской стен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округ Московского посада (под руководством Петра Малого Фрязин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форма местного управления 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убная реформ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ограничение власти наместников, введение должности губных старост, избиравшихся местным населением из дворян и черносошных крестьян (им передана часть судебных функций воевод-кормленщико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тог: реформы Елены Глинской стали шагом к формированию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нтрализованного государ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8280" y="5866200"/>
            <a:ext cx="483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пейка времен Елены Глинс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ÐÐ°ÑÑÐ¸Ð½ÐºÐ¸ Ð¿Ð¾ Ð·Ð°Ð¿ÑÐ¾ÑÑ ÐºÐ¾Ð¿ÐµÐ¹ÐºÐ° Ð²ÑÐµÐ¼ÐµÐ½ ÐµÐ»ÐµÐ½Ñ Ð³Ð»Ð¸Ð½ÑÐºÐ¾Ð¹"/>
          <p:cNvPicPr/>
          <p:nvPr/>
        </p:nvPicPr>
        <p:blipFill>
          <a:blip r:embed="rId2"/>
          <a:stretch/>
        </p:blipFill>
        <p:spPr>
          <a:xfrm>
            <a:off x="762120" y="1219320"/>
            <a:ext cx="5715000" cy="41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04920" y="865080"/>
            <a:ext cx="7848360" cy="49262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80880" y="6095880"/>
            <a:ext cx="8229600" cy="54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бъект культурного наследия «Стена Китай-города с нижней часть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арваринской башни, 1534-1538 гг.» (частично восстановле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ÐÐ°ÑÑÐ¸Ð½ÐºÐ¸ Ð¿Ð¾ Ð·Ð°Ð¿ÑÐ¾ÑÑ ÐºÐ¸ÑÐ°Ð¹Ð³Ð¾ÑÐ¾Ð´ÑÐºÐ°Ñ ÑÑÐµÐ½Ð°"/>
          <p:cNvPicPr/>
          <p:nvPr/>
        </p:nvPicPr>
        <p:blipFill>
          <a:blip r:embed="rId2"/>
          <a:stretch/>
        </p:blipFill>
        <p:spPr>
          <a:xfrm>
            <a:off x="609480" y="609480"/>
            <a:ext cx="7991640" cy="47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Период боярского прав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 смерти Елены Глинской началась ожесточенная борьба за власть между боярскими группировками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льские, Шуйские, Глин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стеснялись в средствах – прибегали к открытому насилию  по отношению друг к друг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рьба сопровождалась расхищением государственной казны, усилением произвола «кормленщиков» на местах, ростом недовольства народа 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лаблением государственной в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небрежительное отношение к Ивану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Arial"/>
              </a:rPr>
              <a:t>Правление Ивана </a:t>
            </a: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IV</a:t>
            </a:r>
            <a:r>
              <a:rPr b="0" lang="ru-RU" sz="4400" spc="-1" strike="noStrike">
                <a:solidFill>
                  <a:srgbClr val="660066"/>
                </a:solidFill>
                <a:latin typeface="Arial"/>
              </a:rPr>
              <a:t> Грозно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Arial"/>
              </a:rPr>
              <a:t>Правление Ивана </a:t>
            </a: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IV</a:t>
            </a:r>
            <a:r>
              <a:rPr b="0" lang="ru-RU" sz="4400" spc="-1" strike="noStrike">
                <a:solidFill>
                  <a:srgbClr val="660066"/>
                </a:solidFill>
                <a:latin typeface="Arial"/>
              </a:rPr>
              <a:t> Грозно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580920" y="1294920"/>
            <a:ext cx="5334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ван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Васильевич Грозн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1530-158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рший сын Васили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Елены Глинс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1533-158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равление Иван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роз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ление Иван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V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но условно разделить на 2 перио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547 – 1665 гг. – период реформ и успехов во внешней полити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565 – 1584 гг. – период опричнины и ухудшение внутреннего и внешнего положения стр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04920" y="1371600"/>
            <a:ext cx="3292200" cy="41148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80880" y="5562000"/>
            <a:ext cx="301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иниатюра из Царского титулярника 1672 го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Arial"/>
              </a:rPr>
              <a:t>Правление Ивана </a:t>
            </a: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IV</a:t>
            </a:r>
            <a:r>
              <a:rPr b="0" lang="ru-RU" sz="4400" spc="-1" strike="noStrike">
                <a:solidFill>
                  <a:srgbClr val="660066"/>
                </a:solidFill>
                <a:latin typeface="Arial"/>
              </a:rPr>
              <a:t> Грозно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580920" y="1447560"/>
            <a:ext cx="5334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ван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Васильевич Грозн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1530-158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1533-158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равление Иван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роз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чало самостоятельного правл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16 января 1547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венчание на царство Иван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Его осуществил митрополит Макар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ван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первые в истории России официально принял титул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ар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5562360"/>
            <a:ext cx="301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. Вайгель. Гравюра. Фрагмент. Нюрнберг, вторая половина XVI ве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31096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Arial"/>
              </a:rPr>
              <a:t>Правление Ивана </a:t>
            </a: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IV</a:t>
            </a:r>
            <a:r>
              <a:rPr b="0" lang="ru-RU" sz="4400" spc="-1" strike="noStrike">
                <a:solidFill>
                  <a:srgbClr val="660066"/>
                </a:solidFill>
                <a:latin typeface="Arial"/>
              </a:rPr>
              <a:t> Грозно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352680" y="1295280"/>
            <a:ext cx="5639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Причины принятия царского титу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итул царя равнозначен королевскому и являлся высшим после императора монархическим титул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ван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озвышал себя над обществом, в том числе и над аристократической верхуш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итул царя поднимал международный престиж Московского государ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емление подчеркнуть преемственность по отношению к  Византии: миссия возложенная на Москву после падения Константинополя – стать Третьим Римом, то есть вечным христианским царством. Русский царь становился покровителем всех православных, а РПЦ приобретала господствующее положение в православном ми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542412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арсуна Ивана Грозного из собрания Национального музея Дании, конец XVI — начало XVII век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ÐÐ²Ð°Ð½ ÐÐ°ÑÐ¸Ð»ÑÐµÐ²Ð¸Ñ"/>
          <p:cNvPicPr/>
          <p:nvPr/>
        </p:nvPicPr>
        <p:blipFill>
          <a:blip r:embed="rId1"/>
          <a:stretch/>
        </p:blipFill>
        <p:spPr>
          <a:xfrm>
            <a:off x="152280" y="1371600"/>
            <a:ext cx="30830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09480" y="1143000"/>
            <a:ext cx="3430800" cy="49910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269240" y="4724280"/>
            <a:ext cx="348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конструкция внешнего ви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вана IV по череп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полненная антропологом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ихаилом Герасимовы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Arial"/>
              </a:rPr>
              <a:t>Правление Ивана </a:t>
            </a: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IV</a:t>
            </a:r>
            <a:r>
              <a:rPr b="0" lang="ru-RU" sz="4400" spc="-1" strike="noStrike">
                <a:solidFill>
                  <a:srgbClr val="660066"/>
                </a:solidFill>
                <a:latin typeface="Arial"/>
              </a:rPr>
              <a:t> Грозно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0000"/>
                </a:solidFill>
                <a:uFillTx/>
                <a:latin typeface="Arial"/>
              </a:rPr>
              <a:t>Избранная ра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круг приближённых к Ивану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людей, составивших неофициальное правительство в конце 40-х – 50-х гг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V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лексей Фёдорович Адаше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глава Челобитного прик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ван Михайлович Висковат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глава Посольского прик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нязь Андрей Михайлович Курб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итрополит Макар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топоп Сильвес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бранная рада определяла политику Российского государства в 40-50 гг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V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Arial"/>
              </a:rPr>
              <a:t>Социально-экономическое развитие России в </a:t>
            </a: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XVI</a:t>
            </a:r>
            <a:r>
              <a:rPr b="0" lang="ru-RU" sz="4400" spc="-1" strike="noStrike">
                <a:solidFill>
                  <a:srgbClr val="660066"/>
                </a:solidFill>
                <a:latin typeface="Arial"/>
              </a:rPr>
              <a:t> ве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Реформы Избранной ра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Причины рефор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изкий уровень централ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падок государственных дел в период боярского пра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еспорядок в государственных делах (1547 г. – народные волнения в Москве из-за крупных городских пожар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Особенности рефор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вая в истории России масштабная волна реформаторских преобразов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четание реформ с активной и успешной внешней политик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Цель рефор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кратить боярское своевол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Реформы Избранной ра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154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созыв первого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емского собо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шел в историю как «собор примирения»: члены Боярской думы, высшее духовенство, столичные служилые и приказные люди обсуждали, как навести порядок в стр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Земский собо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высший сословно-представительный орган власти в России, собрание представителей различных сословий (духовенства, бояр, дворян, горожан) для решения важнейших общегосударственных вопро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Реформы Избранной ра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155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начало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оенной рефор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здани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релецкого войс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Имело единообразное обмундирование и вооружение (в том числе огнестрельное), но не являлось еще регулярной армией, так как стрельцы могли совмещать службу с занятием ремеслом и торгов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1556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принято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Уложение о службе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становлены точные нормы обязательной службы в царском войске для всех землевладельц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ребовало, чтобы владелец вотчины или поместья выходил на службу  «конно, людно, оружно» (то есть на коне, в полном вооружении и в сопровождении конных вооруженных холоп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прещались местнические споры между воеводами во время войны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тмена местничества в арми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воряне – служилые люд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по отечеству»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служба передается по наследств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рельцы – служилые люд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по прибору»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набираются за денежное жаловань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чало помещения в Московском уезде «Избранной тысячи» (1070 дворя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Похожее изображение"/>
          <p:cNvPicPr/>
          <p:nvPr/>
        </p:nvPicPr>
        <p:blipFill>
          <a:blip r:embed="rId1"/>
          <a:stretch/>
        </p:blipFill>
        <p:spPr>
          <a:xfrm>
            <a:off x="304920" y="457200"/>
            <a:ext cx="4619520" cy="62006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105520" y="5562720"/>
            <a:ext cx="35049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сковские стрельцы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V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е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29200" y="2209680"/>
            <a:ext cx="39466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рельцы исполня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лицейские функции, бы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сновой полевого  войск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храняли царя, получа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 службу денежное жаловань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Реформы Избранной ра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1550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принят новый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удебни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Судебник Иван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дены наказания наместникам и волостелям за взя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граничение власти наместников за счет сокращения судебных функций и усиление контроля со стороны центральной администр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рет обращать в холопы детей боярск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тверждение Юрьева дня (крестьянских переходов), увеличен размер пожил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дение единой меры поземельного налога  - большая сох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Реформы Избранной ра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1550-е год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реформ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ентрального упра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зыв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емского соб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ост органов центрального управления 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казов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отраслевы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Челобитный, Посольский, Поместный, Разрядный, Разбойный, Земский, Пушкарский) и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территориальны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Сибирский, Казанского дворц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52280" y="272880"/>
            <a:ext cx="8839440" cy="62755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971800" y="589824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. В. Иванов. «Земский собор». 1908 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Картинки по запросу приказы при иване грозном"/>
          <p:cNvPicPr/>
          <p:nvPr/>
        </p:nvPicPr>
        <p:blipFill>
          <a:blip r:embed="rId1"/>
          <a:stretch/>
        </p:blipFill>
        <p:spPr>
          <a:xfrm>
            <a:off x="304920" y="380880"/>
            <a:ext cx="8458200" cy="5850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33520" y="6222960"/>
            <a:ext cx="792468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.В. Иванов. «В приказе Московских времен». 1907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Реформы Избранной ра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155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реформ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естного упр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мена кормлений (наместники переводятся на оклад, определяемый царем); наместничество не награда, а служ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явление выборных губных и земских старо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 главе местной администрации отдельных территорий 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у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стоял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убные старост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выбранные из местных помещиков или вотчинников; занимались делами «о разбоях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зданы земские избы во главе с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емскими старостам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избирались посадскими людьми и черносошными крестьянами), которые занимались сбором налог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Губ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административно-территориальная единица, состоявшая из одного-двух уез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Реформы Избранной ра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155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церковная рефор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д руководством митрополита Макария был созван церковный Собор, который принял сборник решений об устройстве РПЦ «Стоглав» (то есть, состоявший из 100 глав)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«Стоглавый Собор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нификация общерусского пантеона свят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гламентация службы и обря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граничение церковного землевладения (его рост под контролем царской власт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жесточение дисциплины в среде духовен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стройство школ для насе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371600" y="0"/>
            <a:ext cx="5586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Система управления после реформ Избранной ра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457200" y="1676520"/>
            <a:ext cx="7467480" cy="3644280"/>
            <a:chOff x="457200" y="1676520"/>
            <a:chExt cx="7467480" cy="3644280"/>
          </a:xfrm>
        </p:grpSpPr>
        <p:sp>
          <p:nvSpPr>
            <p:cNvPr id="110" name=""/>
            <p:cNvSpPr/>
            <p:nvPr/>
          </p:nvSpPr>
          <p:spPr>
            <a:xfrm>
              <a:off x="4647960" y="2666880"/>
              <a:ext cx="1828800" cy="533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Боярская дум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76560" y="320040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038480" y="1752480"/>
              <a:ext cx="1143000" cy="533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Царь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867280" y="1752480"/>
              <a:ext cx="1981080" cy="533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Земский собо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57200" y="1676520"/>
              <a:ext cx="2743200" cy="533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Митрополит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7200" y="2209680"/>
              <a:ext cx="2743200" cy="533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Церковный собо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7200" y="3047760"/>
              <a:ext cx="2743200" cy="114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Войско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трельцы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дворянское ополч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809880" y="3429000"/>
              <a:ext cx="1828800" cy="532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Приказы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809880" y="4406760"/>
              <a:ext cx="4114800" cy="914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Уезды, волости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Наместники, воеводы (назначаются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181480" y="19810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800600" y="2286000"/>
              <a:ext cx="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90760" y="2286000"/>
              <a:ext cx="0" cy="114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495680" y="394956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3200040" y="2286000"/>
              <a:ext cx="990360" cy="106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3200400" y="190476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Реформы Избранной ра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Результат рефор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граничены права родовитого боярства во всех сферах государственного упр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циальной базой самодержавия становится дворянство, экономически зависящее от цар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овая система управления ликвидировала исторически сформировавшиеся местные особенности упр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се звенья системы управления в значительной степени подчинены цар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емские соборы играют роль противовеса боярству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формируется сословно-представительная монарх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России формируется централизованное государство и укрепляется самодержавная власть цар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начале 1560-х годов Избранная рада прекратила свое существ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Arial"/>
              </a:rPr>
              <a:t>Правление Ивана </a:t>
            </a: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IV</a:t>
            </a:r>
            <a:r>
              <a:rPr b="0" lang="ru-RU" sz="4400" spc="-1" strike="noStrike">
                <a:solidFill>
                  <a:srgbClr val="660066"/>
                </a:solidFill>
                <a:latin typeface="Arial"/>
              </a:rPr>
              <a:t> Грозно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0000"/>
                </a:solidFill>
                <a:uFillTx/>
                <a:latin typeface="Arial"/>
              </a:rPr>
              <a:t>Опрични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от древнерусск. опричь – кроме: в средневековой Руси – земельный удел, выделявшийся княжеской вдове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рмин имеет 2 значения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0000"/>
                </a:solidFill>
                <a:uFillTx/>
                <a:latin typeface="Arial"/>
              </a:rPr>
              <a:t>Опрични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название территории, которую Иван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ыделил себе в особое управление в 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1565-1572 г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, с особым опричным войском и с особым государственным аппаратом. (Территории, не вошедшие в опричнину, составили земщин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0000"/>
                </a:solidFill>
                <a:uFillTx/>
                <a:latin typeface="Arial"/>
              </a:rPr>
              <a:t>Опричнин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название политики террора, осуществляемой в 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1565-1572 г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(массовые репрессии, казни, земельные конфискац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Arial"/>
              </a:rPr>
              <a:t>Опричнина Ивана </a:t>
            </a: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IV</a:t>
            </a:r>
            <a:r>
              <a:rPr b="0" lang="ru-RU" sz="4400" spc="-1" strike="noStrike">
                <a:solidFill>
                  <a:srgbClr val="660066"/>
                </a:solidFill>
                <a:latin typeface="Arial"/>
              </a:rPr>
              <a:t> Грозно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ричины перехода к опричнин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ыв Ива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 политикой реформ и его стремление к неограниченному самовластью, на пути к которому стояли традиционные нормы и органы управления, остатки удельной системы, моральный авторитет церкви, слабость центрального аппарата власти. Определенную роль сыграло ухудшение обстановки в стране в связи с Ливонской войной, так как система местного управления, сложившаяся после реформы, общая слабость центральных органов управления не позволяли обычными методами обеспечивать военные нуж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емление власти спасти свой авторитет (неудачи в войне объяснялись предательством бояр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чные качества царя: его мнительность, жестокость, трусость и слабоволие, сочетавшееся с умом, начитанностью, самомнением и верой в божественную природу своей в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Задачи опричнин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тановление неограниченной власти цар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рьба с независимостью феодальной аристократ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квидация остатков феодальной раздробл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Arial"/>
              </a:rPr>
              <a:t>Опричнина Ивана </a:t>
            </a: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IV</a:t>
            </a:r>
            <a:r>
              <a:rPr b="0" lang="ru-RU" sz="4400" spc="-1" strike="noStrike">
                <a:solidFill>
                  <a:srgbClr val="660066"/>
                </a:solidFill>
                <a:latin typeface="Arial"/>
              </a:rPr>
              <a:t> Грозно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истемы государственного управления в период опрични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28600" y="1676520"/>
          <a:ext cx="8763120" cy="4626000"/>
        </p:xfrm>
        <a:graphic>
          <a:graphicData uri="http://schemas.openxmlformats.org/drawingml/2006/table">
            <a:tbl>
              <a:tblPr/>
              <a:tblGrid>
                <a:gridCol w="4648320"/>
                <a:gridCol w="4114800"/>
              </a:tblGrid>
              <a:tr h="395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ричнин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рритория: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поморские уезды, земли Строгановых на Урале, ряд слобод и улиц в Москве, центральные уезды с боярскими вотчина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лиц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Александрова слоб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ван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ричная дум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ричные приказ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ричная казна      Опричное войск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емщин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рритория: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все земли, не вошедшие в опричнин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лица: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Моск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ва правительства – И. Висковат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емская боярская ду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емские приказ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емская казна     Земское войск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годы опричнины Иван Грозный оставался фактическим правителем страны, несмотря на ее раздел и наличие двух систем управл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4" name=""/>
          <p:cNvSpPr/>
          <p:nvPr/>
        </p:nvSpPr>
        <p:spPr>
          <a:xfrm>
            <a:off x="2209680" y="4343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09680" y="4724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52480" y="5029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00400" y="5029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7057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31520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4114800"/>
            <a:ext cx="2514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743200" y="4114800"/>
            <a:ext cx="27432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743200" y="4114800"/>
            <a:ext cx="44197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Arial"/>
              </a:rPr>
              <a:t>Опричнина Ивана </a:t>
            </a: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IV</a:t>
            </a:r>
            <a:r>
              <a:rPr b="0" lang="ru-RU" sz="4400" spc="-1" strike="noStrike">
                <a:solidFill>
                  <a:srgbClr val="660066"/>
                </a:solidFill>
                <a:latin typeface="Arial"/>
              </a:rPr>
              <a:t> Грозно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Краткая хроника опричнин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Декабрь 1564 – февраль 1565 гг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отъезд царя из Москвы в Александрову слободу, его послания боярам и посадским людям, его возвращение по просьбе народа в Москву. Страна разделена на земщину и опричнину. Земщина выделила царю по его требованию 100 тыс. рублей «на подъем». Казни бояр в Москве и ссылка в Казань нескольких сот дворянских семей с конфискацией 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1566-1568 гг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массовые репрессии. Казнено 500 человек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трополит Филипп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ублично осуждает опричнину и покидает митрополичью кафед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1569-1570 гг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новая волна казней. Расправа с удельным князем Владимиром Андреевичем Старицким (двоюродный брат царя) и его родственниками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ход на Новгоро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декабрь 1569 г.)  - из 30 тыс. жителей казнено 15 тыс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ссовые казни в Москв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осень 1570 г.). Казнены казначей Н. Кураев, глава Посольского приказа И. Висковатый. Репрессии обрушились и на бывших соратников (А. Басманов, А. Вяземск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1571-1572 гг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России двухлетний голод и мор, неурожаи. Царь не сумел организовать оборону Москвы от набега крымского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ана Девлет-Гир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1572 г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осень) – отмена опричн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1572-1575 гг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объединяются опричнина и земщина, но сохраняются два двора (центра управления) – государев и зем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1575 г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третья волна репрессий уничтожает государев двор (опричник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1575-1576 гг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на московский престол Иван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ажает крещеного царевича Симеона Бекбулатовича, а сам принимает титул «Московский удельный княз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1576 г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Иван Грозный возвращается на престол. Симеон отправлен в Тве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Похожее изображение"/>
          <p:cNvPicPr/>
          <p:nvPr/>
        </p:nvPicPr>
        <p:blipFill>
          <a:blip r:embed="rId1"/>
          <a:stretch/>
        </p:blipFill>
        <p:spPr>
          <a:xfrm>
            <a:off x="457200" y="380880"/>
            <a:ext cx="6781680" cy="55641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5791320" y="6095880"/>
            <a:ext cx="2895480" cy="6098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прич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4514760" cy="60958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5257800" y="4586760"/>
            <a:ext cx="3429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. Н. Новоскольцев.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«Последние мину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итрополита Филиппа». 1889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305920" cy="55990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04920" y="5803560"/>
            <a:ext cx="853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ричники. Картина Н. В. Неврева. Изображено убийство боярина И. П. Фёдорова (1568), которого Грозный, обвинив в желании захватить власть, заставил надеть царские одежды и сесть на трон, после чего зареза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80520" y="533520"/>
            <a:ext cx="853452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 20-м годам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VI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века Московское государство самое большое по территории в Европ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сновная часть населения –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крестьян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ru-RU" sz="2200" spc="-1" strike="noStrike" u="sng">
                <a:solidFill>
                  <a:srgbClr val="cc0000"/>
                </a:solidFill>
                <a:uFillTx/>
                <a:latin typeface="Arial"/>
              </a:rPr>
              <a:t>владельческие крестьян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находились в зависимости от феодалов и платили им налог-ренту: натуральный и денежный оброк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ru-RU" sz="2200" spc="-1" strike="noStrike" u="sng">
                <a:solidFill>
                  <a:srgbClr val="cc0000"/>
                </a:solidFill>
                <a:uFillTx/>
                <a:latin typeface="Arial"/>
              </a:rPr>
              <a:t>черносошные крестьян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не зависели от феодалов, населяли «черные земли», платили налоги и несли повинности в пользу государства; пользовались большей свободой в хозяйственной деятельности, имели право распоряжаться землей; в их среде были развиты промыслы. С середины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VI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века за счет этой категории населения пополнялась прослойка купцов-предпринимателей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громную роль в жизни крестьян играла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общин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ее функции: сбор налогов, регулирование землепользования, распределение угод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ост помещичьего землевладения, в основном за счет сокращения «чёрных земель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Arial"/>
              </a:rPr>
              <a:t>Опричнина Ивана </a:t>
            </a: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IV</a:t>
            </a:r>
            <a:r>
              <a:rPr b="0" lang="ru-RU" sz="4400" spc="-1" strike="noStrike">
                <a:solidFill>
                  <a:srgbClr val="660066"/>
                </a:solidFill>
                <a:latin typeface="Arial"/>
              </a:rPr>
              <a:t> Грозно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тоги опричнин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итическ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тверждение режима личной власти царя: ослабление влияния титулованного московского боярства; установление верховенства государства над церков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тановление отношений подданства – становление деспотического государ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квидация пережитков удельной системы: последнее удельное княжество перестало существов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циально-экономическ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худшение экономического и социального развития страны (бегство населения на Дон и в Сибирь, запустение многих территорий) – разорено 40% крестьянских дво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звозвратные потери насе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должение процесса государственного закрепощения крестьян (</a:t>
            </a: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1581 г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каз Иван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о «заповедных летах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отмена Юрьева дн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ыстрое распространение дворянского землевла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ладывания предпосылок для начала Сму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Arial"/>
              </a:rPr>
              <a:t>Опричнина Ивана </a:t>
            </a:r>
            <a:r>
              <a:rPr b="0" lang="en-US" sz="4000" spc="-1" strike="noStrike">
                <a:solidFill>
                  <a:srgbClr val="660066"/>
                </a:solidFill>
                <a:latin typeface="Arial"/>
              </a:rPr>
              <a:t>IV</a:t>
            </a:r>
            <a:r>
              <a:rPr b="0" lang="ru-RU" sz="4000" spc="-1" strike="noStrike">
                <a:solidFill>
                  <a:srgbClr val="660066"/>
                </a:solidFill>
                <a:latin typeface="Arial"/>
              </a:rPr>
              <a:t> Грозн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ичнина не только не привела к усилению центральной власти, к чему стремился Иван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а скорее, ослабила ее. Попытка форсированными темпами и насильственными методами изменить структуру власти, централизовать ее в условиях незрелости социально-экономических и духовных факторов вызвала острый общественно-политический кризис, поставивший страну на грань национальной катастрофы в годы Сму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ичный террор не привел к улучшению положения боярства и боярского землевладения, произошли лишь изменения в составе этого правящего слоя, поднявшие на самый верх людей беспринципных, готовых ради личных интересов пойти на любое преступление. Опричная политика стала одной из причин поражения в Ливонской войне. Внутренняя политика и затяжная война привели к тяжелому экономическому кризису, разорению населения, его бегству на окраины. Государство теряло налогоплательщиков, служилые люди – крестьян, а это подрывало боеспособность армии. Для преодоления кризисного положения в </a:t>
            </a: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1581 г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водятс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заповедные лета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запрет крестьянского выхода в Юрьев д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ричная политика, усилив личную власть Иван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ввергла страну в разор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5099040" y="0"/>
            <a:ext cx="366408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914400" y="5440320"/>
            <a:ext cx="38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. М. Васнец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«Царь Иван Грозный», 1897 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ÐÐ°ÑÑÐ¸Ð½ÐºÐ¸ Ð¿Ð¾ Ð·Ð°Ð¿ÑÐ¾ÑÑ Ð¼Ð°ÑÐº Ð°Ð½ÑÐ¾ÐºÐ¾Ð»ÑÑÐºÐ¸Ð¹ Ð¸Ð²Ð°Ð½ Ð³ÑÐ¾Ð·Ð½ÑÐ¹"/>
          <p:cNvPicPr/>
          <p:nvPr/>
        </p:nvPicPr>
        <p:blipFill>
          <a:blip r:embed="rId1"/>
          <a:stretch/>
        </p:blipFill>
        <p:spPr>
          <a:xfrm>
            <a:off x="4191120" y="457200"/>
            <a:ext cx="4724280" cy="60958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064520" y="4616280"/>
            <a:ext cx="306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.М. Антокольск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Иван Грозный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870 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Arial"/>
              </a:rPr>
              <a:t>Опричнина Ивана </a:t>
            </a:r>
            <a:r>
              <a:rPr b="0" lang="en-US" sz="4000" spc="-1" strike="noStrike">
                <a:solidFill>
                  <a:srgbClr val="660066"/>
                </a:solidFill>
                <a:latin typeface="Arial"/>
              </a:rPr>
              <a:t>IV</a:t>
            </a:r>
            <a:r>
              <a:rPr b="0" lang="ru-RU" sz="4000" spc="-1" strike="noStrike">
                <a:solidFill>
                  <a:srgbClr val="660066"/>
                </a:solidFill>
                <a:latin typeface="Arial"/>
              </a:rPr>
              <a:t> Грозн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153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чины и цели опричнины не имеют единой оценки в исторической нау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52280" y="1752480"/>
          <a:ext cx="8763120" cy="4900680"/>
        </p:xfrm>
        <a:graphic>
          <a:graphicData uri="http://schemas.openxmlformats.org/drawingml/2006/table">
            <a:tbl>
              <a:tblPr/>
              <a:tblGrid>
                <a:gridCol w="2362320"/>
                <a:gridCol w="64008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.М. Карамз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ведение опричнины было следствием психического расстройства Ивана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.М. Соловьё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ричнина была борьбой новых государственных начал против старых родовы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.Ф. Платон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ричнина стала проявлением борьбы прогрессивного дворянства с реакционной боярско-княжеской аристократи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.С. Скрынник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ричнина неоднократно меняла свою направлен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.Б. Веселовский, А.А. Зим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спотизм и насилие в отношении всех слоёв насел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.Б. Кобр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рьба удельного и централизованного поряд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.Л. Хорошкеви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ство подавления недовольства в стране непопулярной Ливонской войн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Arial"/>
              </a:rPr>
              <a:t>Опричнина Ивана </a:t>
            </a:r>
            <a:r>
              <a:rPr b="0" lang="en-US" sz="4000" spc="-1" strike="noStrike">
                <a:solidFill>
                  <a:srgbClr val="660066"/>
                </a:solidFill>
                <a:latin typeface="Arial"/>
              </a:rPr>
              <a:t>IV</a:t>
            </a:r>
            <a:r>
              <a:rPr b="0" lang="ru-RU" sz="4000" spc="-1" strike="noStrike">
                <a:solidFill>
                  <a:srgbClr val="660066"/>
                </a:solidFill>
                <a:latin typeface="Arial"/>
              </a:rPr>
              <a:t> Грозн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сновные дискуссионные точки зр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Основной смысл опричных преобразований сводился к завершающему удару, который был нанесён последним оплотам удельной раздробленности. Ликвидация удела Владимира Старицкого и разгром Новгорода подвели феодальную черту под длительной борьбой за объединение русских земель под эгидой московского правительства в годы опричнины. Сильный удар был нанесен и по феодальной обособленности русской церкви, окончательное включение которой в централизованный аппарат власти после столкновения Ивана Грозного с митрополитом Филиппом было делом времени»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.Б. Кобр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При своем учреждении опричнина имела резко выраженную антикняжескую направленность. Опалы, казни и конфискации, обрушившиеся на суздальскую знать в первые месяцы опричнины, ослабили политическое влияние аристократии и способствовали укреплению самодержавной монархии. Объективно подобные меры способствовали преодолению остатков феодальной раздробленности, глубочайшей основой которых было крупнейшее княжеско-боярское землевладение… Опричный террор ослабил влияние боярской аристократии, но нанес также большой ущерб дворянству, церкви, высшей приказной бюрократии, т.е. тем социальным силам, которые служили наиболее прочной опорой монархии. С политической точки  зрения террор против этих слоев и группировок был полной бессмыслицей»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.Б. Кобр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Arial"/>
              </a:rPr>
              <a:t>Опричнина Ивана </a:t>
            </a:r>
            <a:r>
              <a:rPr b="0" lang="en-US" sz="4000" spc="-1" strike="noStrike">
                <a:solidFill>
                  <a:srgbClr val="660066"/>
                </a:solidFill>
                <a:latin typeface="Arial"/>
              </a:rPr>
              <a:t>IV</a:t>
            </a:r>
            <a:r>
              <a:rPr b="0" lang="ru-RU" sz="4000" spc="-1" strike="noStrike">
                <a:solidFill>
                  <a:srgbClr val="660066"/>
                </a:solidFill>
                <a:latin typeface="Arial"/>
              </a:rPr>
              <a:t> Грозн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сновные дискуссионные точки зр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Опричнина не была антибоярским мероприятием. Более того, она даже не изменила структуру русского феодального землевладения. Крупное землевладение, в том числе и княжеское, сохранилось… Тенденции централизации, ликвидации удельного сепаратизма были объективными; к крепкому единому государству, как к Риму, вели все пути… Тот путь централизации через опричнину, по которому повел страну Иван Грозный, был гибельным, разорительным для страны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.Б. Кобр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Arial"/>
              </a:rPr>
              <a:t>Опричнина Ивана </a:t>
            </a: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IV</a:t>
            </a:r>
            <a:r>
              <a:rPr b="0" lang="ru-RU" sz="4400" spc="-1" strike="noStrike">
                <a:solidFill>
                  <a:srgbClr val="660066"/>
                </a:solidFill>
                <a:latin typeface="Arial"/>
              </a:rPr>
              <a:t> Грозно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лавной целью опричнины была борьба Ивана Грозного с крупным боярством – противником централизации государ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зможные аргумен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рьба боярских группировок в период боярского правления при малолетнем Иван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строила будущего царя против цар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лабление центральной власти в годы боярского правления и злоупотребления властью на мест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винение бояр в злоупотреблениях на первом Земском соборе в 1549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ыл развязан террор против всех слоев русского об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ход на Новгород с целью ликвидации духа Новгородской во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бийство Владимира Старицкого и ликвидация последнего удельного княж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Arial"/>
              </a:rPr>
              <a:t>Опричнина Ивана </a:t>
            </a: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IV</a:t>
            </a:r>
            <a:r>
              <a:rPr b="0" lang="ru-RU" sz="4400" spc="-1" strike="noStrike">
                <a:solidFill>
                  <a:srgbClr val="660066"/>
                </a:solidFill>
                <a:latin typeface="Arial"/>
              </a:rPr>
              <a:t> Грозно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причная политика была направлена на утверждение личной власти царя, установление неограниченного самодержа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озможные аргумен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ыделение специального царского удела – опричнины; установление права царя распоряжаться жизнью и имуществом подданных в опрични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дальнейшем это право распространяется и на земщи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ходе опричнины пострадало большое количество дворян (их лишали поместий в центральной части страны, ссылали на восточные окраин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административном аппарате царской территории (опричнины) видные посты сохраняли представители древних аристократических фамил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Arial"/>
              </a:rPr>
              <a:t>Опричнина Ивана </a:t>
            </a: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IV</a:t>
            </a:r>
            <a:r>
              <a:rPr b="0" lang="ru-RU" sz="4400" spc="-1" strike="noStrike">
                <a:solidFill>
                  <a:srgbClr val="660066"/>
                </a:solidFill>
                <a:latin typeface="Arial"/>
              </a:rPr>
              <a:t> Грозно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причная политика ослабила Российское государство, она была направлена на усиление личной власти царя, сопровождалась террором и произвол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озможные аргумен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лавным содержанием опричнины стал террор не только против феодальной знати, церковных иерархов, но и всех недовольных политикой цар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ричная политика являлась одной из причин поражения России в Ливонской вой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зко ухудшилось экономическое положение стр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ричнина ускорила процесс закрепощения крестья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рательные походы на Тверь, Новгород привели к массовым расправам над их жител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еодальная знать, боярство были оппозиционной силой, выступавшей против процесса централиз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квидация Старицкого удела положила конец удельной системе – пережитку раздробл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справы с боярами покончили с оппозицией родовой аристократ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гром Новгорода положил конец сепаратизму новгородц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вершился процесс формирования централизованного государ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Развитие земледел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04920" y="1295280"/>
          <a:ext cx="8381880" cy="4192560"/>
        </p:xfrm>
        <a:graphic>
          <a:graphicData uri="http://schemas.openxmlformats.org/drawingml/2006/table">
            <a:tbl>
              <a:tblPr/>
              <a:tblGrid>
                <a:gridCol w="4647960"/>
                <a:gridCol w="3733920"/>
              </a:tblGrid>
              <a:tr h="67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+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-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процессе внутренней и внешней колонизации крестьяне и монастыри освоили большие массивы земель внутри страны, также шло освоение Дикого поля (степные пространства между Доном, верхней Окой и левыми притоками Днепра и Десны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ирокое распространение трёхполь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пылённость крестьян по огромной территории стран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благоприятные условия для ведения земледел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304920" y="5715000"/>
            <a:ext cx="8381880" cy="762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смотря на воздействие негативных факторов, в перв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овин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V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. наблюдался рост земледел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Arial"/>
              </a:rPr>
              <a:t>Опричнина Ивана </a:t>
            </a: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IV</a:t>
            </a:r>
            <a:r>
              <a:rPr b="0" lang="ru-RU" sz="4400" spc="-1" strike="noStrike">
                <a:solidFill>
                  <a:srgbClr val="660066"/>
                </a:solidFill>
                <a:latin typeface="Arial"/>
              </a:rPr>
              <a:t> Грозно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йствия Иван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привели к кризису российской государственности и об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зможные аргумен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ичный террор коснулся не только бояр, но и простых люд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ичнина привела к уничтожению многих достойных государственных и военных дея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ичнина не только не усилила, но ослабила  обороноспособность государства (набег крымских татар в 1571 г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ичнина привела к хозяйственному разорению государ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ласть царя приобрела деспотичный характер, уничтожались мелкие ростки самостоятельности и независимости обществ аи в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ичнина стала одной из важнейших причин Сму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Закрепощение крестья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Arial"/>
              </a:rPr>
              <a:t>Становление крепостного права в Росс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чины закрепощения крестьян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обходимость содержать поместное войско – ядро вооруженных сил Московского государ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интересованность всех землевладельцев в абсолютной власти над земледельцами, работниками на из зем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интересованность государства, царя, в том, чтобы землевладельцы осуществляли административное управление крестьянами и гарантировали уплату ими налогов в каз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прос на С/Х продукцию из Восточной Европы в Западной Европе, где быстро росли города и промышл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Крепостное прав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наиболее тяжёлая форма зависимости крестьян от землевладельцев, власть которых распространялась на личность, труд и имущество принадлежавших им крестья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Становление крепостного права в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35000" y="979560"/>
          <a:ext cx="8839080" cy="5654520"/>
        </p:xfrm>
        <a:graphic>
          <a:graphicData uri="http://schemas.openxmlformats.org/drawingml/2006/table">
            <a:tbl>
              <a:tblPr/>
              <a:tblGrid>
                <a:gridCol w="761760"/>
                <a:gridCol w="2514600"/>
                <a:gridCol w="5562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каких документах оформле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ржание докумен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дебник Ивана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первые право крестьян уходить от одного землевладельца к другому ограничивается одной неделей до и одной неделей после Юрьева дня (26 ноября), с оплатой пожил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дебник Ивана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во Юрьева дня подтверждается, но увеличивается размер пожил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каз Ивана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V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о «заповедных летах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первые вводится запрет на переход крестьян в Юрьев день от одного землевладельца к другом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каз Фёдора Иоанновича «об урочных летах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танавливается 5-летний срок сыска беглых крестьян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казы Михаила Фёдорович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величивается срок сыска беглых крестьян до 9, затем 15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борное уложение Алексея Михайлович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мена «урочных лет». Устанавливается бессрочный сыск беглых крестья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Arial"/>
              </a:rPr>
              <a:t>Становление крепостного права в Росс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ледстви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епостное право более чем на 2 столетия (до 1861 г.) стало фундаментом экономического и социального развития России. 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VI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еке оно позволило Российскому государству провести мощную мобилизацию ресурсов и совершить рывок в развитии, но 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еке оно стало фактором отставания, так как западные страны с преобладанием вольнонаёмного  труда развивались быстр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громная власть господ и полное бесправие крепостных оказывало разлагающее воздействие на нравы тех и других, что вело к острым социальным противоречи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Arial"/>
              </a:rPr>
              <a:t>Внешняя политика России в </a:t>
            </a: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XVI</a:t>
            </a:r>
            <a:r>
              <a:rPr b="0" lang="ru-RU" sz="4400" spc="-1" strike="noStrike">
                <a:solidFill>
                  <a:srgbClr val="660066"/>
                </a:solidFill>
                <a:latin typeface="Arial"/>
              </a:rPr>
              <a:t> ве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Arial"/>
              </a:rPr>
              <a:t>Внешняя политика России в </a:t>
            </a: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XVI</a:t>
            </a:r>
            <a:r>
              <a:rPr b="0" lang="ru-RU" sz="3600" spc="-1" strike="noStrike">
                <a:solidFill>
                  <a:srgbClr val="660066"/>
                </a:solidFill>
                <a:latin typeface="Arial"/>
              </a:rPr>
              <a:t> ве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дачи внешней политик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владение Волжским торговым пут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движение в Зауралье и Сибир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еспечение безопасности южных рубеж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крепление на берегах Балтийского мор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сновные направления внешней политик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33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сточно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33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падно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Arial"/>
              </a:rPr>
              <a:t>Восточное направ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ель: расширение границ Российского государ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занская проблема, связанная с овладением Волжским торговым путё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155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присоединение Казанского хан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155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присоединение Астраханского хан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тоги и знач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лжский торговый путь под контролем Моск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состав Московского государства вошло Поволж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крыта дорога для дальнейшего продвижения на восток в Сиби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зможность активных действий на запа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Arial"/>
              </a:rPr>
              <a:t>Восточное направ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движение русских в земли Сибирского хан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155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сибирский хан Едигер принял российское подданство и стал платить в русскую казну налог мехами – яс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157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ханский престол занял хан Кучум. Он прекратил платить ясак и возобновил набеги на русские поселения Предурал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Социально-экономические преобразования в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XVI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 ве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52280" y="1676520"/>
          <a:ext cx="8763120" cy="4803480"/>
        </p:xfrm>
        <a:graphic>
          <a:graphicData uri="http://schemas.openxmlformats.org/drawingml/2006/table">
            <a:tbl>
              <a:tblPr/>
              <a:tblGrid>
                <a:gridCol w="3276720"/>
                <a:gridCol w="5486400"/>
              </a:tblGrid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образо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, суть преобразова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ежная реформа Елены Глинск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1535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введение единой для всей страны денежной единицы – московского руб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дебник Ивана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V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новый свод законов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1550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подтверждение ограничения срока перехода крестьян Юрьевым днём, увеличение пожило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форма налогооблож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155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введение новой единицы налогообложения (большая соха) и размера взимаемых с неё повинностей (тягло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ведение </a:t>
                      </a:r>
                      <a:r>
                        <a:rPr b="1" i="1" lang="en-US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заповедных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158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запрещение перехода зависимых крестьян в Юрьев де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ведение </a:t>
                      </a:r>
                      <a:r>
                        <a:rPr b="1" i="1" lang="en-US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урочных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1597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установление 5-летнего срока сыска беглых крестья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Arial"/>
              </a:rPr>
              <a:t>Восточное направ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движение русских в земли Сибирского хан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Западной Сибири, по Иртышу, Тоболу, Оби и их притокам жили сибирские татары, ханты (остяки), манси (вогулы), ненцы (самоеды, юраки), селькупы и друг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сские промышленные и торговые люди шли на восток за пушным зверем и другими богатств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огановы, сольвычегодские промышленники, снаряжали отряды казаков для охраны своих владе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Arial"/>
              </a:rPr>
              <a:t>Восточное направ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42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трогано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од русских купцов и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мышленников, из которого происходили крупные землевладельцы и государственные деятели XVI—XX ве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левой промысе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Stroganov v1 p33.png"/>
          <p:cNvPicPr/>
          <p:nvPr/>
        </p:nvPicPr>
        <p:blipFill>
          <a:blip r:embed="rId1"/>
          <a:stretch/>
        </p:blipFill>
        <p:spPr>
          <a:xfrm>
            <a:off x="4724280" y="1676520"/>
            <a:ext cx="3772080" cy="35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Arial"/>
              </a:rPr>
              <a:t>Восточное направ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5181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рмак Тимофеевич Аленин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532-158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зачий атаман, исторический завоеватель Сибири для Русского государ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1581-158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поход Ермака в Сиби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5791320" y="1447920"/>
            <a:ext cx="2927160" cy="51814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124080" y="5638680"/>
            <a:ext cx="2667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.М. Антокольск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«Ерма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Arial"/>
              </a:rPr>
              <a:t>Восточное направ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ход Ерма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158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отряд Ермака пришел с реки Чусовой, перешел через Уральский хребет, двинулся по Тоболу и Иртышу. Войско хана Кучума потерпело поражение. Взята столица Кашлык. Местные жители стали платить Москве да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1585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Ермак погиб, но появились новые отря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и ставили укрепленные остроги, усиливали гарнизоны, основали города Тюмень (1586), Тобольск (1587) и друг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чум потерпел окончательное поражение, Сибирское ханство перестало существо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0" y="1447920"/>
            <a:ext cx="9144000" cy="5104800"/>
            <a:chOff x="0" y="1447920"/>
            <a:chExt cx="9144000" cy="5104800"/>
          </a:xfrm>
        </p:grpSpPr>
        <p:pic>
          <p:nvPicPr>
            <p:cNvPr id="210" name="" descr=""/>
            <p:cNvPicPr/>
            <p:nvPr/>
          </p:nvPicPr>
          <p:blipFill>
            <a:blip r:embed="rId1"/>
            <a:stretch/>
          </p:blipFill>
          <p:spPr>
            <a:xfrm>
              <a:off x="0" y="1447920"/>
              <a:ext cx="9144000" cy="436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152280" y="5943600"/>
              <a:ext cx="8763120" cy="60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В. И. Суриков. «Покорение Сибири Ермаком Тимофеевичем»  (1895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Arial"/>
              </a:rPr>
              <a:t>Южное направ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ль: борьба с Крымским ханст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набегов от набегов крымских татар, которые опустошали южнорусские земли, построил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ульскую засечную черт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линию крепостей, острогов, лесных завалов (засек)к югу от Оки. Позднее к югу и к юго-востоку от неё были сооружены другие засечные ли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1559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неудачный поход русского войска на Кр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157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157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159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набеги крымских татар на Москв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беды в Поволжье, оборонительно-наступательные мероприятия на юге заметно укрепили государство. Укрепились международные позиции России, а также авторитет Иван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Arial"/>
              </a:rPr>
              <a:t>Западное направ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ль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озврат древнерусских земель, попытка России утвердиться в Прибалтике, получить выход в Балтийское море, расширить фонд земель для раздачи дворянств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1558-158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Ливонская вой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вод к войн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юз, заключенный Ливонским орденом с Литв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каз ордена возобновить ежегодную уплату дани за город Юрьев (Дерпт), которую ливонцы должны были вносить в соответствии с договором с Ивано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1503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905120" y="0"/>
            <a:ext cx="4674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Arial"/>
              </a:rPr>
              <a:t>Западное направ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Этапы войн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1 эта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1558-1561 – успехи русских войск, вторжение в Ливонию, распад Ливонского орд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1558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русские войска взяли города Дерпт и Нарв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155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перемирие между Ливонским орденом и Москвой. За время перемирия орден перешел под покровительство Литвы и Польш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156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Ливонский орден прекратил существование. Его территория – совместное владение Литвы и Польш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Arial"/>
              </a:rPr>
              <a:t>Западное направ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Этапы войн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2 эта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1561-1569 – поражения русских войск, измена А.М. Курбского, вступление в войну против России Дании, Швеции, Речи Посполит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156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вступление русских войск в Литву, взятие Полоц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156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поражение русских войск под Полоцком и Оршей. Переход командующего армией князя А.М. Курбского на сторону Лит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156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юблинска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объединение  Литвы и Польши в единое государство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чь Посполит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Период боярского прав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Arial"/>
              </a:rPr>
              <a:t>Западное направ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апы войн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3 этап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1569-1583 – захват Полоцка поляками, героическая оборона Пскова от войска Стефана Батория, наступление шведов на новгородские зем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хват русскими войсками всей Прибалтики, за исключением Риги и Ревеля, вступление в войну Шве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1579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вторжение Швеции в Новгородские земли и захват ими Новгорода. Польский король Стефан Баторий захватывает Полоц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1581-158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оборона Пскова от войск Стефана Бато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Arial"/>
              </a:rPr>
              <a:t>Западное направ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158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Ям-Запольское перемир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с Польшей на 10 лет. Россия уступила Польше всю Ливонию и Полоц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158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люсское перемир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со Швецией на 10 лет. Россия отдала города Ям, Копорье, Ивангород, Нар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тоги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Россия не только не смогла выйти к балтийскому морю, но и потеряла ряд исконно русских территорий в Прибалти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начение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разбит Ливонский орден, выход к Балтийскому морю стал главным  вопросом внешней политики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1590-159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русско-шведская война. Россия вернула города и земли, утраченные по Плюсскому перемир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Arial"/>
              </a:rPr>
              <a:t>Западное направ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ражение в Ливонской войне было следствием экономического отставания России, разорения страны в период опричнины, нежелания Ивана Грозного остановить войну после распада Ордена и изменения внешнеполитической ситуации (вступление в войну Польши, Литвы, Швеции). Ситуацию осложняла необходимость постоянно оборонять южную границу страны от набегов крымского х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развития торговли с Западной Европой пришлось срочно строить Архангельский порт на Белом море (1584-1585 г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концу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V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ека Россия добилась выполнения внешнеполитических планов только на восточном направлении: присоединение Казани, Астрахани и продвижение в Сиби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0" y="457200"/>
            <a:ext cx="9220320" cy="6149880"/>
            <a:chOff x="0" y="457200"/>
            <a:chExt cx="9220320" cy="6149880"/>
          </a:xfrm>
        </p:grpSpPr>
        <p:pic>
          <p:nvPicPr>
            <p:cNvPr id="232" name="" descr="REPIN Ivan Terrible&amp;Ivan.jpg"/>
            <p:cNvPicPr/>
            <p:nvPr/>
          </p:nvPicPr>
          <p:blipFill>
            <a:blip r:embed="rId1"/>
            <a:stretch/>
          </p:blipFill>
          <p:spPr>
            <a:xfrm>
              <a:off x="0" y="457200"/>
              <a:ext cx="9220320" cy="614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152280" y="587160"/>
              <a:ext cx="8763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И.Е. Репин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Иван Грозный и сын его Иван 16 ноября 1581 года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. (1883—1885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Arial"/>
              </a:rPr>
              <a:t>Завершение правления Ивана </a:t>
            </a: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IV</a:t>
            </a:r>
            <a:r>
              <a:rPr b="0" lang="ru-RU" sz="3600" spc="-1" strike="noStrike">
                <a:solidFill>
                  <a:srgbClr val="660066"/>
                </a:solidFill>
                <a:latin typeface="Arial"/>
              </a:rPr>
              <a:t> Грозно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озяйственная разру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адение международного авторит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медление процесса централ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ризис в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тверждение крепостнич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Литератур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ексеев С.И. История России с древнейших времен до наших дней в схемах и таблицах: 10-11 классы. М.: Вентана-Граф,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дреев И.Л. История России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VI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конец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V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. 7 класс. М.: Дрофа, 20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тасов И.А., Данилов А.А., Крицкая Н.Ф., Мельникова О.Н. Я сдам ЕГЭ! История. Типовые задания. Ч.1. Древняя Русь – Россия в начал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ека. М.: Просвещение, 201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ранов П.А. История: новый полный справочник для подготовки к ЕГЭ. Москва: Издательство АСТ, 20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евуркова Е.А. ЕГЭ. История России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X-XVI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ека. М.: Издательство «Экзамен», 20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ириллов В.В. Отечественная история в схемах и таблицах. М.: Эксмо,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Период боярского прав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1533-1547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период боярского правления в Московском государстве при малолетнем Иван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1533-1538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регентство Елены Глинс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1538-1547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борьба за власть между боярскими группировками (соперничество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за влияние на великого княз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а не свержение его с целью создания новой династи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Период боярского прав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504960" y="1371240"/>
            <a:ext cx="5257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ликая княгин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лена Васильевна Глинск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1508-153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литовского рода Глинск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торая жена князя Васили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ть Иван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роз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странила от власти регентский совет и стала правительницей Русского государ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иралась на помощь своего фаворита князя  И.Ф. Овчины-Телепнёва-Оболенс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а: удержать власть до совершеннолетия сы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ÐÐ»ÐµÐ½Ð° ÐÐ°ÑÐ¸Ð»ÑÐµÐ²Ð½Ð° ÐÐ»Ð¸Ð½ÑÐºÐ°Ñ"/>
          <p:cNvPicPr/>
          <p:nvPr/>
        </p:nvPicPr>
        <p:blipFill>
          <a:blip r:embed="rId1"/>
          <a:stretch/>
        </p:blipFill>
        <p:spPr>
          <a:xfrm>
            <a:off x="380880" y="1523880"/>
            <a:ext cx="30178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21T18:17:35Z</dcterms:created>
  <dc:creator>Ника</dc:creator>
  <dc:description/>
  <dc:language>en-US</dc:language>
  <cp:lastModifiedBy>User</cp:lastModifiedBy>
  <dcterms:modified xsi:type="dcterms:W3CDTF">2022-11-17T11:40:49Z</dcterms:modified>
  <cp:revision>9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