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D5D-D356-4E9E-AC64-FA5D9F2D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5DC-FB56-4A09-8A80-BF929FF1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6C4-67A0-4D65-AC51-EE07E105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0D6-37CE-4C8F-B9BE-830EB90A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F66-ABDB-4F0C-AD3F-91156E7C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797-67E4-4885-8170-3490F0D5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41C-9A18-4118-AF35-529EA073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24B-DEBE-47F3-B5F9-DF6A5302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FA9-5228-4360-A00B-3CE56DA6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CB6-C46F-4446-BC69-8882C9F2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9B2-6E01-4998-8BEA-496958DA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7FD-E0E4-4864-B860-68CFE4E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84CB-4BE7-4DC3-A143-71AF4B6E5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лодная война и международные конфликты 1940-1970-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тивоборство двух военно-политических бл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«Холодная войн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противоборство двух военно-политических блоков, возглавляемых СССР и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егание прямого военного столкнов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ССР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отвратить возрождение у своих границ пояса недружественных госуда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45-194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коммунистические партии стали правящими в странах Восточной Евр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4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ССР заключает договора о дружбе, сотрудничестве и взаимной помощи со странами Восточной Евр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ространение сталинской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897440" cy="2830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57800" y="1828800"/>
            <a:ext cx="3429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45 - Югосла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45 – Северный Вьетн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46 – Алб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46 – Болгар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47 – Польш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47 – Венг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47 – Румы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48 – Чехословак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48 – Северная Коре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49 – Кита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334120"/>
            <a:ext cx="845820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Огромная материальная помощь со стороны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Сталин диктовал линию поведения во внешней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нутренней поли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ространение сталинской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4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бразование Совета Экономической помощи (СЭ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5184720" cy="2109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Flag of Comecon.svg"/>
          <p:cNvPicPr/>
          <p:nvPr/>
        </p:nvPicPr>
        <p:blipFill>
          <a:blip r:embed="rId2"/>
          <a:stretch/>
        </p:blipFill>
        <p:spPr>
          <a:xfrm>
            <a:off x="5638680" y="3048120"/>
            <a:ext cx="2971800" cy="19843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809880" y="4572000"/>
            <a:ext cx="4953240" cy="2057400"/>
            <a:chOff x="3809880" y="4572000"/>
            <a:chExt cx="4953240" cy="205740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3809880" y="4572000"/>
              <a:ext cx="236232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248520" y="6019920"/>
              <a:ext cx="2514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Здание СЭВ в Моск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тивоборство двух военно-политических бл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Картинки по запросу &quot;создание нато&quot;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ы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стояние политических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своих сторо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за влияние в странах «третьего мира», за вовлечение их в сферу своих инте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нка воору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противника в различных локальных конфли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ческое против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ие контактов граж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«образа враг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тивоборство двух военно-политических бл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перничество по поводу послевоенного устройства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лкновение национально-государствен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ичия в экономическом и общественно-политическом разви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ичия в системе цен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погей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 «холодной войны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военно-политических бл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048120"/>
            <a:ext cx="37339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94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оз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вероатлант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говора (НА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3048120"/>
            <a:ext cx="4114800" cy="13716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9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оз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зации Варша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говора  (ОВ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NATO OTAN landscape logo.svg"/>
          <p:cNvPicPr/>
          <p:nvPr/>
        </p:nvPicPr>
        <p:blipFill>
          <a:blip r:embed="rId1"/>
          <a:stretch/>
        </p:blipFill>
        <p:spPr>
          <a:xfrm>
            <a:off x="609480" y="4876920"/>
            <a:ext cx="3200400" cy="1668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95680" y="4572000"/>
            <a:ext cx="3548160" cy="2000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Warsaw Pact Logo.svg"/>
          <p:cNvPicPr/>
          <p:nvPr/>
        </p:nvPicPr>
        <p:blipFill>
          <a:blip r:embed="rId3"/>
          <a:stretch/>
        </p:blipFill>
        <p:spPr>
          <a:xfrm>
            <a:off x="7010280" y="4724280"/>
            <a:ext cx="1789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тивоборство двух военно-политических бл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70520" cy="5753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NATO OTAN landscape logo.svg"/>
          <p:cNvPicPr/>
          <p:nvPr/>
        </p:nvPicPr>
        <p:blipFill>
          <a:blip r:embed="rId2"/>
          <a:stretch/>
        </p:blipFill>
        <p:spPr>
          <a:xfrm>
            <a:off x="7162920" y="762120"/>
            <a:ext cx="1752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погей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 «холодной войны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нка вооружений: разработка и размещение новых видов оружия массового по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атомная бомба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4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атомная бомба СС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ÐÐ°ÑÑÐ¸Ð½ÐºÐ¸ Ð¿Ð¾ Ð·Ð°Ð¿ÑÐ¾ÑÑ Ð°ÑÐ¾Ð¼Ð½Ð°Ñ Ð±Ð¾Ð¼Ð±Ð° 1949"/>
          <p:cNvPicPr/>
          <p:nvPr/>
        </p:nvPicPr>
        <p:blipFill>
          <a:blip r:embed="rId1"/>
          <a:stretch/>
        </p:blipFill>
        <p:spPr>
          <a:xfrm>
            <a:off x="4724280" y="4191120"/>
            <a:ext cx="3695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погей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 «холодной войны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ка противника в локальных и региональных конфли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8 – блокада Западного Берлина (первый Берлинский криз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817720" cy="295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4724280"/>
            <a:ext cx="4876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194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разделение Германи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Г (прозападная) и Г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росовет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55 г. ФРГ вступила в Н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истоков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981080"/>
            <a:ext cx="281952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зование 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1981080"/>
            <a:ext cx="281952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ши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лияния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1981080"/>
            <a:ext cx="281952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ост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ношений СССР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адными стр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35268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разован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циалист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суд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35268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держка национа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вободи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ижения в коло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312408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Холодная вой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438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514600" y="2895480"/>
            <a:ext cx="2286000" cy="457200"/>
            <a:chOff x="2514600" y="2895480"/>
            <a:chExt cx="2286000" cy="457200"/>
          </a:xfrm>
        </p:grpSpPr>
        <p:sp>
          <p:nvSpPr>
            <p:cNvPr id="52" name=""/>
            <p:cNvSpPr/>
            <p:nvPr/>
          </p:nvSpPr>
          <p:spPr>
            <a:xfrm flipH="1">
              <a:off x="2514600" y="2895480"/>
              <a:ext cx="1828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43400" y="28954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04920" y="45720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чины напряж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менения в международном положении СССР и С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Стремление к расширению своего влияния СССР и С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Формирование двух экономических систем: капиталист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социалистиче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погей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 «холодной войны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ка противника в локальных и региональных конфли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-19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ойна Вьетнама за не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809880"/>
            <a:ext cx="3886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жный Вьетн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проамерикан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809880"/>
            <a:ext cx="3886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верный  Вьетнам (ДР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просовет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Flag of South Vietnam.svg"/>
          <p:cNvPicPr/>
          <p:nvPr/>
        </p:nvPicPr>
        <p:blipFill>
          <a:blip r:embed="rId1"/>
          <a:stretch/>
        </p:blipFill>
        <p:spPr>
          <a:xfrm>
            <a:off x="685800" y="5257800"/>
            <a:ext cx="1638360" cy="1092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Flag of North Vietnam.svg"/>
          <p:cNvPicPr/>
          <p:nvPr/>
        </p:nvPicPr>
        <p:blipFill>
          <a:blip r:embed="rId2"/>
          <a:stretch/>
        </p:blipFill>
        <p:spPr>
          <a:xfrm>
            <a:off x="4800600" y="5181480"/>
            <a:ext cx="1905120" cy="127008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2742840" y="3733920"/>
            <a:ext cx="2286360" cy="380880"/>
            <a:chOff x="2742840" y="3733920"/>
            <a:chExt cx="2286360" cy="380880"/>
          </a:xfrm>
        </p:grpSpPr>
        <p:sp>
          <p:nvSpPr>
            <p:cNvPr id="123" name=""/>
            <p:cNvSpPr/>
            <p:nvPr/>
          </p:nvSpPr>
          <p:spPr>
            <a:xfrm flipH="1">
              <a:off x="2742840" y="373392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37339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погей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 «холодной войны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ка противника в локальных и региональных конфли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950-195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Коре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191120"/>
            <a:ext cx="388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жная Ко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проамерикан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4267080"/>
            <a:ext cx="3886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верная  Корея (КНД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просовет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lag of South Korea.svg"/>
          <p:cNvPicPr/>
          <p:nvPr/>
        </p:nvPicPr>
        <p:blipFill>
          <a:blip r:embed="rId1"/>
          <a:stretch/>
        </p:blipFill>
        <p:spPr>
          <a:xfrm>
            <a:off x="838080" y="5334120"/>
            <a:ext cx="1905120" cy="126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" descr="Flag of North Korea.svg"/>
          <p:cNvPicPr/>
          <p:nvPr/>
        </p:nvPicPr>
        <p:blipFill>
          <a:blip r:embed="rId2"/>
          <a:stretch/>
        </p:blipFill>
        <p:spPr>
          <a:xfrm>
            <a:off x="4495680" y="5334120"/>
            <a:ext cx="2438640" cy="12189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2590920" y="3962520"/>
            <a:ext cx="2438280" cy="380880"/>
            <a:chOff x="2590920" y="3962520"/>
            <a:chExt cx="2438280" cy="380880"/>
          </a:xfrm>
        </p:grpSpPr>
        <p:sp>
          <p:nvSpPr>
            <p:cNvPr id="132" name=""/>
            <p:cNvSpPr/>
            <p:nvPr/>
          </p:nvSpPr>
          <p:spPr>
            <a:xfrm flipH="1">
              <a:off x="2590920" y="39625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962520"/>
              <a:ext cx="1523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57513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План Марш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лан экономической помощи странам Европы, пострадавшим в годы второй мировой войны. По настоянию СССР страны Восточной Европы отказались от экономической помощ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Доктрина Трумэ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пасение Европы от советской экспансии, не допустить дальнейшего расширения сферы влияния СССР, доктрина отбрасывания соц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Холодная вой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отивостояние между США (и их союзниками) и СССР (и его союзника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Холодная война» в 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46-194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возобновление гражданской войны в Кита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4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провозглашение Китайской Народной Республики (КН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договор между СССР и КНР о дружбе, сотрудничестве и взаимо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5791320"/>
            <a:ext cx="335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н Кай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87-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идент Гоминьд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1925-1975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Картинки по запросу &quot;мао цзэдун&quot;&quot;"/>
          <p:cNvPicPr/>
          <p:nvPr/>
        </p:nvPicPr>
        <p:blipFill>
          <a:blip r:embed="rId1"/>
          <a:stretch/>
        </p:blipFill>
        <p:spPr>
          <a:xfrm>
            <a:off x="5410080" y="2590920"/>
            <a:ext cx="2370240" cy="3200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876920" y="5791320"/>
            <a:ext cx="335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о Цзэду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893-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а Временного прав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итайской Совет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Картинки по запросу &quot;чан кайши&quot;"/>
          <p:cNvPicPr/>
          <p:nvPr/>
        </p:nvPicPr>
        <p:blipFill>
          <a:blip r:embed="rId2"/>
          <a:stretch/>
        </p:blipFill>
        <p:spPr>
          <a:xfrm>
            <a:off x="914400" y="2590920"/>
            <a:ext cx="2212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ка мирного сосуществования и военное сопер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56-195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уэцкий криз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6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Возведение Берлинской стены. Берлинский криз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6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Карибский кризис. Ядерное противостояние СССР и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ка мирного сосуществования и военное сопер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5800" y="1766880"/>
            <a:ext cx="6705720" cy="5092200"/>
            <a:chOff x="685800" y="1766880"/>
            <a:chExt cx="6705720" cy="5092200"/>
          </a:xfrm>
        </p:grpSpPr>
        <p:sp>
          <p:nvSpPr>
            <p:cNvPr id="150" name=""/>
            <p:cNvSpPr/>
            <p:nvPr/>
          </p:nvSpPr>
          <p:spPr>
            <a:xfrm>
              <a:off x="685800" y="6490800"/>
              <a:ext cx="56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диус покрытия ракет, дислоцированных на Куб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ÐÐ¾ÑÐ¾Ð¶ÐµÐµ Ð¸Ð·Ð¾Ð±ÑÐ°Ð¶ÐµÐ½Ð¸Ðµ"/>
            <p:cNvPicPr/>
            <p:nvPr/>
          </p:nvPicPr>
          <p:blipFill>
            <a:blip r:embed="rId1"/>
            <a:stretch/>
          </p:blipFill>
          <p:spPr>
            <a:xfrm>
              <a:off x="685800" y="1766880"/>
              <a:ext cx="6705720" cy="446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457200" y="1143000"/>
            <a:ext cx="800100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истоков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9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образование 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79246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истоков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5 марта 19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речь У. Черчилля в Фулт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Февраль 194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«доктрина Трумэна» - программа по «спасению Европы от советской экспан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00400" y="3886200"/>
            <a:ext cx="5491080" cy="2743200"/>
            <a:chOff x="3200400" y="3886200"/>
            <a:chExt cx="5491080" cy="2743200"/>
          </a:xfrm>
        </p:grpSpPr>
        <p:pic>
          <p:nvPicPr>
            <p:cNvPr id="64" name="" descr="ÐÐ°ÑÑÐ¸Ð½ÐºÐ¸ Ð¿Ð¾ Ð·Ð°Ð¿ÑÐ¾ÑÑ Ð³Ð°ÑÑÐ¸ ÑÑÑÐ¼ÑÐ½"/>
            <p:cNvPicPr/>
            <p:nvPr/>
          </p:nvPicPr>
          <p:blipFill>
            <a:blip r:embed="rId1"/>
            <a:stretch/>
          </p:blipFill>
          <p:spPr>
            <a:xfrm>
              <a:off x="6781680" y="3886200"/>
              <a:ext cx="1909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200400" y="5791320"/>
              <a:ext cx="3429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арри Трумэ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резидент США (1945-19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09480" y="4343400"/>
            <a:ext cx="4114800" cy="2362320"/>
            <a:chOff x="609480" y="4343400"/>
            <a:chExt cx="4114800" cy="2362320"/>
          </a:xfrm>
        </p:grpSpPr>
        <p:pic>
          <p:nvPicPr>
            <p:cNvPr id="67" name="" descr="ÐÐ°ÑÑÐ¸Ð½ÐºÐ¸ Ð¿Ð¾ Ð·Ð°Ð¿ÑÐ¾ÑÑ Ñ. ÑÐµÑÑÐ¸Ð»Ð»Ñ"/>
            <p:cNvPicPr/>
            <p:nvPr/>
          </p:nvPicPr>
          <p:blipFill>
            <a:blip r:embed="rId2"/>
            <a:stretch/>
          </p:blipFill>
          <p:spPr>
            <a:xfrm>
              <a:off x="609480" y="4343400"/>
              <a:ext cx="18082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438280" y="4496040"/>
              <a:ext cx="2286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Уинстон Черчил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0,-115,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истоков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доктрина Трумэ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опустить расширения сфер влияния СССР и коммунистической идеологии (доктрина сдерживания социализ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ставить СССР уйти в свои прежние границы (доктрина отбрасывания социализ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истоков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доктрина Трумэна»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держ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ономическая помощь странам Европ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план Маршал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ть военно-политический союз западных стран под эгидой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стить близ границ СССР сеть военных баз (Греция, Тур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держивать внутреннюю оппозицию в странах Восточной Евр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обходимости использовать вооруженные силы против СС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тивоборство двух военно-политических бл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жордж Маршал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мл.         (1880-19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сударственный секретарь США (1947-19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947 г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План Маршал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лан экономической помощи странам Европы, пострадавшим в годы второй мировой войны. По настоянию СССР страны Восточной Европы отказались от экономической помощи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276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погей «Холодной вой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«Холодная войн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остояние экономической, идеологической и «полувоенной» конфронтации между двумя системами (социализмом и капитализм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27T17:23:42Z</dcterms:created>
  <dc:creator>Ника</dc:creator>
  <dc:description/>
  <dc:language>en-US</dc:language>
  <cp:lastModifiedBy>User</cp:lastModifiedBy>
  <dcterms:modified xsi:type="dcterms:W3CDTF">2021-12-27T17:32:1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