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E77-3A4D-4801-BF47-16A2AA9E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E8A-5E1F-43C3-ACF2-C76EF05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E52-AEFD-4AEE-8575-A8912EAF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E4A-60E2-47CA-8136-E99D3A91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9EC-BBF9-4F17-9A1B-C798C23D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1A4-BD77-466D-9FF2-2F64893D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A90-015F-425F-BC08-310CE8D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F02-3C36-4FFC-94B2-5DB173CE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B08-8FA9-4929-B284-9FB72DAA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6E1-F18A-4706-8BED-B78A8E1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4EF-22B0-4739-A4A7-BAA1D78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C0A-BE3B-492C-ADAD-D27D55B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414-F0B6-41DF-A30D-1D446DC8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077;&#1079;&#1085;&#1100;_&#1044;&#1072;&#1091;&#1085;&#1072;" TargetMode="External"/><Relationship Id="rId2" Type="http://schemas.openxmlformats.org/officeDocument/2006/relationships/hyperlink" Target="http://ru.wikipedia.org/wiki/&#1061;&#1088;&#1086;&#1084;&#1086;&#1089;&#1086;&#1084;&#1085;&#1086;&#1077;_&#1079;&#1072;&#1073;&#1086;&#1083;&#1077;&#1074;&#1072;&#1085;&#1080;&#1077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8;&#1077;&#1087;" TargetMode="External"/><Relationship Id="rId2" Type="http://schemas.openxmlformats.org/officeDocument/2006/relationships/hyperlink" Target="http://ru.wikipedia.org/wiki/&#1043;&#1088;&#1091;&#1076;&#1080;&#1085;&#1072;" TargetMode="External"/><Relationship Id="rId3" Type="http://schemas.openxmlformats.org/officeDocument/2006/relationships/hyperlink" Target="http://ru.wikipedia.org/wiki/&#1043;&#1088;&#1091;&#1076;&#1085;&#1072;&#1103;_&#1082;&#1083;&#1077;&#1090;&#1082;&#1072;" TargetMode="External"/><Relationship Id="rId4" Type="http://schemas.openxmlformats.org/officeDocument/2006/relationships/hyperlink" Target="http://ru.wikipedia.org/wiki/&#1055;&#1086;&#1088;&#1086;&#1082;&#1080;_&#1089;&#1077;&#1088;&#1076;&#1094;&#1072;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ownsyndrome.at.ua/_pu/1/99443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52;&#1077;&#1085;&#1089;&#1090;&#1088;&#1091;&#1072;&#1094;&#1080;&#1103;" TargetMode="External"/><Relationship Id="rId4" Type="http://schemas.openxmlformats.org/officeDocument/2006/relationships/hyperlink" Target="http://ru.wikipedia.org/wiki/&#1041;&#1077;&#1089;&#1087;&#1083;&#1086;&#1076;&#1080;&#1077;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8;&#1077;&#1084;&#1077;&#1085;&#1085;&#1086;&#1089;&#1090;&#1100;" TargetMode="External"/><Relationship Id="rId2" Type="http://schemas.openxmlformats.org/officeDocument/2006/relationships/hyperlink" Target="http://ru.wikipedia.org/wiki/&#1058;&#1086;&#1082;&#1089;&#1080;&#1082;&#1086;&#1079;" TargetMode="External"/><Relationship Id="rId3" Type="http://schemas.openxmlformats.org/officeDocument/2006/relationships/hyperlink" Target="http://ru.wikipedia.org/wiki/&#1042;&#1099;&#1082;&#1080;&#1076;&#1099;&#1096;" TargetMode="External"/><Relationship Id="rId4" Type="http://schemas.openxmlformats.org/officeDocument/2006/relationships/hyperlink" Target="http://ru.wikipedia.org/wiki/&#1056;&#1086;&#1076;&#1099;" TargetMode="External"/><Relationship Id="rId5" Type="http://schemas.openxmlformats.org/officeDocument/2006/relationships/hyperlink" Target="http://ru.wikipedia.org/wiki/&#1055;&#1086;&#1083;&#1086;&#1074;&#1099;&#1077;_&#1078;&#1077;&#1083;&#1077;&#1079;&#1099;" TargetMode="External"/><Relationship Id="rId6" Type="http://schemas.openxmlformats.org/officeDocument/2006/relationships/hyperlink" Target="http://ru.wikipedia.org/wiki/&#1061;&#1088;&#1086;&#1084;&#1086;&#1089;&#1086;&#1084;&#1099;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72;&#1093;&#1080;&#1094;&#1077;&#1092;&#1072;&#1083;&#1080;&#1103;" TargetMode="External"/><Relationship Id="rId2" Type="http://schemas.openxmlformats.org/officeDocument/2006/relationships/hyperlink" Target="http://ru.wikipedia.org/wiki/&#1069;&#1087;&#1080;&#1082;&#1072;&#1085;&#1090;&#1091;&#1089;" TargetMode="External"/><Relationship Id="rId3" Type="http://schemas.openxmlformats.org/officeDocument/2006/relationships/hyperlink" Target="http://ru.wikipedia.org/wiki/&#1043;&#1080;&#1087;&#1086;&#1090;&#1086;&#1085;&#1080;&#1103;" TargetMode="External"/><Relationship Id="rId4" Type="http://schemas.openxmlformats.org/officeDocument/2006/relationships/hyperlink" Target="http://ru.wikipedia.org/w/index.php?title=&#1041;&#1088;&#1072;&#1093;&#1080;&#1084;&#1077;&#1079;&#1086;&#1092;&#1072;&#1083;&#1072;&#1085;&#1075;&#1080;&#1103;&amp;action=edit&amp;redlink=1" TargetMode="External"/><Relationship Id="rId5" Type="http://schemas.openxmlformats.org/officeDocument/2006/relationships/hyperlink" Target="http://ru.wikipedia.org/wiki/&#1050;&#1072;&#1090;&#1072;&#1088;&#1072;&#1082;&#1090;&#1072;" TargetMode="External"/><Relationship Id="rId6" Type="http://schemas.openxmlformats.org/officeDocument/2006/relationships/hyperlink" Target="http://ru.wikipedia.org/wiki/&#1050;&#1083;&#1080;&#1085;&#1086;&#1076;&#1072;&#1082;&#1090;&#1080;&#1083;&#1080;&#1103;" TargetMode="External"/><Relationship Id="rId7" Type="http://schemas.openxmlformats.org/officeDocument/2006/relationships/hyperlink" Target="http://ru.wikipedia.org/wiki/&#1053;&#1105;&#1073;&#1086;" TargetMode="External"/><Relationship Id="rId8" Type="http://schemas.openxmlformats.org/officeDocument/2006/relationships/hyperlink" Target="http://ru.wikipedia.org/wiki/&#1071;&#1079;&#1099;&#1082;" TargetMode="External"/><Relationship Id="rId9" Type="http://schemas.openxmlformats.org/officeDocument/2006/relationships/hyperlink" Target="http://ru.wikipedia.org/wiki/&#1057;&#1090;&#1088;&#1072;&#1073;&#1080;&#1079;&#1084;" TargetMode="External"/><Relationship Id="rId10" Type="http://schemas.openxmlformats.org/officeDocument/2006/relationships/hyperlink" Target="http://ru.wikipedia.org/wiki/&#1050;&#1086;&#1089;&#1086;&#1075;&#1083;&#1072;&#1079;&#1080;&#1077;" TargetMode="External"/><Relationship Id="rId11" Type="http://schemas.openxmlformats.org/officeDocument/2006/relationships/hyperlink" Target="http://ru.wikipedia.org/wiki/&#1069;&#1087;&#1080;&#1083;&#1077;&#1087;&#1089;&#1080;&#1103;" TargetMode="External"/><Relationship Id="rId12" Type="http://schemas.openxmlformats.org/officeDocument/2006/relationships/hyperlink" Target="http://ru.wikipedia.org/wiki/&#1051;&#1077;&#1081;&#1082;&#1086;&#1079;" TargetMode="External"/><Relationship Id="rId13" Type="http://schemas.openxmlformats.org/officeDocument/2006/relationships/hyperlink" Target="http://ru.wikipedia.org/wiki/&#1050;&#1072;&#1088;&#1080;&#1086;&#1090;&#1080;&#1087;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ru.wikipedia.org/wiki/&#1056;&#1072;&#1082;_(&#1079;&#1072;&#1073;&#1086;&#1083;&#1077;&#1074;&#1072;&#1085;&#1080;&#1077;)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53;&#1057;" TargetMode="External"/><Relationship Id="rId2" Type="http://schemas.openxmlformats.org/officeDocument/2006/relationships/hyperlink" Target="http://ru.wikipedia.org/w/index.php?title=&#1052;&#1080;&#1082;&#1088;&#1086;&#1092;&#1090;&#1072;&#1083;&#1100;&#1084;&#1080;&#1103;&amp;action=edit&amp;redlink=1" TargetMode="External"/><Relationship Id="rId3" Type="http://schemas.openxmlformats.org/officeDocument/2006/relationships/hyperlink" Target="http://ru.wikipedia.org/w/index.php?title=&#1050;&#1086;&#1083;&#1086;&#1073;&#1086;&#1084;&#1072;&amp;action=edit&amp;redlink=1" TargetMode="External"/><Relationship Id="rId4" Type="http://schemas.openxmlformats.org/officeDocument/2006/relationships/hyperlink" Target="http://ru.wikipedia.org/wiki/&#1056;&#1086;&#1075;&#1086;&#1074;&#1080;&#1094;&#1072;" TargetMode="External"/><Relationship Id="rId5" Type="http://schemas.openxmlformats.org/officeDocument/2006/relationships/hyperlink" Target="http://ru.wikipedia.org/wiki/&#1055;&#1086;&#1083;&#1080;&#1076;&#1072;&#1082;&#1090;&#1080;&#1083;&#1080;&#1103;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следственные заболевания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ивный курс «Твое здоров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Эдвардс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с трисомией 18 чаще рождаются у пожилых матерей, взаимосвязь с возрастом матери менее выражена, чем в случаях трисомии хромосомы 21 и 13. Для женщин старше 45 лет риск родить больного ребенка составляет 0,7 %. Девочки с синдромом Эдвардса рождаются в три раза чаще мальчиков. второе по частоте посл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олезни Дау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ромосомное заболе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арактеризуется комплексом множественных пороков развития и трисомией 18 хромосо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Эдвардс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с трисомией 18 рождаются с низким, в среднем 2177 г, весом. При этом длительность беременности — нормальная или даже превышает норму. Фенотипические проявления синдрома Эдвардса многообразны. Чаще всего возникают аномалии мозгового и лицевог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ере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озговой череп имеет долихоцефалическую форму. Нижняя челюсть и ротовое отверстие маленькие. Глазные щели узкие и короткие. Ушные раковины деформированы и в подавляющем большинстве случаев расположены низко, несколько вытянуты в горизонтальной плоскости. Мочка, а часто и козелок отсутствуют. Наружный слуховой проход сужен, иногда отсутствует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руд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откая, из-за чего межреберные промежутки уменьшены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рудная клет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ире и короче нормальной. В 80 % случаев наблюдается аномальное развитие стопы: пятка резко выступает, свод провисает (стопа-качалка), большой палец утолщен и укорочен. Из дефектов внутренних органов наиболее часто отмечаютс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роки серд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рупных сосу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3528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ндром  Тер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9 из 20">
            <a:hlinkClick r:id="rId1"/>
          </p:cNvPr>
          <p:cNvPicPr/>
          <p:nvPr/>
        </p:nvPicPr>
        <p:blipFill>
          <a:blip r:embed="rId2"/>
          <a:srcRect l="0" t="0" r="0" b="5279"/>
          <a:stretch/>
        </p:blipFill>
        <p:spPr>
          <a:xfrm>
            <a:off x="2357280" y="0"/>
            <a:ext cx="2943360" cy="6524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08720" y="1844640"/>
            <a:ext cx="309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ушение формирования половых желез при синдроме Тернера обусловлено отсутствием или структурными дефектами одной половой хромосомы (X-хромосомы). Это приводит к выраженной недостаточности женских половых гормонов, половому недоразвитию, у большинства больных — к первичной аменорее (отсутствию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нструаций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есплодию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Рост организма останавл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дром  Тер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кой связи возникновения синдрома Тернера с возрастом и какими-либо заболеваниями родителей не выявлено. Однако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еременност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обычно осложняются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оксикозом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угрозо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ыкидыш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д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часто бывают преждевременными и патологическими. Особенности беременностей и родов, заканчивающихся рождением ребенка с синдромом Тернера, — следствие хромосомной патологии плода. Нарушение формирования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половых желез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при синдроме Тернера обусловлено отсутствием или структурными дефектами одной полово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хромосом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X-хромосо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дром Вольфа — Хиршхор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4 из 4"/>
          <p:cNvPicPr/>
          <p:nvPr/>
        </p:nvPicPr>
        <p:blipFill>
          <a:blip r:embed="rId1"/>
          <a:stretch/>
        </p:blipFill>
        <p:spPr>
          <a:xfrm>
            <a:off x="1476360" y="1773360"/>
            <a:ext cx="6192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дром Вольфа — Хиршхор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внешних признаков могут отмечаться: микроцефалия, клювовидный нос, эпикант, антимонголоидный разрез глаз (опущение наружных углов глазных щелей), аномальные ушные раковины, расщелина верхней губы и нёба, маленький рот, деформация стоп и др. Частота этого синдрома низкая — 1 : 50000 рождений. Средняя продолжительность жизни примерно до 30 лет (в России зафиксирована максимальная продолжительность жизни 25 лет), при тяжёлых пороках сердца, почек продолжительность жизни может составлять не более одного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дром Вольфа — Хиршхор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знь характеризуется задержкой умственного и психомоторного развития. Также могут проявляться в большинстве случаев тяжелейшие пороки сердца, почек. У новорождённых небольшой вес при нормальной продолжительности беременности (до 2 к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"кошачьего крика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1720" y="1600200"/>
            <a:ext cx="340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"кошачьего крика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ми признаками заболевания яв­ляются: микроцефалия, необычный крик или плач, напоминающий мяуканье кошки (особенно в первые недели после рождения); антимонголоидный разрез глаз, косоглазие, лунообразное лицо, гипертелоризм, широкая переносица. Ушные раковины низко посажены и деформированы. Умственная отсталость в стадии имбецильности. Нужно отме­тить, что такие признаки как лунообразное лицо и кошачий крик с возрастом сглаживаются, а микроцефалия и косоглазие выявляют­ся более отчетливо. Продолжительность жизни зависит оттяжести врожденных пороков развития внутренних орга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дром Лангера-Гидио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22280" y="1600200"/>
            <a:ext cx="230832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2 из 2"/>
          <p:cNvPicPr/>
          <p:nvPr/>
        </p:nvPicPr>
        <p:blipFill>
          <a:blip r:embed="rId2"/>
          <a:stretch/>
        </p:blipFill>
        <p:spPr>
          <a:xfrm>
            <a:off x="5587920" y="1600200"/>
            <a:ext cx="215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йрофибромат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6120" y="1790640"/>
            <a:ext cx="51717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дром Лангера-Гидио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ие и редкие волосы, бульбообразныйнос, конические эпифизы фаланг пальцев, множественные хрящевые экзостозы. Кроме этих признаков больные имеют ряд микроаномалий: широкие редкие бро­ви, глубоко посаженые глаза, макростомию, нарушение прорезыва­ния и расположения зубов, микрогнатию, большие и низко располо­женные ушные раковины. Множественные хрящевые экзостозы проявляются до 4-х лет и располагаются везде, где есть хрящи, причем их рост усиливается в периоды активного роста организма и прекра­щается в возрасте 18-20 лет. У новорожденных бывает избыточная кожа. Отмечается умственная отсталость различной степени, задер­жка речевого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тинобластом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1343160"/>
            <a:ext cx="777708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тинобластом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ные с ретинобластомой - злокачествен­ной опухолью сетчатки глаза, составляют 0,6-0,8% от числавсех больных с онкозаболеваниями. Это первая опухоль, для которой ус­тановлена связь с хромосомной патологией Заболевание обычно начинается в возра­сте около 1,5 лет и первыми признаками являются свечение зрач­ков, вялая реакция зрачка на свет, а затем и снижение зрения вплоть до слепоты. Осложнениями ретинобластомы являются отслойка сет­чатки, вторичная глау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Верне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1231920"/>
            <a:ext cx="69850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Верне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временное поседение иоблысение, атрофия подкожной жировой клетчатки и мышечной ткани, склеродермия, ка­таракта, ранний атеросклероз, эндокринная патология (сахарный диабет). Характерны бесплодие, гинекомастия, аменорея, высокий голос, склонность к злокачественным новообразованиям. Больные умирают в возрасте 30-40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йрофибромат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нейрофиброма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е обусловлено мутацией гена «нф1» в 17q-хромосоме. Мужчины и женщины поражаются одинаково часто. Примерно половина случаев — следствие новых мутаций. Существует предположение, что ген «нф1» входит в группу генов, подавляющих рост опухолей. Снижение или отсутствие белка нейрофибромина, выработка которого контролируется геном "нф1" приводит к перерождению клеток. Радикального лечения нейрофиброматоза пока не предлож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81400" y="1857240"/>
            <a:ext cx="43812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ные черты, обычно сопутствующие синдрому Дау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ычно синдрому Дауна сопутствуют следующие внешние признаки (согласно данным из брошюры центра «Даунсайд Ап»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плоское лицо» — 9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рахицефал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аномальное укорочение черепа) — 81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жная складка на шее у новорожденных — 81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пикантус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вертикальная кожная складка, прикрывающая медиальный угол глазной щели) — 8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иперподвижность суставов — 8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шечная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ипото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— 8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лоский затылок — 78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роткие конечности — 7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рахимезофаланг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укорочение всех пальцев за счет недоразвития средних фаланг) — 7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атаракт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возрасте старше 8 лет — 66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крытый рот (в связи с низким тонусом мышц и особым строением нёба) — 65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убные аномалии — 65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линодактил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5-го пальца (искривлённый мизинец) — 6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ркообразное («готическое»)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нёб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— 58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лоская переносица — 52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ороздчатый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язы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— 5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перечная ладонная складка (называемая также «обезьяньей») — 45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роткая широкая шея — 45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ПС (врождённый порок сердца) — 4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роткий нос — 40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страбиз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косоглази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 — 29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формация грудной клетки, килевидная или воронкообразная — 27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игментные пятна по краю радужки = пятна Брушфильда — 19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эписиндро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— 8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еноз или атрезия 12-перстной кишки — 8 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рождённый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лейко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— 8 %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чная диагностика возможна на основании анализа крови на 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кариоти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На основании исключительно внешних признаков постановка диагноза невозмож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жизни взрослых с синдромом Дауна увеличилась — на сегодняшний день нормальная продолжительность жизни более 50 лет. Многие люди с данным синдромом вступают в браки. У мужчин наблюдается ограниченное число сперматозоидов, большинство мужчин с синдромом Дауна бесплодны. У женщин наблюдаются регулярные месячные. По крайней мере 50 % женщин с синдромом Дауна могут иметь детей. 35-50 % детей, рождённых от матерей с синдромом Дауна, рождаются с синдромом Дауна или другими отклонениями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данные, что больные синдромом Дауна реже имеют раковые опухоли. Видимо, 21-ая хромосома содержит ген-«глушитель опухолей», и наличие третьей копии гена обеспечивает дополнительную защиту проти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к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[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дром Пат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609560"/>
            <a:ext cx="403848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дром Пат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индроме Патау наблюдаются тяжелые врожденные пороки. Дети с синдромом Патау рождаются с массой тела ниже нормы (2500 г нарушение развития различных отдело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Ц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изкий скошенный лоб, суженные глазные щели, расстояние между которыми уменьшено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крофталь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олоб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мутне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гов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авшая переносица, широкое основание носа, деформированные ушные раковины, расщелина верхней губы и нёба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полидактил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лексорное положение кистей, короткая шея. У 80 % новорожденных встречаются пороки развития сердца Оставшиеся в живых страдают глубокой идиот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дром Эдвардс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37000" y="1600200"/>
            <a:ext cx="387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06:00Z</dcterms:created>
  <dc:creator>x</dc:creator>
  <dc:description/>
  <dc:language>en-US</dc:language>
  <cp:lastModifiedBy>x</cp:lastModifiedBy>
  <dcterms:modified xsi:type="dcterms:W3CDTF">2010-03-04T18:53:44Z</dcterms:modified>
  <cp:revision>2</cp:revision>
  <dc:subject/>
  <dc:title>Слайд 1</dc:title>
</cp:coreProperties>
</file>