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13E-029B-449C-96B0-E8205043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21C-EE9A-4E4D-BC9D-A755E0E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F6AB4-D0AF-4E56-BE6C-87A4C1E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BABFE-0B40-47EC-8D38-2FB2F78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2F7A2-FBCB-4DD6-B71F-490C915B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1009C-B8B2-41A4-B5B2-3FE9AEBD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1E4D4-010B-4C11-B16E-96FD4DB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3B0A8-B239-4CFF-B74F-B15571E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3AB2F-A733-49D1-A554-B75E4CD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25C66-8A15-46CD-A824-92379C43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08481-1519-46A0-8016-4618A77A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58CCE-8FAF-4368-B90E-7D7A6695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740-DC7B-40A4-948B-3FA4D17A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A3A0A-76FD-42EB-90DE-DD4BF0D7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52059-DE9F-4347-87BF-360660A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C3F3D-27C1-467F-B4A6-16A8FB05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DD8E7-4A6B-478C-93ED-3313DFAD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26CC7-DC34-423C-8DC0-38F792D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915AA-9EE1-41C4-83BE-46DB8B6C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DD406-D560-4C20-801D-F22A8D9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F54F4-54BA-49F0-BDC5-C7F331D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76A75-E2B8-4D5F-9F04-C410470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CCBD3-8F5E-4648-B29C-DB3C5A87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E18-CEE8-4D29-8A63-E6F4EFDB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6707E-5C13-4EE0-8DA3-FF703B5F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37815-08C0-45EE-855D-8FD722EF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02C84-F3D6-4973-8DC4-2DDA428F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478F-5060-4589-AC5E-BE0DFF68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7B11-0183-482A-903C-A3A949F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2E38B-A888-445E-8BD0-B8E30B3E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E076-7490-4F44-A452-EFDA4B5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A0D2-03CB-4809-8FD6-AF4B167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A1234-32DF-4872-A7F6-E63EE4D4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A6986-A3E8-4EC1-BF6B-29D4D869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C60D-15A3-4218-9B4C-399FC47A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91FA-29DD-4B27-8CA2-D4E87A1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05A53-1C1D-4E63-AB3D-283CB614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72C5-D630-465B-A681-B3C535A6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476-B7BD-43EE-B6A4-E958001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3F1A-08A4-4790-9D0C-FE2D062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43D3-0919-4450-9FEC-1CBB3C2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BF9-5789-4272-91FA-DE6D55B6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493-F82E-4647-A4FD-8CA3E631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D008-A942-4531-9F70-BE83169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549-1850-487F-AA94-7D8BD018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94B-32AD-480C-B6C7-DE24DFE1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99FE-5E54-4402-9B64-C173FEB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56E-F8AB-4D76-A64E-5C06DC6A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1F64-EE67-434B-BC05-B29F96D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942-E09A-4F76-82CA-6551861B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6BB6-DC0B-477E-8010-5F543648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1D8E-3EEC-4ACE-8101-6220A0FD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5688-78AF-4103-B462-6D64087B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0D19-3120-499C-BD05-257E489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78EC-47CF-4999-A0CF-2C898713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545-83E8-4C57-B017-BF43515F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2E04-B7EA-4977-A8BA-F0C6844F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CF42-7A4E-47F3-ADEC-7B7ECB1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0C57-41C9-45E6-9E72-651CA12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D2AF-0353-43E0-AB50-F6D0728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ECBA-F369-42DE-B7C7-6EBE1A79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A9B0-1B99-46DA-AD5D-EC7E4022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2B1D-36B8-4E0D-B0BE-65C5E072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F91D-ADFD-4012-9BA0-D0521042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56C2-FE84-4D27-96C2-BE690C08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09F7-2A40-4B61-BF06-59B69FE0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85F-E1CB-40E2-A950-09F61E5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6C40-DD4B-4BB6-B9C9-010F7C15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C1FA-4ACB-451D-8A70-145E2AE1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7B85-5FE1-4290-B1D8-1DAA533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43A7-75BE-4560-9BCD-074A8D48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E728-A854-4A75-A857-1E2C2D7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24DF-AB90-4B61-AD67-C8443C9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9407-42BB-42E0-890D-5882141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E617-AAF5-4DFE-A55C-9E24AB18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F968-A2CE-402A-8022-9BB8EB27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8450-7B76-4290-BAFE-BDC0B935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DBC-1DF0-48B1-815A-1C19D11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79D2-4DD9-4B91-88DC-6A4F11BD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AD41-08E6-416D-B0EA-5BF363A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402F-06B9-4807-94CA-209EE75F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DFED-3B5B-4E08-B622-BF35578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CA2D-3985-4249-BD81-E0C15196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0E11-AF55-4644-92C6-8BB55D7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5249-287F-4861-A1ED-ED2C8A5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6D8C-376F-4729-BE26-E674E4F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2724-67DA-403D-B54B-E09269DD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9E88-334A-4190-960A-B2BE111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113-8730-48D9-80FC-A75EE3D9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24DB7-EEE0-478E-B2D8-53403A5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6C132-EE0E-4D5E-A51A-326F1AC0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0D25-870B-4AAE-805F-BB2DCAC2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8B5D-B2D1-439E-AD22-A478157F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9F08-A892-40B8-9CB9-019847FC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E8DA-2D47-4AB3-B732-68C8E78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8E5A-518C-4261-ABEC-9DDE60A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CEEB-7591-4267-A445-2052803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CD61-3C0A-4823-BCB9-7DB098D7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8D14-B219-4608-9947-3C0F821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12C-D027-44F5-B7F0-BEB8CFA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1CDB-94BF-4A9E-9C89-9538FBAC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DCCC-2270-46E7-9420-9B14A51A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C709-C035-4BAC-BFBF-2FFF80F3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E6C6-EE95-4357-B658-0F85A8D7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A46C-B6D3-4DEC-8653-8FBFE221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E7E4-1CCF-4EB5-B325-A071F679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99539-0830-4D54-8490-0DE636CE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2034-20CA-4194-94EB-8757391D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0720-753F-4FC5-9B1A-71089EA5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FDD01-9A18-49B4-AE76-7E87B87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501-BE69-4937-A150-FA6E333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C1514-BB24-4D0C-882B-6AE9B2B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A694-2812-43DC-B257-9BB8B05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B4514-B5D2-4C05-A607-02BD6ACC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43389-B44E-402C-82BB-1199B50F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953A8-D456-475C-83FA-1D5A7B95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6AD67-A6FE-47D7-84E4-A130A7CE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304BE-89AB-44BC-B7D5-6C24D78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BC872-2584-4B09-A52D-0A3969C7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360C-3C70-4490-951E-D52FB2B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31E7-B531-46D9-9615-7F3F681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8DE-B7F6-445B-916B-5CDF43DB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53EF8-6853-48A8-AABB-EC4066A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94338-BE48-4B3D-8EC0-73C839C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72C7A-67E4-47FC-B44E-B9F1A90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8A08-D25F-436D-9FC0-75DB676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1CA5-42CB-4FFA-9FC3-146648A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18EA-6145-49D3-9844-FFC4E33D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33B71-BBFC-44B8-98FD-FAC6D127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E1AE2-9CB1-4369-91AC-CED6C9EF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243A-E1F8-420F-9C5A-8BC992BC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5089-2112-453F-8894-A3B10C7F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63E32-B982-443E-9027-2BCC5538970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C94BD-BE20-4C8A-9830-E87B5FB18E6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84CFC-88E3-421E-8373-8453ECDA71D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3E43E-E6FE-42DC-8F39-100122F253C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8C183-39ED-492A-879C-7C1FDCEEE98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70E45-6CAB-47AF-9624-FB109BF23A4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070A4-A672-48C4-A8CA-8A8C2247D2A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FF5F5-D0A1-40FF-B46D-0747EA4E4E2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A2231-3305-460A-9708-C553756D610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8248B-2A3F-40FC-A198-C67C21A54CA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07DB9-C7CD-4236-AFC8-5BBC3BCADD9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6640" y="801720"/>
            <a:ext cx="868500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ЬШИЙ ОБЩИЙ ДЕЛИТЕЛЬ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1640" y="4328640"/>
            <a:ext cx="56181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ОДГОТОВИЛА: УЧИТЕЛЬ МАТЕМАТИКИ ГБОУ СОШ № 49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МЕМЕТОВА ГУЛЗАР ИБРАГИМОВН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9120" y="458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 Black"/>
              </a:rPr>
              <a:t>ОБЪЯСНИТЕ ЗАПИС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74560" y="1763280"/>
            <a:ext cx="766908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Text Box 61"/>
          <p:cNvSpPr/>
          <p:nvPr/>
        </p:nvSpPr>
        <p:spPr>
          <a:xfrm>
            <a:off x="324000" y="2133720"/>
            <a:ext cx="7777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Bernard MT Condensed"/>
                <a:ea typeface="Arial"/>
              </a:rPr>
              <a:t>96</a:t>
            </a:r>
            <a:r>
              <a:rPr b="0" lang="ru-RU" sz="5400" spc="-1" strike="noStrike">
                <a:solidFill>
                  <a:srgbClr val="003399"/>
                </a:solidFill>
                <a:latin typeface="Bernard MT Condensed"/>
                <a:ea typeface="Arial"/>
              </a:rPr>
              <a:t> = 2 ∙ 2 ∙ 2 ∙ 2 ∙ </a:t>
            </a:r>
            <a:r>
              <a:rPr b="0" lang="en-US" sz="5400" spc="-1" strike="noStrike">
                <a:solidFill>
                  <a:srgbClr val="003399"/>
                </a:solidFill>
                <a:latin typeface="Bernard MT Condensed"/>
                <a:ea typeface="Arial"/>
              </a:rPr>
              <a:t>2</a:t>
            </a:r>
            <a:r>
              <a:rPr b="0" lang="ru-RU" sz="5400" spc="-1" strike="noStrike">
                <a:solidFill>
                  <a:srgbClr val="003399"/>
                </a:solidFill>
                <a:latin typeface="Bernard MT Condensed"/>
                <a:ea typeface="Arial"/>
              </a:rPr>
              <a:t> ∙ 3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dverGothic"/>
                <a:ea typeface="Arial"/>
              </a:rPr>
              <a:t>   </a:t>
            </a:r>
            <a:r>
              <a:rPr b="0" lang="ru-RU" sz="4400" spc="-1" strike="noStrike">
                <a:solidFill>
                  <a:srgbClr val="008000"/>
                </a:solidFill>
                <a:latin typeface="AdverGothic"/>
                <a:ea typeface="Arial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Bernard MT Condensed"/>
                <a:ea typeface="Arial"/>
              </a:rPr>
              <a:t>108 = 2 </a:t>
            </a:r>
            <a:r>
              <a:rPr b="0" lang="ru-RU" sz="5400" spc="-1" strike="noStrike">
                <a:solidFill>
                  <a:srgbClr val="003399"/>
                </a:solidFill>
                <a:latin typeface="Bernard MT Condensed"/>
                <a:ea typeface="Arial"/>
              </a:rPr>
              <a:t>∙ 2 ∙ 3 ∙ 3 ∙ 3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62"/>
              <p:cNvSpPr txBox="1"/>
              <p:nvPr/>
            </p:nvSpPr>
            <p:spPr>
              <a:xfrm>
                <a:off x="4514760" y="4546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6" name="Text Box 64"/>
          <p:cNvSpPr/>
          <p:nvPr/>
        </p:nvSpPr>
        <p:spPr>
          <a:xfrm>
            <a:off x="826920" y="495936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ahoma"/>
                <a:ea typeface="Arial"/>
              </a:rPr>
              <a:t>НОД(96;108)</a:t>
            </a:r>
            <a:r>
              <a:rPr b="0" lang="ru-RU" sz="5400" spc="-1" strike="noStrike">
                <a:solidFill>
                  <a:srgbClr val="990099"/>
                </a:solidFill>
                <a:latin typeface="Tahoma"/>
                <a:ea typeface="Arial"/>
              </a:rPr>
              <a:t>=</a:t>
            </a:r>
            <a:r>
              <a:rPr b="0" lang="ru-RU" sz="4800" spc="-1" strike="noStrike">
                <a:solidFill>
                  <a:srgbClr val="990099"/>
                </a:solidFill>
                <a:latin typeface="Bernard MT Condensed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Text Box 69"/>
          <p:cNvSpPr/>
          <p:nvPr/>
        </p:nvSpPr>
        <p:spPr>
          <a:xfrm>
            <a:off x="4842000" y="500364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Bernard MT Condensed"/>
                <a:ea typeface="Arial"/>
              </a:rPr>
              <a:t>2 ∙ 2 ∙ </a:t>
            </a:r>
            <a:r>
              <a:rPr b="0" lang="en-US" sz="5400" spc="-1" strike="noStrike">
                <a:solidFill>
                  <a:srgbClr val="990099"/>
                </a:solidFill>
                <a:latin typeface="Bernard MT Condensed"/>
                <a:ea typeface="Arial"/>
              </a:rPr>
              <a:t>3</a:t>
            </a:r>
            <a:r>
              <a:rPr b="0" lang="ru-RU" sz="5400" spc="-1" strike="noStrike">
                <a:solidFill>
                  <a:srgbClr val="990099"/>
                </a:solidFill>
                <a:latin typeface="Bernard MT Condensed"/>
                <a:ea typeface="Arial"/>
              </a:rPr>
              <a:t> = 12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Text Box 80"/>
          <p:cNvSpPr/>
          <p:nvPr/>
        </p:nvSpPr>
        <p:spPr>
          <a:xfrm>
            <a:off x="2484360" y="213372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AutoShape 81"/>
          <p:cNvSpPr/>
          <p:nvPr/>
        </p:nvSpPr>
        <p:spPr>
          <a:xfrm>
            <a:off x="2592360" y="2173320"/>
            <a:ext cx="539640" cy="20890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Text Box 82"/>
          <p:cNvSpPr/>
          <p:nvPr/>
        </p:nvSpPr>
        <p:spPr>
          <a:xfrm>
            <a:off x="3579840" y="206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AutoShape 83"/>
          <p:cNvSpPr/>
          <p:nvPr/>
        </p:nvSpPr>
        <p:spPr>
          <a:xfrm>
            <a:off x="3357720" y="2124000"/>
            <a:ext cx="576000" cy="20890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Text Box 84"/>
          <p:cNvSpPr/>
          <p:nvPr/>
        </p:nvSpPr>
        <p:spPr>
          <a:xfrm>
            <a:off x="4500720" y="22068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Text Box 86"/>
          <p:cNvSpPr/>
          <p:nvPr/>
        </p:nvSpPr>
        <p:spPr>
          <a:xfrm>
            <a:off x="5651640" y="206208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Text Box 90"/>
          <p:cNvSpPr/>
          <p:nvPr/>
        </p:nvSpPr>
        <p:spPr>
          <a:xfrm>
            <a:off x="7164360" y="20620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AutoShape 92"/>
          <p:cNvSpPr/>
          <p:nvPr/>
        </p:nvSpPr>
        <p:spPr>
          <a:xfrm rot="2036400">
            <a:off x="6426000" y="1949400"/>
            <a:ext cx="576000" cy="2398680"/>
          </a:xfrm>
          <a:prstGeom prst="bracketPair">
            <a:avLst>
              <a:gd name="adj" fmla="val 31222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79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92" dur="3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93" dur="3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94" dur="3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781280" y="333360"/>
            <a:ext cx="666108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 Black"/>
                <a:ea typeface="Arial"/>
              </a:rPr>
              <a:t>Алгоритм 2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 Black"/>
                <a:ea typeface="Arial"/>
              </a:rPr>
              <a:t>нахождения НОД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Разложить числа на простые множител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Найти одинаковые множители. У одного из чисел взять их в кружо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  <a:ea typeface="Arial"/>
              </a:rPr>
              <a:t>Найти произведение тех множителей, которые взяли в кружок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1371600" y="368280"/>
            <a:ext cx="77724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454545"/>
                </a:solidFill>
                <a:latin typeface="Times New Roman"/>
                <a:ea typeface="Arial"/>
              </a:rPr>
              <a:t>Найдите устно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951280" y="1042920"/>
            <a:ext cx="329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  <a:ea typeface="Arial Unicode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Д(8;48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Д(23;69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Д(7;15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Д(380;38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Д(20;1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Д(14;2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6732360" cy="2744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6500"/>
            </a:br>
            <a:r>
              <a:rPr b="1" lang="ru-RU" sz="4300" spc="-1" strike="noStrike">
                <a:solidFill>
                  <a:srgbClr val="000000"/>
                </a:solidFill>
                <a:latin typeface="Gill Sans MT"/>
              </a:rPr>
              <a:t>«МАТЕМАТИКУ УЖЕ ЗАТЕМ УЧИТЬ НАДО, ЧТО ОНА УМ В ПОРЯДОК ПРИВОДИТ» </a:t>
            </a:r>
            <a:br>
              <a:rPr sz="4300"/>
            </a:b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                   М.В. ЛОМОНОС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4707000" y="3592440"/>
            <a:ext cx="26985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Прямоугольник 1" descr=""/>
          <p:cNvPicPr/>
          <p:nvPr/>
        </p:nvPicPr>
        <p:blipFill>
          <a:blip r:embed="rId1"/>
          <a:stretch/>
        </p:blipFill>
        <p:spPr>
          <a:xfrm>
            <a:off x="1736640" y="2176560"/>
            <a:ext cx="6784920" cy="11570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95360" y="98280"/>
            <a:ext cx="72453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ill Sans MT"/>
              </a:rPr>
              <a:t>ВЕРНО ЛИ ВЫСКАЗЫВАНИЕ 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366920" y="3433680"/>
            <a:ext cx="70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которые составные числа нельзя разложить на простые множител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530360" y="4424400"/>
            <a:ext cx="725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Число 997 – составно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Число </a:t>
            </a:r>
            <a:r>
              <a:rPr b="1" i="1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96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– просто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1405080" y="1890720"/>
            <a:ext cx="77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Наименьшее двузначное простое число – это </a:t>
            </a:r>
            <a:r>
              <a:rPr b="1" i="1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1376280" y="136692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оставное число имеет один делител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1424160" y="84456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стое число имеет ровно два делител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405080" y="2449440"/>
            <a:ext cx="72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Наибольшее двузначное составное число – это </a:t>
            </a:r>
            <a:r>
              <a:rPr b="1" i="1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99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547640" y="250920"/>
            <a:ext cx="7245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Picture 12" descr=""/>
          <p:cNvPicPr/>
          <p:nvPr/>
        </p:nvPicPr>
        <p:blipFill>
          <a:blip r:embed="rId1"/>
          <a:stretch/>
        </p:blipFill>
        <p:spPr>
          <a:xfrm>
            <a:off x="6472080" y="4687920"/>
            <a:ext cx="2168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i="1" lang="ru-RU" sz="4300" spc="-1" strike="noStrike">
                <a:solidFill>
                  <a:srgbClr val="0000ff"/>
                </a:solidFill>
                <a:latin typeface="Gill Sans MT"/>
              </a:rPr>
              <a:t>НАЙДИТЕ ОШИБКУ: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06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7 – не делитель 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кратно 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6 –  делитель 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е числа имеют делитель 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4643280" y="1773360"/>
            <a:ext cx="1656000" cy="985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5796000" y="1773360"/>
            <a:ext cx="1655640" cy="985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804000" y="1844640"/>
            <a:ext cx="1655640" cy="986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7885080" y="1773360"/>
            <a:ext cx="1655640" cy="985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3537000" y="1763640"/>
            <a:ext cx="1655640" cy="986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3132000" y="3024360"/>
            <a:ext cx="1656000" cy="98568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AutoShape 10"/>
          <p:cNvSpPr/>
          <p:nvPr/>
        </p:nvSpPr>
        <p:spPr>
          <a:xfrm>
            <a:off x="4257720" y="2979720"/>
            <a:ext cx="1655640" cy="98568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5427720" y="2979720"/>
            <a:ext cx="1655640" cy="98568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AutoShape 12"/>
          <p:cNvSpPr/>
          <p:nvPr/>
        </p:nvSpPr>
        <p:spPr>
          <a:xfrm>
            <a:off x="6551640" y="2933640"/>
            <a:ext cx="1655640" cy="9860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AutoShape 13"/>
          <p:cNvSpPr/>
          <p:nvPr/>
        </p:nvSpPr>
        <p:spPr>
          <a:xfrm>
            <a:off x="7677000" y="2933640"/>
            <a:ext cx="1656000" cy="9860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AutoShape 14"/>
          <p:cNvSpPr/>
          <p:nvPr/>
        </p:nvSpPr>
        <p:spPr>
          <a:xfrm>
            <a:off x="3924360" y="4221000"/>
            <a:ext cx="1655640" cy="986040"/>
          </a:xfrm>
          <a:prstGeom prst="irregularSeal1">
            <a:avLst/>
          </a:prstGeom>
          <a:solidFill>
            <a:srgbClr val="fcdc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AutoShape 15"/>
          <p:cNvSpPr/>
          <p:nvPr/>
        </p:nvSpPr>
        <p:spPr>
          <a:xfrm>
            <a:off x="5580000" y="4221000"/>
            <a:ext cx="1656000" cy="986040"/>
          </a:xfrm>
          <a:prstGeom prst="irregularSeal1">
            <a:avLst/>
          </a:prstGeom>
          <a:solidFill>
            <a:srgbClr val="fcdc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AutoShape 16"/>
          <p:cNvSpPr/>
          <p:nvPr/>
        </p:nvSpPr>
        <p:spPr>
          <a:xfrm>
            <a:off x="7164360" y="4221000"/>
            <a:ext cx="1655640" cy="986040"/>
          </a:xfrm>
          <a:prstGeom prst="irregularSeal1">
            <a:avLst/>
          </a:prstGeom>
          <a:solidFill>
            <a:srgbClr val="fcdc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AutoShape 17"/>
          <p:cNvSpPr/>
          <p:nvPr/>
        </p:nvSpPr>
        <p:spPr>
          <a:xfrm>
            <a:off x="6156360" y="5516640"/>
            <a:ext cx="1655640" cy="98568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AutoShape 18"/>
          <p:cNvSpPr/>
          <p:nvPr/>
        </p:nvSpPr>
        <p:spPr>
          <a:xfrm>
            <a:off x="6156360" y="5516640"/>
            <a:ext cx="1655640" cy="985680"/>
          </a:xfrm>
          <a:prstGeom prst="irregularSeal1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AutoShape 20"/>
          <p:cNvSpPr/>
          <p:nvPr/>
        </p:nvSpPr>
        <p:spPr>
          <a:xfrm>
            <a:off x="8172360" y="6219720"/>
            <a:ext cx="449280" cy="405000"/>
          </a:xfrm>
          <a:custGeom>
            <a:avLst/>
            <a:gdLst>
              <a:gd name="textAreaLeft" fmla="*/ 25920 w 449280"/>
              <a:gd name="textAreaRight" fmla="*/ 423360 w 449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960" h="21600">
                <a:moveTo>
                  <a:pt x="0" y="0"/>
                </a:moveTo>
                <a:lnTo>
                  <a:pt x="23960" y="0"/>
                </a:lnTo>
                <a:lnTo>
                  <a:pt x="23960" y="21600"/>
                </a:lnTo>
                <a:lnTo>
                  <a:pt x="0" y="21600"/>
                </a:lnTo>
                <a:close/>
              </a:path>
              <a:path fill="lightenLess" w="23960" h="21600">
                <a:moveTo>
                  <a:pt x="0" y="0"/>
                </a:moveTo>
                <a:lnTo>
                  <a:pt x="23960" y="0"/>
                </a:lnTo>
                <a:lnTo>
                  <a:pt x="22560" y="1400"/>
                </a:lnTo>
                <a:lnTo>
                  <a:pt x="1400" y="1400"/>
                </a:lnTo>
                <a:close/>
              </a:path>
              <a:path fill="darken" w="23960" h="21600">
                <a:moveTo>
                  <a:pt x="23960" y="0"/>
                </a:moveTo>
                <a:lnTo>
                  <a:pt x="23960" y="21600"/>
                </a:lnTo>
                <a:lnTo>
                  <a:pt x="22560" y="20200"/>
                </a:lnTo>
                <a:lnTo>
                  <a:pt x="22560" y="1400"/>
                </a:lnTo>
                <a:close/>
              </a:path>
              <a:path fill="darkenLess" w="23960" h="21600">
                <a:moveTo>
                  <a:pt x="2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0" y="20200"/>
                </a:lnTo>
                <a:close/>
              </a:path>
              <a:path fill="lighten" w="2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5276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ПРОВЕРЬТЕ ПРАВИЛЬНО ЛИ ВЫПОЛНЕНО РАЗЛОЖЕНИЕ НА ПРОСТЫЕ МНОЖИТЕЛИ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2340000" y="2565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85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Line 28"/>
          <p:cNvSpPr/>
          <p:nvPr/>
        </p:nvSpPr>
        <p:spPr>
          <a:xfrm>
            <a:off x="3276720" y="191772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2124000" y="1917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850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3348000" y="3286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Text Box 32"/>
          <p:cNvSpPr/>
          <p:nvPr/>
        </p:nvSpPr>
        <p:spPr>
          <a:xfrm>
            <a:off x="2556000" y="32860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95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Text Box 33"/>
          <p:cNvSpPr/>
          <p:nvPr/>
        </p:nvSpPr>
        <p:spPr>
          <a:xfrm>
            <a:off x="3348000" y="25495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Text Box 34"/>
          <p:cNvSpPr/>
          <p:nvPr/>
        </p:nvSpPr>
        <p:spPr>
          <a:xfrm>
            <a:off x="255600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Text Box 35"/>
          <p:cNvSpPr/>
          <p:nvPr/>
        </p:nvSpPr>
        <p:spPr>
          <a:xfrm>
            <a:off x="327672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Text Box 36"/>
          <p:cNvSpPr/>
          <p:nvPr/>
        </p:nvSpPr>
        <p:spPr>
          <a:xfrm>
            <a:off x="2629080" y="472608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Text Box 37"/>
          <p:cNvSpPr/>
          <p:nvPr/>
        </p:nvSpPr>
        <p:spPr>
          <a:xfrm>
            <a:off x="3309840" y="195120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Text Box 38"/>
          <p:cNvSpPr/>
          <p:nvPr/>
        </p:nvSpPr>
        <p:spPr>
          <a:xfrm>
            <a:off x="5508720" y="3500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850=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Text Box 39"/>
          <p:cNvSpPr/>
          <p:nvPr/>
        </p:nvSpPr>
        <p:spPr>
          <a:xfrm>
            <a:off x="5400720" y="2060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850=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2411280" y="14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ill Sans MT"/>
                <a:ea typeface="Arial"/>
              </a:rPr>
              <a:t>Решите задачу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66640" y="773280"/>
            <a:ext cx="826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Шестиклассники решили сделать подарки детям из детского сада.  Они приготовили 78 шариков и 52 флажка и все их раздали малышам поровну. Сколько детей ходит в детский сад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Picture 95" descr=""/>
          <p:cNvPicPr/>
          <p:nvPr/>
        </p:nvPicPr>
        <p:blipFill>
          <a:blip r:embed="rId1"/>
          <a:stretch/>
        </p:blipFill>
        <p:spPr>
          <a:xfrm>
            <a:off x="2862360" y="3530520"/>
            <a:ext cx="481464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52600" y="456840"/>
            <a:ext cx="67197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1" i="1" lang="ru-RU" sz="4000" spc="-1" strike="noStrike">
                <a:solidFill>
                  <a:srgbClr val="0000ff"/>
                </a:solidFill>
                <a:latin typeface="Gill Sans MT"/>
              </a:rPr>
              <a:t>НАЙДИТЕ ДЕЛИТЕЛИ ЧИСЕЛ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7" name="Diagram 25"/>
          <p:cNvGrpSpPr/>
          <p:nvPr/>
        </p:nvGrpSpPr>
        <p:grpSpPr>
          <a:xfrm>
            <a:off x="496800" y="1873440"/>
            <a:ext cx="3830760" cy="3830760"/>
            <a:chOff x="496800" y="1873440"/>
            <a:chExt cx="3830760" cy="3830760"/>
          </a:xfrm>
        </p:grpSpPr>
        <p:sp>
          <p:nvSpPr>
            <p:cNvPr id="548" name="_s1028"/>
            <p:cNvSpPr/>
            <p:nvPr/>
          </p:nvSpPr>
          <p:spPr>
            <a:xfrm flipH="1" flipV="1">
              <a:off x="1733400" y="3110040"/>
              <a:ext cx="3412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49" name="_s1029"/>
            <p:cNvSpPr/>
            <p:nvPr/>
          </p:nvSpPr>
          <p:spPr>
            <a:xfrm>
              <a:off x="917640" y="229392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0" name="_s1030"/>
            <p:cNvSpPr/>
            <p:nvPr/>
          </p:nvSpPr>
          <p:spPr>
            <a:xfrm flipH="1">
              <a:off x="1452600" y="3787920"/>
              <a:ext cx="4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1" name="_s1031"/>
            <p:cNvSpPr/>
            <p:nvPr/>
          </p:nvSpPr>
          <p:spPr>
            <a:xfrm>
              <a:off x="496800" y="331020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2" name="_s1032"/>
            <p:cNvSpPr/>
            <p:nvPr/>
          </p:nvSpPr>
          <p:spPr>
            <a:xfrm flipH="1">
              <a:off x="1733400" y="4124520"/>
              <a:ext cx="3412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3" name="_s1033"/>
            <p:cNvSpPr/>
            <p:nvPr/>
          </p:nvSpPr>
          <p:spPr>
            <a:xfrm>
              <a:off x="917640" y="432612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4" name="_s1034"/>
            <p:cNvSpPr/>
            <p:nvPr/>
          </p:nvSpPr>
          <p:spPr>
            <a:xfrm>
              <a:off x="2411280" y="4264200"/>
              <a:ext cx="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5" name="_s1035"/>
            <p:cNvSpPr/>
            <p:nvPr/>
          </p:nvSpPr>
          <p:spPr>
            <a:xfrm>
              <a:off x="1933560" y="4746600"/>
              <a:ext cx="957240" cy="95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6" name="_s1036"/>
            <p:cNvSpPr/>
            <p:nvPr/>
          </p:nvSpPr>
          <p:spPr>
            <a:xfrm>
              <a:off x="2747880" y="4124520"/>
              <a:ext cx="3412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7" name="_s1037"/>
            <p:cNvSpPr/>
            <p:nvPr/>
          </p:nvSpPr>
          <p:spPr>
            <a:xfrm>
              <a:off x="2949480" y="432612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8" name="_s1038"/>
            <p:cNvSpPr/>
            <p:nvPr/>
          </p:nvSpPr>
          <p:spPr>
            <a:xfrm>
              <a:off x="2887560" y="3787920"/>
              <a:ext cx="48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9" name="_s1039"/>
            <p:cNvSpPr/>
            <p:nvPr/>
          </p:nvSpPr>
          <p:spPr>
            <a:xfrm>
              <a:off x="3370320" y="331020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0" name="_s1040"/>
            <p:cNvSpPr/>
            <p:nvPr/>
          </p:nvSpPr>
          <p:spPr>
            <a:xfrm flipV="1">
              <a:off x="2747880" y="3110040"/>
              <a:ext cx="341280" cy="34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1" name="_s1041"/>
            <p:cNvSpPr/>
            <p:nvPr/>
          </p:nvSpPr>
          <p:spPr>
            <a:xfrm>
              <a:off x="2949480" y="229392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2" name="_s1042"/>
            <p:cNvSpPr/>
            <p:nvPr/>
          </p:nvSpPr>
          <p:spPr>
            <a:xfrm flipV="1">
              <a:off x="2411280" y="2829240"/>
              <a:ext cx="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3" name="_s1043"/>
            <p:cNvSpPr/>
            <p:nvPr/>
          </p:nvSpPr>
          <p:spPr>
            <a:xfrm>
              <a:off x="1933560" y="1873440"/>
              <a:ext cx="957240" cy="9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4" name="_s1044"/>
            <p:cNvSpPr/>
            <p:nvPr/>
          </p:nvSpPr>
          <p:spPr>
            <a:xfrm>
              <a:off x="1933560" y="3311640"/>
              <a:ext cx="957240" cy="957240"/>
            </a:xfrm>
            <a:prstGeom prst="ellipse">
              <a:avLst/>
            </a:prstGeom>
            <a:solidFill>
              <a:srgbClr val="ffdd4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78</a:t>
              </a:r>
              <a:endParaRPr b="0" lang="en-US" sz="4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5" name="Text Box 81"/>
            <p:cNvSpPr/>
            <p:nvPr/>
          </p:nvSpPr>
          <p:spPr>
            <a:xfrm>
              <a:off x="1949400" y="2032200"/>
              <a:ext cx="865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566" name="Diagram 65"/>
          <p:cNvGrpSpPr/>
          <p:nvPr/>
        </p:nvGrpSpPr>
        <p:grpSpPr>
          <a:xfrm>
            <a:off x="4849560" y="1842840"/>
            <a:ext cx="3632040" cy="4036680"/>
            <a:chOff x="4849560" y="1842840"/>
            <a:chExt cx="3632040" cy="4036680"/>
          </a:xfrm>
        </p:grpSpPr>
        <p:sp>
          <p:nvSpPr>
            <p:cNvPr id="567" name="_s1048"/>
            <p:cNvSpPr/>
            <p:nvPr/>
          </p:nvSpPr>
          <p:spPr>
            <a:xfrm flipH="1" flipV="1">
              <a:off x="5790600" y="3357360"/>
              <a:ext cx="438120" cy="2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8" name="_s1049"/>
            <p:cNvSpPr/>
            <p:nvPr/>
          </p:nvSpPr>
          <p:spPr>
            <a:xfrm>
              <a:off x="4849560" y="2598480"/>
              <a:ext cx="1009440" cy="10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9" name="_s1050"/>
            <p:cNvSpPr/>
            <p:nvPr/>
          </p:nvSpPr>
          <p:spPr>
            <a:xfrm flipH="1">
              <a:off x="5792040" y="4113000"/>
              <a:ext cx="43668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0" name="_s1051"/>
            <p:cNvSpPr/>
            <p:nvPr/>
          </p:nvSpPr>
          <p:spPr>
            <a:xfrm>
              <a:off x="4849560" y="4113000"/>
              <a:ext cx="1009440" cy="10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1" name="_s1052"/>
            <p:cNvSpPr/>
            <p:nvPr/>
          </p:nvSpPr>
          <p:spPr>
            <a:xfrm>
              <a:off x="6665760" y="4365360"/>
              <a:ext cx="14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2" name="_s1053"/>
            <p:cNvSpPr/>
            <p:nvPr/>
          </p:nvSpPr>
          <p:spPr>
            <a:xfrm>
              <a:off x="6160680" y="4870440"/>
              <a:ext cx="1009800" cy="100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3" name="_s1054"/>
            <p:cNvSpPr/>
            <p:nvPr/>
          </p:nvSpPr>
          <p:spPr>
            <a:xfrm>
              <a:off x="7102080" y="4113000"/>
              <a:ext cx="438120" cy="2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4" name="_s1055"/>
            <p:cNvSpPr/>
            <p:nvPr/>
          </p:nvSpPr>
          <p:spPr>
            <a:xfrm>
              <a:off x="7472160" y="4113000"/>
              <a:ext cx="1009440" cy="10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5" name="_s1056"/>
            <p:cNvSpPr/>
            <p:nvPr/>
          </p:nvSpPr>
          <p:spPr>
            <a:xfrm flipV="1">
              <a:off x="7102080" y="3355920"/>
              <a:ext cx="43668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6" name="_s1057"/>
            <p:cNvSpPr/>
            <p:nvPr/>
          </p:nvSpPr>
          <p:spPr>
            <a:xfrm>
              <a:off x="7472160" y="2598480"/>
              <a:ext cx="1009440" cy="10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7" name="_s1058"/>
            <p:cNvSpPr/>
            <p:nvPr/>
          </p:nvSpPr>
          <p:spPr>
            <a:xfrm flipV="1">
              <a:off x="6665760" y="285228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8" name="_s1059"/>
            <p:cNvSpPr/>
            <p:nvPr/>
          </p:nvSpPr>
          <p:spPr>
            <a:xfrm>
              <a:off x="6160680" y="1842840"/>
              <a:ext cx="1009800" cy="10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9" name="_s1060"/>
            <p:cNvSpPr/>
            <p:nvPr/>
          </p:nvSpPr>
          <p:spPr>
            <a:xfrm>
              <a:off x="6160680" y="3357360"/>
              <a:ext cx="1009800" cy="1009440"/>
            </a:xfrm>
            <a:prstGeom prst="ellipse">
              <a:avLst/>
            </a:prstGeom>
            <a:solidFill>
              <a:srgbClr val="ffdd4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52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0" name="Text Box 86"/>
          <p:cNvSpPr/>
          <p:nvPr/>
        </p:nvSpPr>
        <p:spPr>
          <a:xfrm>
            <a:off x="2124000" y="2060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Text Box 88"/>
          <p:cNvSpPr/>
          <p:nvPr/>
        </p:nvSpPr>
        <p:spPr>
          <a:xfrm>
            <a:off x="183528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Text Box 89"/>
          <p:cNvSpPr/>
          <p:nvPr/>
        </p:nvSpPr>
        <p:spPr>
          <a:xfrm>
            <a:off x="2916360" y="2637000"/>
            <a:ext cx="12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Text Box 90"/>
          <p:cNvSpPr/>
          <p:nvPr/>
        </p:nvSpPr>
        <p:spPr>
          <a:xfrm>
            <a:off x="2771640" y="2492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Text Box 97"/>
          <p:cNvSpPr/>
          <p:nvPr/>
        </p:nvSpPr>
        <p:spPr>
          <a:xfrm>
            <a:off x="327672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Text Box 98"/>
          <p:cNvSpPr/>
          <p:nvPr/>
        </p:nvSpPr>
        <p:spPr>
          <a:xfrm>
            <a:off x="2906640" y="4599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Text Box 99"/>
          <p:cNvSpPr/>
          <p:nvPr/>
        </p:nvSpPr>
        <p:spPr>
          <a:xfrm>
            <a:off x="183528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78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Text Box 101"/>
          <p:cNvSpPr/>
          <p:nvPr/>
        </p:nvSpPr>
        <p:spPr>
          <a:xfrm>
            <a:off x="900000" y="4508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Text Box 102"/>
          <p:cNvSpPr/>
          <p:nvPr/>
        </p:nvSpPr>
        <p:spPr>
          <a:xfrm>
            <a:off x="385920" y="351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Text Box 104"/>
          <p:cNvSpPr/>
          <p:nvPr/>
        </p:nvSpPr>
        <p:spPr>
          <a:xfrm>
            <a:off x="6084720" y="206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Text Box 105"/>
          <p:cNvSpPr/>
          <p:nvPr/>
        </p:nvSpPr>
        <p:spPr>
          <a:xfrm>
            <a:off x="7236000" y="278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Text Box 106"/>
          <p:cNvSpPr/>
          <p:nvPr/>
        </p:nvSpPr>
        <p:spPr>
          <a:xfrm>
            <a:off x="7451640" y="4292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Text Box 107"/>
          <p:cNvSpPr/>
          <p:nvPr/>
        </p:nvSpPr>
        <p:spPr>
          <a:xfrm>
            <a:off x="6156360" y="5084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Text Box 109"/>
          <p:cNvSpPr/>
          <p:nvPr/>
        </p:nvSpPr>
        <p:spPr>
          <a:xfrm>
            <a:off x="4788000" y="2781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_s1031"/>
          <p:cNvSpPr/>
          <p:nvPr/>
        </p:nvSpPr>
        <p:spPr>
          <a:xfrm>
            <a:off x="880920" y="2259000"/>
            <a:ext cx="1035360" cy="10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_s1031"/>
          <p:cNvSpPr/>
          <p:nvPr/>
        </p:nvSpPr>
        <p:spPr>
          <a:xfrm>
            <a:off x="4842000" y="4103640"/>
            <a:ext cx="1035000" cy="10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Text Box 108"/>
          <p:cNvSpPr/>
          <p:nvPr/>
        </p:nvSpPr>
        <p:spPr>
          <a:xfrm>
            <a:off x="4751280" y="4284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Text Box 103"/>
          <p:cNvSpPr/>
          <p:nvPr/>
        </p:nvSpPr>
        <p:spPr>
          <a:xfrm>
            <a:off x="746280" y="2438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1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1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1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2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2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63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684360" y="333360"/>
            <a:ext cx="799128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 Black"/>
                <a:ea typeface="Arial"/>
              </a:rPr>
              <a:t>Алгоритм решения задачи №1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 Black"/>
                <a:ea typeface="Arial"/>
              </a:rPr>
              <a:t>нахождения НОД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се делители чисе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ти общие делители чисе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ти среди них наибольши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2214720" y="599436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НОД(78;52) = 26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3"/>
          <p:cNvSpPr/>
          <p:nvPr/>
        </p:nvSpPr>
        <p:spPr>
          <a:xfrm>
            <a:off x="1197000" y="81900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Gill Sans MT"/>
                <a:ea typeface="Arial"/>
              </a:rPr>
              <a:t>Наибольший общий делитель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WordArt 16"/>
          <p:cNvSpPr txBox="1"/>
          <p:nvPr/>
        </p:nvSpPr>
        <p:spPr>
          <a:xfrm>
            <a:off x="2006640" y="2421000"/>
            <a:ext cx="1455840" cy="15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2" name="WordArt 18"/>
          <p:cNvSpPr txBox="1"/>
          <p:nvPr/>
        </p:nvSpPr>
        <p:spPr>
          <a:xfrm>
            <a:off x="3851280" y="2421000"/>
            <a:ext cx="1295280" cy="15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WordArt 19"/>
          <p:cNvSpPr txBox="1"/>
          <p:nvPr/>
        </p:nvSpPr>
        <p:spPr>
          <a:xfrm>
            <a:off x="5516640" y="2459160"/>
            <a:ext cx="1295280" cy="1509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2006640" y="4711680"/>
            <a:ext cx="51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  <a:ea typeface="Arial"/>
              </a:rPr>
              <a:t>НОД(96;108) = 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68520" y="259920"/>
            <a:ext cx="712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Gill Sans MT"/>
              </a:rPr>
              <a:t>РАЗЛОЖИТЕ ЧИСЛА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Gill Sans MT"/>
              </a:rPr>
              <a:t>НА ПРОСТЫЕ МНОЖИТЕЛ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15560" y="2079720"/>
            <a:ext cx="778212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9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                                      10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Line 4"/>
          <p:cNvSpPr/>
          <p:nvPr/>
        </p:nvSpPr>
        <p:spPr>
          <a:xfrm flipH="1">
            <a:off x="1285920" y="2798640"/>
            <a:ext cx="5666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Line 5"/>
          <p:cNvSpPr/>
          <p:nvPr/>
        </p:nvSpPr>
        <p:spPr>
          <a:xfrm>
            <a:off x="2232000" y="2843280"/>
            <a:ext cx="5396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Line 25"/>
          <p:cNvSpPr/>
          <p:nvPr/>
        </p:nvSpPr>
        <p:spPr>
          <a:xfrm flipH="1">
            <a:off x="6372360" y="2889360"/>
            <a:ext cx="60480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7362720" y="2843280"/>
            <a:ext cx="49536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Line 31"/>
          <p:cNvSpPr/>
          <p:nvPr/>
        </p:nvSpPr>
        <p:spPr>
          <a:xfrm>
            <a:off x="8028000" y="31417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06:41:10Z</dcterms:created>
  <dc:creator>gav</dc:creator>
  <dc:description/>
  <dc:language>en-US</dc:language>
  <cp:lastModifiedBy>Гульзара</cp:lastModifiedBy>
  <dcterms:modified xsi:type="dcterms:W3CDTF">2022-11-17T18:34:02Z</dcterms:modified>
  <cp:revision>68</cp:revision>
  <dc:subject/>
  <dc:title>Наибольший общий делитель</dc:title>
</cp:coreProperties>
</file>