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4A1-CC19-447E-AC64-C7AA315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C80-0E23-4A6F-95BB-27FB779B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70F-FDE9-4362-A947-3507CD59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270-4528-489D-9236-ED31357B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0B5-A225-4F64-BB06-F92A640D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65A-6A8D-43FD-8E47-D0776EEA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905-474B-4774-AAFC-CD2711B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C86-207C-498E-A6B3-A79A9D9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F04-6F01-404D-A01F-0AE7749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ADE-FDDB-4737-A8FB-7682407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A29-B798-4696-8F95-822AF74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783-0989-4FF4-8998-F7B46A9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6C8-D331-4CEA-9599-D377263E761A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mbria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242856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«Определение рода у  несклоняемых имен существительных»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9907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46c0a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пособствование формированию и развитию  умений  и  навыков  в  определении  рода  несклоняемых  имён     существительных; формированию  представления  об  особенностях  рода  несклоняемых  имён  существительных; создание  условий,  обеспечивающих  воспитание  интереса  к  русскому  язык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од несклоняемых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mbria"/>
              </a:rPr>
              <a:t>неодушевленных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имен существительных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Содержимое 5" descr=""/>
          <p:cNvPicPr/>
          <p:nvPr/>
        </p:nvPicPr>
        <p:blipFill>
          <a:blip r:embed="rId1"/>
          <a:stretch/>
        </p:blipFill>
        <p:spPr>
          <a:xfrm>
            <a:off x="701640" y="1646280"/>
            <a:ext cx="8345520" cy="46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Род несклоняемых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Cambria"/>
              </a:rPr>
              <a:t>одушевленных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имен существительных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01760" y="1682640"/>
            <a:ext cx="8456400" cy="46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mbria"/>
              </a:rPr>
              <a:t>Род несклоняемых существительных, обозначающих географические названия и названия органов печат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од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mbria"/>
              </a:rPr>
              <a:t>географических</a:t>
            </a:r>
            <a:r>
              <a:rPr b="1" i="1" lang="ru-RU" sz="2000" spc="-1" strike="noStrike" u="sng">
                <a:solidFill>
                  <a:srgbClr val="d41c97"/>
                </a:solidFill>
                <a:uFillTx/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званий определяется по роду тех нарицательных существительных, которыми эти названия могут быть заменен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mbria"/>
              </a:rPr>
              <a:t>Сухуми (город) – м.р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mbria"/>
              </a:rPr>
              <a:t>Колорадо (река) – ж.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азвания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mbria"/>
              </a:rPr>
              <a:t>органов печат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, если они являются несклоняемыми существительными, определяются по родовому понятию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«Таймс» – газета (ж.р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"/>
              </a:rPr>
              <a:t>Род сложносокращенных слов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сложносокращенных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лов, образованных из начальных букв, определяется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по роду главного слов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mbria"/>
              </a:rPr>
              <a:t>СНГ –Содружество Независимых Государств (Ср.р.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6160" y="1599840"/>
            <a:ext cx="44006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которые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сложносокращенные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слова, оканчивающиеся на твердую согласную, являются существительными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м.р.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если они образованы из начальных звуков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mbria"/>
              </a:rPr>
              <a:t>Вуз, МИД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10:18Z</dcterms:created>
  <dc:creator>Admin</dc:creator>
  <dc:description/>
  <dc:language>en-US</dc:language>
  <cp:lastModifiedBy>User</cp:lastModifiedBy>
  <dcterms:modified xsi:type="dcterms:W3CDTF">2022-10-15T21:15:24Z</dcterms:modified>
  <cp:revision>23</cp:revision>
  <dc:subject/>
  <dc:title>Тема урока:</dc:title>
</cp:coreProperties>
</file>