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91C-2DD4-4842-A29F-2AD023C2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3AF-537E-4AEB-A893-E6B06021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820-24EC-4E4F-93BB-6287D2BF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D59-2713-4286-8467-86B46AD7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7E1-4618-44A2-BED6-EE38C72C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A9C-2FF7-430C-8CEC-47B59445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ACC-22E1-4B41-AD30-935AFE7D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ECE-3709-4F9F-940B-A1A15C6A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566-96A9-4FA5-B9D7-A031E7FE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D44-88E6-4251-A07F-F62F2195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6D2-357B-44B5-8DBF-8970D73D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D03-C194-475C-AADE-867E44DC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2DAF-F508-47BC-85B8-ABACD82253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2240" y="937800"/>
            <a:ext cx="8712000" cy="24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лого-педагогического сопровождения лиц с ОВ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93800" y="4319280"/>
            <a:ext cx="9507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</a:rPr>
              <a:t>Выполнила обучающаяся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</a:rPr>
              <a:t>группы 15. ПООМ.20.НО.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</a:rPr>
              <a:t>очной формы обучения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</a:rPr>
              <a:t>факультета психологии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</a:rPr>
              <a:t>Юдина Анна Сергеевн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0000" y="-49680"/>
            <a:ext cx="9686880" cy="23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Схема индивидуального образовательного маршру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0320" y="2714400"/>
            <a:ext cx="5112000" cy="29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евая часть(свед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Информационная ча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(данные об особенностях интеллектуального, физического,психологического развит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Содержательная часть(коррекционные  програм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06920" y="2572920"/>
            <a:ext cx="511308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66680" indent="-16668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Технологическая часть(технологии, методики с учетом ведущих видов деятель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Результативная ча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13440" y="2572920"/>
            <a:ext cx="4718160" cy="9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сновные направления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агност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сихокоррекционное и развивающ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ультатив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формационно-просветитель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илакт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формационно-просветитель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136080"/>
            <a:ext cx="960120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ая модель комплексного психолого-педагогического сопровождения детей с ОВЗ в общеобразовательной шко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7" descr=""/>
          <p:cNvPicPr/>
          <p:nvPr/>
        </p:nvPicPr>
        <p:blipFill>
          <a:blip r:embed="rId1"/>
          <a:stretch/>
        </p:blipFill>
        <p:spPr>
          <a:xfrm>
            <a:off x="2556000" y="1751040"/>
            <a:ext cx="708012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11034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ое сопровожд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08000" y="2557080"/>
            <a:ext cx="103665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 отношению к педагогам, сотрудникам О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зменения в Положении о ПМП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Утверждение  графика работы и должностных обязанностей сотрудник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Изменения в Правилах внутреннего трудового распорядк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 отношению к родителям (законным представителям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Догово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Соглашение о сотрудничеств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76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ое сопровож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23540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ти с ОВЗ                                                               Педагоги, сотрудники О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- 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ровень адаптации ,                                         Анкетирование по определению уровн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Особенности эмоционально-волевой сферы        готовности к работе с детьми с ОВ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Особенности личностной сфе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Особенности познавательной сферы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одители (законные представител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пределение стиля взаимоотношений в семье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7468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ррекционно-развивающее сопровож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08000" y="2557440"/>
            <a:ext cx="988848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 отношению к обучающимся с ОВЗ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Деятельность логопе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Деятельность педагога-психоло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Деятельность дефектоло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 отношению к родителям (законным представителям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ятельность педагога-психоло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Деятельность дефектоло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4920" y="155160"/>
            <a:ext cx="960120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рганизационно-методическое сопровож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96960" y="19569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дагоги, сотрудники О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Развитие психолого-педагогической компетент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Повышение квалиф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Работа в команде специалис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Распределение зон ответств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Анализ результатов и приоритетных профессиональных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Обобщение и анализ опыта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Психологическая поддер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е сопровож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дагоги, сотрудники О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По вопросам профессиональных компетенц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По вопросам взаимодействия с родителя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По вопросам возрастной психологии и т.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одители (законные представители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 вопросам инклюзивного образова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По вопросам воспитания, обучения, развити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По вопросам выбора стратегии воспита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По вопросам психофизиологических особенностей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10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нформационно-просветительское сопровож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0720" y="22777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дагоги, сотрудники О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Профилактика профессионального «выгоран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одители (законные представите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Профилактика конфлик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471600" y="1797120"/>
            <a:ext cx="1139976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ытываете ли Вы трудности в общении с вашим ребенком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да, то как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 Как Вы преодолеваете эти труднос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 Хватает ли Вам имеющихся знаний  об особенностях вашего ребенка для общения с ни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. Сотрудничаете ли Вы со специалиста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. Какой вид помощи Вы получаете от специалистов  ОУ (логопед, психолог 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58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нкета для родителей детей с ОВЗ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79480" y="2589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Times New Roman"/>
              </a:rPr>
              <a:t>Инклюзивное(включающее) 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образование – </a:t>
            </a:r>
            <a:r>
              <a:rPr b="0" lang="ru-RU" sz="4400" spc="-1" strike="noStrike">
                <a:solidFill>
                  <a:srgbClr val="262626"/>
                </a:solidFill>
                <a:latin typeface="Times New Roman"/>
              </a:rPr>
              <a:t>процесс совместного воспитания и обучения лиц с ограниченными возможностями здоровья   и нормально развивающихся сверстн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792000" y="1703520"/>
            <a:ext cx="1060776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Комфортно ли Вы себя чувствуете при работе с детьми, имеющими нарушения развит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Испытываете ли Вы трудности при работе с детьми, имеющими     нарушения развития? Если да, то как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Как вы преодолеваете эти труд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Какие программы используете для детей с ОВЗ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Составляете ли Вы индивидуальные программы воспитания и обучения детей с ОВЗ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Испытываете ли Вы трудности при  составлении индивидуальных программ для детей с ОВЗ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Хватает ли Вам имеющихся знаний об особенностях развития детей с ОВЗ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 Сотрудничаете ли Вы со специалистам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. Какой вид помощи Вы получаете от специалистов (дефектолог, психолог и т.д.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. Оказываете ли Вы помощь родителям в обучении и воспитании детей с ОВЗ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386080" y="430200"/>
            <a:ext cx="61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нкета для педагог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14480" y="178920"/>
            <a:ext cx="960120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ы и формы работы с детьм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6840" y="232056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                                                               </a:t>
            </a: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Арттерапия                                                                              Релакс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                                                           </a:t>
            </a: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Песочная терапия                                           Психогимна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                                                             </a:t>
            </a: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Сказкотерапия                                                  </a:t>
            </a: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Тренин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3432240" y="1808280"/>
            <a:ext cx="2916000" cy="17618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"/>
          <p:cNvPicPr/>
          <p:nvPr/>
        </p:nvPicPr>
        <p:blipFill>
          <a:blip r:embed="rId2"/>
          <a:stretch/>
        </p:blipFill>
        <p:spPr>
          <a:xfrm>
            <a:off x="8912160" y="5025960"/>
            <a:ext cx="2984400" cy="17636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"/>
          <p:cNvPicPr/>
          <p:nvPr/>
        </p:nvPicPr>
        <p:blipFill>
          <a:blip r:embed="rId3"/>
          <a:stretch/>
        </p:blipFill>
        <p:spPr>
          <a:xfrm>
            <a:off x="3281400" y="4492800"/>
            <a:ext cx="306684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727280"/>
            <a:ext cx="104760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СПАСИБО ЗА 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        ВНИМАНИЕ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5440" y="334440"/>
            <a:ext cx="1079640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Дети с ограниченными возможностями здоровья – дети с нарушения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2595600"/>
            <a:ext cx="540216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Реч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Слух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Зр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Расстройствами аутистического спект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616360" y="2560680"/>
            <a:ext cx="567036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Опорно-двигательного аппара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С задержкой психического развит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Сложными дефект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Умственной отстал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36520" y="1042920"/>
            <a:ext cx="11719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сихолого-педагогическое сопровождение ребенка с ОВЗ 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профессиональной деятельности специалистов, работающих с детьми (воспитателей, педагогов, психологов и др.) и родителей, направленных на создание благоприятных социально-психологических условий для детей с проблемами в развитии, от которых зависит улучшение их психофизического состояния и успешность адаптации в обществ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10963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Задачи психолого-педагогического сопровождения детей с ОВЗ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33440" y="2008080"/>
            <a:ext cx="106092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азвитие и совершенствование коммуникативных функций, эмоционально-волевой регуляции повед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Формирование и стимулирование познавательных процес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Формирование адекватных родительских установок на особенности и социально-психологические проблемы ребенка путем активного привлечения родителей в образовательный процесс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азвитие коммуникативных навыков в процессе совместной деятельности детей и взрослых, актуальных форм сотрудничества взаимодействия с семье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ринципы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опровождения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1360" y="1868400"/>
            <a:ext cx="96012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Личностно-ориентированный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нцип комплексности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нцип деятельностного подхода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нцип непрерывности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Times New Roman"/>
              </a:rPr>
              <a:t>Психолого- медико-педагогический консилиум (ПМПк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8120" y="2230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соответствии с Положением о ПМПк, утвержденном приказом заведующего О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детализация рекомендаций ПМП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планирование работы, ее реализация, координац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отслеживание динамики личностного развития воспитанников с ОВЗ, анализ результа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Times New Roman"/>
              </a:rPr>
              <a:t>Содержание деятельности ПМПК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8040" y="2081160"/>
            <a:ext cx="96012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ует дет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ёт рекомендации по оказанию детям психолого-медико-педагогической помощи и созданию специальных условий в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8628120" y="4411800"/>
            <a:ext cx="31258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202680"/>
            <a:ext cx="960120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Times New Roman"/>
              </a:rPr>
              <a:t>Специалисты сопровожд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1697040"/>
            <a:ext cx="111920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ладеют методиками диагностики, консультирования, корр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нают основы специальной педагог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нают особенности нарушений здоровья обучающихся с ОВ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нают возрастные и индивидуальные особенности развития обучающихся с ОВ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ладают способностью к системному анализу проблемных ситу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ладают способностью к планированию действ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гут соорганизовать участников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00:16:43Z</dcterms:created>
  <dc:creator>admin</dc:creator>
  <dc:description/>
  <dc:language>en-US</dc:language>
  <cp:lastModifiedBy>Анна Юдина</cp:lastModifiedBy>
  <dcterms:modified xsi:type="dcterms:W3CDTF">2022-11-17T09:36:56Z</dcterms:modified>
  <cp:revision>71</cp:revision>
  <dc:subject/>
  <dc:title>Особенности     психолого-педагогического                        сопровождения детей дошкольного возраста   с ограниченными возможностями здоровья  в детском саду</dc:title>
</cp:coreProperties>
</file>