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198-6146-42D3-85DE-83A5D4CF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BC7-AC25-47AF-9A97-26CA988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FB1-E594-4846-B10B-210D4F75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A5E-5EC1-4C55-9416-7811D0C6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AD8E-CA06-44CD-AF0E-DE44E26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1327-4FCF-45FF-955B-E67001F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B80E-EDC3-4AC1-97E0-C156F937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B770-8A0F-4138-AFA2-3F78AE5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04F8-39E6-4CE0-858C-965539B2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2033-488F-4F33-8855-DD333829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0F4A-3D5A-4C59-94CE-FCD5DCA2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622-AAC7-43C1-AB6F-BE38C2A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49A9-3824-4E77-890C-B92909E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4B5-1D70-4B6B-860D-0B33B5E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E0D-BC51-4C2F-B9DD-3A9156C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823A-E860-4C4F-8509-D6AC8527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C1D5-7EFC-4709-8C2F-D19063BB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A02C-0855-45DA-BF49-B369C2C7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E236-FE8B-4F57-91D6-7666F4C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919C-1AFE-4451-A608-A60F298E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9754-DB7E-48D6-9D9F-02E3031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72EC-EFE5-4CAD-BCA8-A944CA1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D44-DD7F-43C6-8F0C-67F1A22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B62A-1AE1-46FD-B254-DFAE5B2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4844-4D1B-4080-B117-C6E61C1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9980-0894-4C85-BE3D-B733B5A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7E98-C5CF-426F-A1A3-738A03D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91A2-4555-45BC-B6E7-6F47775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91DE-F5B0-4141-AA3D-6E2DCEE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43D9-42C6-4F73-B0B1-9CE79AB6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9093-0C2E-480C-BE4A-E4D011A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343A-64BC-4808-9914-FA860A0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1D36-58A2-4C04-8973-7CE97A1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D81-DF54-4937-A280-B7F6EB2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2CF1-9A09-4815-B3B7-6DFC435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9839-87B5-4156-9466-A4F9DB4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7832-C4FA-4B48-BDE5-687894F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6BD2-061C-4A24-9B3C-5EC85C5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BA0B-B126-41A3-AA95-161A6E1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A5E4-D711-49DF-BF70-119F90B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52FB-2E67-4B3E-8E8C-7ABFF457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4872-3182-43C3-8A10-2767AAE1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45C6-7566-49AD-AB32-3D35DBF7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B7D2-EC71-400C-9835-CAA3CDC5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B59-7888-4CDE-A4F0-67E2614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1648-B18A-412C-A91A-1E1F776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DEB7-6706-4D31-9E66-BFE5837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42AB-2DA8-44B9-93AB-9CA42BDD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70A1E-DB85-4847-AD38-F5B2810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B49A-0A0A-4417-BE22-5E7FAA70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E9FC-2FFC-4397-B7EC-6A17BD1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D19C-75F4-445A-ABB6-488E3AC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99C6-9410-460B-B888-904810E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9D5E-9139-4699-8968-151965A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3D4B-4214-4C7E-9CB2-97FDA04B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6B8-D777-496F-BFC4-BE0C2B1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1C9F-E9E5-4775-8212-8F4CEAB4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C6CD-9952-4CB7-9C91-923C92B4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BDB5-5451-4EAC-86B3-F2711F5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D699-2D52-4BF1-8495-69B027B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6A0EA-046C-47C8-95AB-B4BBE99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90115-FE50-4396-B575-B06B10AF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9937-20C4-4D77-BDD9-0FE13E8A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5E88-8F9E-44BE-91BF-582D918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2880-3082-40FD-B7D9-7410FB6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B678-510C-44EE-933E-48ABEEC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4A2-DEA8-4D20-AB3A-F4E5772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771E-147C-41B1-A109-B92EB85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9170-9609-4789-87ED-699851BE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03EE0-93BC-4BB6-97A1-671F1F53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B591-849C-4814-B846-56DC44D4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88E4-DA00-48E9-BD84-29B8EB6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1FAC-0B2D-4689-A62D-EF066D75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CC58-01CB-4008-8D3E-18B8569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13CF5-12C4-48C1-90E7-B380A5E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E59E-5445-4913-A802-EA8C8815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4C54-6839-4612-BE66-939829B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557-B515-48CB-8E07-837D2CD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94FD-8333-41C8-B964-095DE04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5EDD-0CAB-4FAF-B1B6-94938F7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E132-E8FB-4251-8F2F-4CD5772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FA8D8-2701-478A-87E6-9437A4F7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ED6D-6CCF-4A10-9566-208E5246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0EEC3-6F3E-4881-9F73-FD6D1718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58A08-AEB8-4D93-AEE8-EA218BC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56E8E-1CEB-4FA5-905E-A0F8837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8597-73DB-44D5-A18F-3216B0E0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651B1-F756-4282-AF50-FEA26502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1E7-CBE6-49F9-942E-CE2E5FB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1547-D04F-4336-B106-6EAA5201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D3BB-748B-486F-BE2A-AEE816D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A676-2887-4A0E-950A-B4D943D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4902D-443E-4EFD-991F-7457772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1BC5-05EA-46F6-811F-F76153F7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B32D9-638E-44A4-B302-9F4A698B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CBEE-3FEE-4360-8AB4-36430DA4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EEAF-2939-4AE9-B1A5-A304500974A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7B6-0732-4228-8A66-6DB2BDACBBD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7A2-7E08-4070-A723-D0A59F4CB531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BE5-BDEE-495E-A565-F4B10890C23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F2F0-59C7-48B9-B120-264A56FA604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EC3B-8A2A-48F5-9370-775E9438C82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BF7-3F2A-4D88-8BD8-2ADB407ECE29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F55E-8FD3-48C8-807B-88455EC066C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539640" y="476280"/>
            <a:ext cx="82090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353e"/>
                </a:solidFill>
                <a:latin typeface="Calibri"/>
              </a:rPr>
              <a:t>(Прошедшее простое врем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2843280" y="2781360"/>
            <a:ext cx="3473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1258920" y="1052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250920" y="549360"/>
            <a:ext cx="84247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5b7e"/>
                </a:solidFill>
                <a:latin typeface="Calibri"/>
              </a:rPr>
              <a:t>Обозначает действ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исходившее ра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неопредел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вторялось неоднок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3"/>
          <p:cNvSpPr/>
          <p:nvPr/>
        </p:nvSpPr>
        <p:spPr>
          <a:xfrm>
            <a:off x="4211640" y="3500280"/>
            <a:ext cx="360360" cy="792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2987640" y="4653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Что дел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5" descr="baby23.gif"/>
          <p:cNvPicPr/>
          <p:nvPr/>
        </p:nvPicPr>
        <p:blipFill>
          <a:blip r:embed="rId1"/>
          <a:stretch/>
        </p:blipFill>
        <p:spPr>
          <a:xfrm>
            <a:off x="6948360" y="3284640"/>
            <a:ext cx="17384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324000" y="333360"/>
            <a:ext cx="48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"/>
          <p:cNvSpPr/>
          <p:nvPr/>
        </p:nvSpPr>
        <p:spPr>
          <a:xfrm>
            <a:off x="539640" y="148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се глаголы – действия в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елят на 2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Выгнутая вправо стрелка 5"/>
          <p:cNvSpPr/>
          <p:nvPr/>
        </p:nvSpPr>
        <p:spPr>
          <a:xfrm>
            <a:off x="2843280" y="27082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Выгнутая влево стрелка 6"/>
          <p:cNvSpPr/>
          <p:nvPr/>
        </p:nvSpPr>
        <p:spPr>
          <a:xfrm>
            <a:off x="5508720" y="2708280"/>
            <a:ext cx="730080" cy="1216080"/>
          </a:xfrm>
          <a:custGeom>
            <a:avLst/>
            <a:gdLst>
              <a:gd name="textAreaLeft" fmla="*/ 97560 w 730080"/>
              <a:gd name="textAreaRight" fmla="*/ 632520 w 7300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8" stAng="-5400000" swAng="-5400000"/>
                <a:lnTo>
                  <a:pt x="0" y="11610"/>
                </a:lnTo>
                <a:arcTo wR="21600" hR="8368" stAng="10800000" swAng="-3379043"/>
                <a:lnTo>
                  <a:pt x="16200" y="21334"/>
                </a:lnTo>
                <a:lnTo>
                  <a:pt x="21600" y="18357"/>
                </a:lnTo>
                <a:lnTo>
                  <a:pt x="16200" y="14848"/>
                </a:lnTo>
                <a:lnTo>
                  <a:pt x="16200" y="16470"/>
                </a:lnTo>
                <a:arcTo wR="21600" hR="8368" stAng="7420957" swAng="3116582"/>
                <a:lnTo>
                  <a:pt x="409" y="9989"/>
                </a:lnTo>
                <a:arcTo wR="21600" hR="8368" stAng="-10537540" swAng="5137540"/>
                <a:close/>
              </a:path>
              <a:path fill="darkenLess" w="21600" h="21600">
                <a:moveTo>
                  <a:pt x="21600" y="0"/>
                </a:moveTo>
                <a:arcTo wR="21600" hR="8368" stAng="-5400000" swAng="-5400000"/>
                <a:lnTo>
                  <a:pt x="0" y="8368"/>
                </a:lnTo>
                <a:arcTo wR="21600" hR="8368" stAng="10800000" swAng="-262460"/>
                <a:lnTo>
                  <a:pt x="409" y="9989"/>
                </a:lnTo>
                <a:arcTo wR="21600" hR="8368" stAng="-10537540" swAng="5137540"/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179280" y="407664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Правильные глагол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Неправильные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  <a:ea typeface="Arial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Regular Verb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rregul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8" descr="baby06.gif"/>
          <p:cNvPicPr/>
          <p:nvPr/>
        </p:nvPicPr>
        <p:blipFill>
          <a:blip r:embed="rId1"/>
          <a:stretch/>
        </p:blipFill>
        <p:spPr>
          <a:xfrm>
            <a:off x="2916360" y="4941720"/>
            <a:ext cx="2695320" cy="15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468360" y="26028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611280" y="1197000"/>
            <a:ext cx="8137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Arial"/>
              </a:rPr>
              <a:t>От группы зависит форма глагола в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Правильные глаголы подчиняются прав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 Неправильные глаголы правилу не подчиняются, каждый из них изменяется индивидуально, согласно таблиц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Неправильных глаго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3" descr="baby16_1.gif"/>
          <p:cNvPicPr/>
          <p:nvPr/>
        </p:nvPicPr>
        <p:blipFill>
          <a:blip r:embed="rId1"/>
          <a:stretch/>
        </p:blipFill>
        <p:spPr>
          <a:xfrm>
            <a:off x="7596360" y="4797360"/>
            <a:ext cx="11872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539640" y="260280"/>
            <a:ext cx="46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395280" y="907920"/>
            <a:ext cx="8353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Чтобы поставить глагол в 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 Tense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ледует выполнить следующие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. Выбрать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Определить  группу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. Смотри таблицу «Неправильных глаго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3"/>
          <p:cNvSpPr/>
          <p:nvPr/>
        </p:nvSpPr>
        <p:spPr>
          <a:xfrm>
            <a:off x="1908000" y="2924280"/>
            <a:ext cx="216000" cy="8650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низ 4"/>
          <p:cNvSpPr/>
          <p:nvPr/>
        </p:nvSpPr>
        <p:spPr>
          <a:xfrm>
            <a:off x="6659640" y="2924280"/>
            <a:ext cx="216000" cy="8650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250920" y="378936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лагол есть в 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низ 6"/>
          <p:cNvSpPr/>
          <p:nvPr/>
        </p:nvSpPr>
        <p:spPr>
          <a:xfrm>
            <a:off x="1908000" y="4292640"/>
            <a:ext cx="216000" cy="9367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низ 7"/>
          <p:cNvSpPr/>
          <p:nvPr/>
        </p:nvSpPr>
        <p:spPr>
          <a:xfrm>
            <a:off x="6659640" y="4292640"/>
            <a:ext cx="216000" cy="9367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4932360" y="378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лагола нет в 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324000" y="5300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Arial"/>
              </a:rPr>
              <a:t>Неправильный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Прав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  <a:ea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o - went                        play – play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1476360" y="47628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конча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(у правильных глагол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трелка вниз 2"/>
          <p:cNvSpPr/>
          <p:nvPr/>
        </p:nvSpPr>
        <p:spPr>
          <a:xfrm>
            <a:off x="1258920" y="2133720"/>
            <a:ext cx="288720" cy="10792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трелка вниз 3"/>
          <p:cNvSpPr/>
          <p:nvPr/>
        </p:nvSpPr>
        <p:spPr>
          <a:xfrm>
            <a:off x="4427640" y="2133720"/>
            <a:ext cx="288720" cy="10792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низ 4"/>
          <p:cNvSpPr/>
          <p:nvPr/>
        </p:nvSpPr>
        <p:spPr>
          <a:xfrm>
            <a:off x="7667640" y="2133720"/>
            <a:ext cx="289080" cy="10792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611280" y="33577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rial"/>
              </a:rPr>
              <a:t>[t ]                [d]                  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179280" y="4149720"/>
            <a:ext cx="30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ле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Like - lik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3203640" y="414972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ле звонких согласных и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lean – clean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Play - play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6443640" y="414972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гласного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Skate - skat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  <a:ea typeface="Arial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2"/>
          <p:cNvSpPr/>
          <p:nvPr/>
        </p:nvSpPr>
        <p:spPr>
          <a:xfrm>
            <a:off x="468360" y="33336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  <a:ea typeface="Arial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611280" y="1197000"/>
            <a:ext cx="66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лова – сигналы  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Yesterday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 вч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Last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 прошл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…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ago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 … 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danced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lot two day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played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Рисунок 6" descr="KIDS01.gif"/>
          <p:cNvPicPr/>
          <p:nvPr/>
        </p:nvPicPr>
        <p:blipFill>
          <a:blip r:embed="rId1"/>
          <a:stretch/>
        </p:blipFill>
        <p:spPr>
          <a:xfrm>
            <a:off x="5580000" y="2205000"/>
            <a:ext cx="3328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324000" y="40464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  <a:ea typeface="Arial"/>
              </a:rPr>
              <a:t>Choose a verb in the correc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250920" y="126828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He ____________TV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(watch/ watches/ watc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om ___________in the swimming-pool last Sun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(swim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 swim/ s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My pets ___________ milk two days a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(drank/ drink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 dr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We ___________our room last w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(clean/ cleaned/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 ____________to the cinema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(go/ went/ go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6191280" y="3716280"/>
            <a:ext cx="295272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ANK YOU FOR YOUR    ATTENTION!</a:t>
            </a:r>
            <a:endParaRPr b="0" lang="en-US" sz="6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52:04Z</dcterms:created>
  <dc:creator>Глызовы</dc:creator>
  <dc:description/>
  <dc:language>en-US</dc:language>
  <cp:lastModifiedBy>Блимготова Римма</cp:lastModifiedBy>
  <dcterms:modified xsi:type="dcterms:W3CDTF">2021-12-14T05:39:13Z</dcterms:modified>
  <cp:revision>20</cp:revision>
  <dc:subject/>
  <dc:title>Слайд 1</dc:title>
</cp:coreProperties>
</file>