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E9359-4D27-48A8-BAAC-FF952C711E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B3F54-A069-492A-8557-FD9F7658AC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C3C-AEFC-464F-9941-0BED6E72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57B-F05F-44F2-874F-2919E3D2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908-0145-44CD-9483-F416AE4B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AD1-BCED-41AE-AFD4-E28CCFBB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A19-6545-4D6F-96E6-BA1B0B8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2DC-B645-46E6-9551-3294C80B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AAF-A105-417C-B566-CFD0686F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E67-F04C-47B3-B3A8-9857BAAD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3AE-CB47-4E50-BC10-FD3678D4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7D6-EC53-49AF-82DC-5DBC8B4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D75-9EF5-4456-AB2F-8138579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1F7-CCF9-48F6-B3FF-D1C60C1E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A11674-C462-4191-B74C-E40730C4E6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4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4.wm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4.wm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921960"/>
            <a:ext cx="9069120" cy="28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664d"/>
                </a:solidFill>
                <a:latin typeface="Comic Sans MS"/>
              </a:rPr>
              <a:t>«Все, что выросло на грядке, назовём мы по порядку…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imes New Roman"/>
              </a:rPr>
              <a:t>Что лишне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"/>
          <p:cNvPicPr/>
          <p:nvPr/>
        </p:nvPicPr>
        <p:blipFill>
          <a:blip r:embed="rId1"/>
          <a:stretch/>
        </p:blipFill>
        <p:spPr>
          <a:xfrm>
            <a:off x="1295280" y="1474920"/>
            <a:ext cx="1878120" cy="2377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335640" y="1332000"/>
            <a:ext cx="1714680" cy="23097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1295280" y="4427640"/>
            <a:ext cx="1878120" cy="21891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"/>
          <p:cNvPicPr/>
          <p:nvPr/>
        </p:nvPicPr>
        <p:blipFill>
          <a:blip r:embed="rId4"/>
          <a:stretch/>
        </p:blipFill>
        <p:spPr>
          <a:xfrm>
            <a:off x="6335640" y="4427640"/>
            <a:ext cx="17622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Comic Sans MS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2325600" y="1422360"/>
            <a:ext cx="457200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усты по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Мокнет зем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Дождь поливает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огороде все овощ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убир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Кода это быв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осень"/>
          <p:cNvPicPr/>
          <p:nvPr/>
        </p:nvPicPr>
        <p:blipFill>
          <a:blip r:embed="rId1"/>
          <a:stretch/>
        </p:blipFill>
        <p:spPr>
          <a:xfrm>
            <a:off x="6254640" y="3708360"/>
            <a:ext cx="314820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bd00028_">
            <a:hlinkClick r:id="rId2"/>
          </p:cNvPr>
          <p:cNvPicPr/>
          <p:nvPr/>
        </p:nvPicPr>
        <p:blipFill>
          <a:blip r:embed="rId3"/>
          <a:stretch/>
        </p:blipFill>
        <p:spPr>
          <a:xfrm rot="1444200">
            <a:off x="8183160" y="350640"/>
            <a:ext cx="947880" cy="92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bd00028_">
            <a:hlinkClick r:id="rId4"/>
          </p:cNvPr>
          <p:cNvPicPr/>
          <p:nvPr/>
        </p:nvPicPr>
        <p:blipFill>
          <a:blip r:embed="rId5"/>
          <a:stretch/>
        </p:blipFill>
        <p:spPr>
          <a:xfrm rot="1993200">
            <a:off x="7356240" y="1749240"/>
            <a:ext cx="168912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d00028_">
            <a:hlinkClick r:id="rId6"/>
          </p:cNvPr>
          <p:cNvPicPr/>
          <p:nvPr/>
        </p:nvPicPr>
        <p:blipFill>
          <a:blip r:embed="rId7"/>
          <a:stretch/>
        </p:blipFill>
        <p:spPr>
          <a:xfrm rot="19341600">
            <a:off x="682200" y="1064880"/>
            <a:ext cx="113364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136520"/>
            <a:ext cx="90694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202020"/>
                </a:solidFill>
                <a:latin typeface="Comic Sans MS"/>
              </a:rPr>
              <a:t>Что собирают люди осенью </a:t>
            </a:r>
            <a:br>
              <a:rPr sz="5400"/>
            </a:br>
            <a:r>
              <a:rPr b="1" lang="ru-RU" sz="5400" spc="-1" strike="noStrike">
                <a:solidFill>
                  <a:srgbClr val="202020"/>
                </a:solidFill>
                <a:latin typeface="Comic Sans MS"/>
              </a:rPr>
              <a:t>в огород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d00028_">
            <a:hlinkClick r:id="rId1"/>
          </p:cNvPr>
          <p:cNvPicPr/>
          <p:nvPr/>
        </p:nvPicPr>
        <p:blipFill>
          <a:blip r:embed="rId2"/>
          <a:stretch/>
        </p:blipFill>
        <p:spPr>
          <a:xfrm rot="19545000">
            <a:off x="1003320" y="394920"/>
            <a:ext cx="1322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bd00028_">
            <a:hlinkClick r:id="rId3"/>
          </p:cNvPr>
          <p:cNvPicPr/>
          <p:nvPr/>
        </p:nvPicPr>
        <p:blipFill>
          <a:blip r:embed="rId4"/>
          <a:stretch/>
        </p:blipFill>
        <p:spPr>
          <a:xfrm rot="2016600">
            <a:off x="7878240" y="2984400"/>
            <a:ext cx="1420920" cy="139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d00028_">
            <a:hlinkClick r:id="rId5"/>
          </p:cNvPr>
          <p:cNvPicPr/>
          <p:nvPr/>
        </p:nvPicPr>
        <p:blipFill>
          <a:blip r:embed="rId6"/>
          <a:stretch/>
        </p:blipFill>
        <p:spPr>
          <a:xfrm rot="18720600">
            <a:off x="3873600" y="4671720"/>
            <a:ext cx="15858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omic Sans MS"/>
              </a:rPr>
              <a:t>овощ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c40d0183662d"/>
          <p:cNvPicPr/>
          <p:nvPr/>
        </p:nvPicPr>
        <p:blipFill>
          <a:blip r:embed="rId1"/>
          <a:stretch/>
        </p:blipFill>
        <p:spPr>
          <a:xfrm>
            <a:off x="2468520" y="1708200"/>
            <a:ext cx="5357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02020"/>
                </a:solidFill>
                <a:latin typeface="Comic Sans MS"/>
              </a:rPr>
              <a:t>Отгадайте, какие овощ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754200" y="1494000"/>
            <a:ext cx="5643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Comic Sans MS"/>
              </a:rPr>
              <a:t>Щёки розовые, нос бе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22228b"/>
                </a:solidFill>
                <a:latin typeface="Comic Sans MS"/>
              </a:rPr>
              <a:t>в темноте сижу день цел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22228b"/>
                </a:solidFill>
                <a:latin typeface="Comic Sans MS"/>
              </a:rPr>
              <a:t>а рубашка зел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22228b"/>
                </a:solidFill>
                <a:latin typeface="Comic Sans MS"/>
              </a:rPr>
              <a:t>вся на солнышке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radish1"/>
          <p:cNvPicPr/>
          <p:nvPr/>
        </p:nvPicPr>
        <p:blipFill>
          <a:blip r:embed="rId1"/>
          <a:stretch/>
        </p:blipFill>
        <p:spPr>
          <a:xfrm>
            <a:off x="6754680" y="1279440"/>
            <a:ext cx="2514600" cy="2210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5540400" y="4280040"/>
            <a:ext cx="382428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астут на г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елёные вет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 на них красные д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Помидоры"/>
          <p:cNvPicPr/>
          <p:nvPr/>
        </p:nvPicPr>
        <p:blipFill>
          <a:blip r:embed="rId2"/>
          <a:stretch/>
        </p:blipFill>
        <p:spPr>
          <a:xfrm>
            <a:off x="2397240" y="3422520"/>
            <a:ext cx="3240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02020"/>
                </a:solidFill>
                <a:latin typeface="Comic Sans MS"/>
              </a:rPr>
              <a:t>Отгадайте, какие овощ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1611360" y="1636560"/>
            <a:ext cx="34243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аленький, горький луку б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чеснок"/>
          <p:cNvPicPr/>
          <p:nvPr/>
        </p:nvPicPr>
        <p:blipFill>
          <a:blip r:embed="rId1"/>
          <a:stretch/>
        </p:blipFill>
        <p:spPr>
          <a:xfrm>
            <a:off x="5969160" y="1494000"/>
            <a:ext cx="2895480" cy="208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Огурец_ред"/>
          <p:cNvPicPr/>
          <p:nvPr/>
        </p:nvPicPr>
        <p:blipFill>
          <a:blip r:embed="rId2"/>
          <a:stretch/>
        </p:blipFill>
        <p:spPr>
          <a:xfrm>
            <a:off x="2540160" y="4351320"/>
            <a:ext cx="2895480" cy="20574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5468760" y="4494240"/>
            <a:ext cx="3967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62699"/>
                </a:solidFill>
                <a:latin typeface="Comic Sans MS"/>
              </a:rPr>
              <a:t>Без окон, без две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62699"/>
                </a:solidFill>
                <a:latin typeface="Comic Sans MS"/>
              </a:rPr>
              <a:t>Полна горница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ArbatDi"/>
              </a:rPr>
              <a:t>Отгадайте, какие овощ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1611360" y="1708200"/>
            <a:ext cx="39718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omic Sans MS"/>
              </a:rPr>
              <a:t>Семьдесят одёжек и все без застёж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6" descr="капуста"/>
          <p:cNvPicPr/>
          <p:nvPr/>
        </p:nvPicPr>
        <p:blipFill>
          <a:blip r:embed="rId1"/>
          <a:stretch/>
        </p:blipFill>
        <p:spPr>
          <a:xfrm>
            <a:off x="5183280" y="1351080"/>
            <a:ext cx="236196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9" descr="мороковь"/>
          <p:cNvPicPr/>
          <p:nvPr/>
        </p:nvPicPr>
        <p:blipFill>
          <a:blip r:embed="rId2"/>
          <a:stretch/>
        </p:blipFill>
        <p:spPr>
          <a:xfrm>
            <a:off x="2682720" y="4422600"/>
            <a:ext cx="2362320" cy="22100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5183280" y="4065480"/>
            <a:ext cx="392724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Comic Sans MS"/>
              </a:rPr>
              <a:t>Расту в земле на грядке я; красная, длинная, слад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664d"/>
                </a:solidFill>
                <a:latin typeface="Comic Sans MS"/>
              </a:rPr>
              <a:t>Отгадайте, какие овощ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825480" y="1422360"/>
            <a:ext cx="50389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идит дед, во сто шуб о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то его разде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от слёзы прол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6" descr="лук.jpg"/>
          <p:cNvPicPr/>
          <p:nvPr/>
        </p:nvPicPr>
        <p:blipFill>
          <a:blip r:embed="rId1"/>
          <a:stretch/>
        </p:blipFill>
        <p:spPr>
          <a:xfrm>
            <a:off x="6467400" y="1279440"/>
            <a:ext cx="2212920" cy="22068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754600" y="3637080"/>
            <a:ext cx="39672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Сверху зелено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Снизу красно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В землю вро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5" descr="свекла.jpg"/>
          <p:cNvPicPr/>
          <p:nvPr/>
        </p:nvPicPr>
        <p:blipFill>
          <a:blip r:embed="rId2"/>
          <a:stretch/>
        </p:blipFill>
        <p:spPr>
          <a:xfrm>
            <a:off x="2682720" y="3638520"/>
            <a:ext cx="3095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Что лишне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1800360" y="1474920"/>
            <a:ext cx="1560240" cy="2274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5977080" y="1474920"/>
            <a:ext cx="2139840" cy="21891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3"/>
          <a:stretch/>
        </p:blipFill>
        <p:spPr>
          <a:xfrm>
            <a:off x="1295280" y="4140360"/>
            <a:ext cx="2322720" cy="2187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6272280" y="4140360"/>
            <a:ext cx="1547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5:36:18Z</dcterms:created>
  <dc:creator>777</dc:creator>
  <dc:description/>
  <dc:language>en-US</dc:language>
  <cp:lastModifiedBy>777</cp:lastModifiedBy>
  <dcterms:modified xsi:type="dcterms:W3CDTF">2022-11-17T14:03:11Z</dcterms:modified>
  <cp:revision>19</cp:revision>
  <dc:subject/>
  <dc:title>«Все, что выросло на грядке, назовём мы по порядку…»</dc:title>
</cp:coreProperties>
</file>