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647-CF25-4D2B-AB71-C11558D6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352-6ABE-4010-BE7C-30BC3E0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28C-9948-40B4-9E5B-E27D5282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72B-D9F9-4F3D-BD77-9984601A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70F-CECC-43D7-91C3-992DCA8F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E2F-C961-4F8F-98AA-66E07496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375-0EE4-49FE-8314-4A4CEB8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3CF-BB2B-4CCB-85AB-37A7174A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3CA-D981-453D-BBB9-7D029858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916-44CA-48CB-9F4A-0642EC9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842-647C-441B-AE71-2B6C392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2AE-4316-47EC-B00C-D59086B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E66-3DF6-4A34-A6B0-361B5F61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5T09:14:04Z</dcterms:created>
  <dc:creator>emachines</dc:creator>
  <dc:description/>
  <dc:language>en-US</dc:language>
  <cp:lastModifiedBy>emachines</cp:lastModifiedBy>
  <dcterms:modified xsi:type="dcterms:W3CDTF">2022-11-15T09:14:34Z</dcterms:modified>
  <cp:revision>1</cp:revision>
  <dc:subject/>
  <dc:title>Слайд 1</dc:title>
</cp:coreProperties>
</file>