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17D-0F02-46A4-9E48-2015EB86F2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ридические лица (хозяйственные товарищества, хозяйственные общества, производственный кооперати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сударство – муниципальные и государственные унитарные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EB1-9172-4A20-BD60-92A2FD57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52A-7140-43D2-A09E-CE03A92B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D26-63B8-418E-B858-BD173FC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199-E2F4-4F52-AA66-9B6F98D3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60C-7A0E-4B5A-8471-13113A32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DCE0-3C20-4D7B-A8B1-B74AC8C0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9E6-4CCF-43BC-A464-F1FB594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EEB-B691-445E-BED1-D1FF377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5A52-280E-4B22-8AA8-31F22A77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EDC7-13BD-48C3-8410-71FACAE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249-A477-4A3D-AB97-6E4E135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A62-554A-43BE-A6B1-80215737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A0CD-0ECD-45AB-B306-137F67D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BAD-2F98-495B-B908-124B275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3AD-D5FA-4CC3-915B-B9BF60B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C631-181A-40DE-A737-4CA35137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235D-3B20-439D-9DB7-CE9CA243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000-A8CF-4A16-8C25-0D7CAD27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5BA-F263-432C-8559-57259D1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1B4-4E9B-479A-AE38-D1163ED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313-2ABD-4F7D-A9EC-1EF934DB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34E-2842-475D-A1D1-8CEA9D1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717-472F-4DD5-811A-CA309CC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83-7C19-486B-8CE2-52C7664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B43-C044-4301-ACD0-B754CD1AD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738-C5DC-438D-ACC6-991C3AB2BA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кой 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вич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й предприним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физически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государственная регист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не оговорен, час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 всем обязательствам отвечает своим имущ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 себе хозяин, легко зарегистрировать, не требуется большого стартового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граниченная  имущественная ответственность, высокие риски, трудно создать большой масштаб, ограниченность стартового капитала, сложность получить в банке кред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ндивидуальные предприниматели и коммерческие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учредительный 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не оговорен, вклады участников, полных товарищ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 всем обязательствам отвечают своим имуществом солида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динение усилий, идей, способностей, разделение труда и  функций управления, возможность привлечь специал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жнее организов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граниченная имущественная ответственность, конфли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варищество на в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ндивидуальные предприниматели и коммерческие организации, участники-вклад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учредительный 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не оговорен, вклады полных товарищей и участников-вкладч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 всем обязательствам товарищи отвечают своим имуществом солидарно, участники-вкладчики – в пределах внесенного вкл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динение усилий, идей, способностей, разделение труда и  функций управления, возможность привлечь специал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жнее организов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граниченная имущественная ответственность товарищей, конфли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 (ОО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физические и юридические лица, коммерческие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уст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вклады участников, разделен на доли в соответствии с учредительными документ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граниченная имущественная ответственность – отвечают в пределах своих вкла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стая процедура выхода из общества, ограниченная имущественная ответ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жнее организова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буется более крупный уставной капитал, конфлик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ционерное общество (А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акционеры – физические и юридические лица, коммерческие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у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уставной капитал разделен на определенное число акций. Формы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А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акционер не отвечает по обязательствам общества, в пределах своего вкла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кая надежность и стабильность, проще взять кредит в банке, возможность привлечения специалистов, привлечь новые инвестиции, ограниченная ответственность, конкурентоспособ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жно и дорого организовать, требуются услуги специалистов, опасность «размывания» прав собственности, отсутствует коммерческая тайна, сложно управлять, двойное налогооб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итарное пред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рганы государственного управления или органы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дительные 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уст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является государственной или муниципальной собственностью, имущество не может быть продано, сдано в аренду, имущество не дели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твечают перед государственной или муниципальной вл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+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, как правило, не дает обанкротиться, мало конкур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-»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жная процедура смены лица-учред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мятка начинающего предприним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руководство, содержащее информацию о том, что следует дел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ринятие решения и его оформл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новление государственной власти о создани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окол заседания учре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оличное решение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дготовка учредительных документ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уст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ление учредительного догов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роверка наименования фирмы на неповторяе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Формирование устав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дача документов для регистр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ые документы: заявление, учредительные документы. Копии свидетельств о регистрации учредителей – юридических ли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ы, подтверждающие уплату государственной пошл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«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, зарегистрированными в этом качестве в установленном законе порядк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тья 2 п.1  ГК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формление свидетельства о государственной регистрации внесение юридического лица в Единый государственный реес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Регистрация в органах стат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ткрытие расчетного счета в ба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Изготовление печа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становка на учет в налоговом орган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воение ИН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идетельство о постановке на учет в налоговом орга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есение в государственный реестр пред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ткрыть свое дел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становка на учет в государственных внебюджетных социальных фонд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сионный фон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д ОМ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д государственного социального страх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д занят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основы предприниматель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равовые формы предприниматель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«Как открыть свое дел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ринимательство, субъекты предпринимательской деятельности, предпринимательские право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Предприниматель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амостоятельная, инициативная экономическая деятельность, направленная на получение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принимательские 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ономический и социальный аспект в предпринимательстве тесно связ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кции предприниматель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сурс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оединение ресурсов в единое цел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изацион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использование своих способностей для получения высокого дох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к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применение новаторства в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ловия для успешного развития предприниматель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ономическая своб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держка конкурентной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правового 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точники предпринимательского пра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К РФ, КоАП РФ, УК РФ, Налоговый коде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З «О государственной регистрации юридических лиц и индивидуальных предпринимателе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З «О лицензировании отдельных видов деятель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З «Об акционерных общества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З «О защите конкурен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авовые основ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овое регулирование предпринимательства строится на правовых  принцип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вободной экономическ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ть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нституции Р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цип под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обросовестной конкуре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ногообразия форм собств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ть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нституции Р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Картинки по запросу субъекты предпринимательского права"/>
          <p:cNvPicPr/>
          <p:nvPr/>
        </p:nvPicPr>
        <p:blipFill>
          <a:blip r:embed="rId1"/>
          <a:srcRect l="3604" t="0" r="5769" b="0"/>
          <a:stretch/>
        </p:blipFill>
        <p:spPr>
          <a:xfrm>
            <a:off x="457200" y="1905120"/>
            <a:ext cx="83818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905120"/>
          <a:ext cx="8763120" cy="365724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0520"/>
                <a:gridCol w="1460520"/>
                <a:gridCol w="1460520"/>
                <a:gridCol w="1460520"/>
              </a:tblGrid>
              <a:tr h="133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-правов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 (кем создаетс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редительны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 и «-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5T13:24:53Z</dcterms:created>
  <dc:creator>Ника</dc:creator>
  <dc:description/>
  <dc:language>en-US</dc:language>
  <cp:lastModifiedBy>User</cp:lastModifiedBy>
  <dcterms:modified xsi:type="dcterms:W3CDTF">2022-11-17T11:29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