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40.png" ContentType="image/png"/>
  <Override PartName="/ppt/media/image39.png" ContentType="image/png"/>
  <Override PartName="/ppt/media/image41.png" ContentType="image/png"/>
  <Override PartName="/ppt/media/image37.gif" ContentType="image/gif"/>
  <Override PartName="/ppt/media/image26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5.png" ContentType="image/png"/>
  <Override PartName="/ppt/media/image6.jpeg" ContentType="image/jpeg"/>
  <Override PartName="/ppt/media/image46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19.jpeg" ContentType="image/jpeg"/>
  <Override PartName="/ppt/media/image28.png" ContentType="image/png"/>
  <Override PartName="/ppt/media/image7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8C6-4209-4C54-AF21-41E15A65A2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3817-62DB-4A7D-89D9-C4E521B6CC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7A9A-6346-45B3-BEA8-EC69CECF3B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D530-9723-4A66-9896-0192529D63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FA19-6122-43AD-854E-1B6E24FE36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F23A-ECAB-4A2A-BF2B-04FFD8EBE7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057-343E-4974-BBFD-5340E47F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536-8A0D-4EF7-BF2A-05F13968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1B1-D222-4C3D-85C6-662261AC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09E-C13B-4D33-8499-CEA038CA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B722-FBF2-4637-8080-E49F8BFE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B75F-C852-4E3F-A0D8-A77E3348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CE39-07F7-4504-824F-69627CF7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B4E3-44F9-4789-B785-9C883E6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3478-63AE-4FD3-95CC-FF7619F1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027-D121-423A-A125-3DAD27F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8B2-EE0C-46C2-9E19-82D2A95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D83-03FC-42A4-B0A3-4CBFBD2D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0230-A40D-4D44-92C0-0EE8A0B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7893-5124-4A08-8E55-7C5A81F0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979A-DAA1-479F-B058-DF8C636D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7972-B5F3-448F-9287-672EE11B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95A-80F8-4474-A257-9271E3C1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7D3A-5F1F-4328-BC3A-B8E7A8C0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7DE7-37AA-412B-A4FA-0F4ECD39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CAEC-28EF-48E9-B385-51391805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B380-27C8-4C21-997E-F6656E94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C758-02BD-4E64-AD3E-D6601F80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8B5-5FF7-43C5-A5C0-38F24909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1916-B139-4456-94DB-3CAC94EE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80C3-D31D-4401-BDFA-76C6F9F9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9816-4C49-49B9-8B83-F00FD14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8AE6-A436-4C3B-BD18-70C3ACCA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9815-3092-4485-B9E3-F0B3046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8E18-0371-4DD8-A390-7760EA74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C94B-8EAD-4FBB-8446-CD4166F2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3D20-EAFA-4B53-97AA-D18E8E10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E406-AE60-4A6C-846A-94325A44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5127B-B123-4984-9473-2FA24D0C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F9B-DD1A-4B87-8928-C47C46E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8761-DAD4-4551-AEEA-E4BE07A9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6989-D0B6-4975-8DDF-D2F0DB6A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CD70-FDDB-442F-A783-376696A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A44D-9893-48C2-A4FC-03EA755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C4D4-2BAA-47A4-8212-CAD4FE61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7B35E-9F93-47C2-A9CD-5C4DE4CD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B09A3-0562-4956-9617-87DB506A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A57D-4C83-4D1B-97B6-53535AA0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B1BF-E00A-4A6D-95B6-6A74CE7A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8C3D-ED72-4879-8F3F-8AFD4887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BE1-1AA9-4DED-B992-7BD44F82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C1C93-1D0B-49CC-A225-4A5158E4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9227-D3BC-4F69-A17D-ED23B0A3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D2B01-59DF-4376-96C9-AB61983E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C147-C2AA-4576-A64A-B4A01211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6CA0A-0A3A-422A-AFC7-AD7BD8A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B196E-CB79-4047-AA05-09D709B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9962-B6FC-42F3-993E-3A14DF6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9FF2-1399-498E-A200-379E4DED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F6B1-C4F9-467E-A6B6-DE7867E5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A3C2-0DD1-4C66-A0C6-75BC6313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FFF-9713-4C2C-91E7-F7937532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41DB6-2378-4685-81B0-A6EBDA00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455-B031-4065-875F-F61DF632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BB2-9509-4DA8-83EA-6B6E13C6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64D-DA19-404A-89E7-D179855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272B-B37E-4106-9706-C7381B47533C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B93-55B0-43FC-8565-F67655B5FB6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8F70-9828-4DBA-B18C-C63375C3BC12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2EC3-A046-4F4A-9350-B75DDE36587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0DE7-0768-48A6-A9A0-D464CF8F08E8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FF96-92E6-4A13-B71A-98633D22924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F77-3AD5-42A4-AAE4-23E7F1FF63D4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68F-10D1-4DA5-958A-DB22B211C73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096C-9FDA-42B1-8D40-DD2F5B819476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E4C4-8F13-4EC6-A8A3-FAD43D2C618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63280" y="476280"/>
            <a:ext cx="5589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45f07"/>
                </a:solidFill>
                <a:latin typeface="Arial"/>
              </a:rPr>
              <a:t>«Помощь Незнайке»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1400" spc="-1" strike="noStrike">
                <a:solidFill>
                  <a:srgbClr val="9a743a"/>
                </a:solidFill>
                <a:latin typeface="Arial"/>
              </a:rPr>
              <a:t>Подготовил:</a:t>
            </a:r>
            <a:br>
              <a:rPr sz="1400"/>
            </a:br>
            <a:r>
              <a:rPr b="0" lang="ru-RU" sz="1400" spc="-1" strike="noStrike">
                <a:solidFill>
                  <a:srgbClr val="9a743a"/>
                </a:solidFill>
                <a:latin typeface="Arial"/>
              </a:rPr>
              <a:t>Воспитатель: Аджиева С.С.</a:t>
            </a:r>
            <a:br>
              <a:rPr sz="1400"/>
            </a:br>
            <a:endParaRPr b="1" lang="en-US" sz="14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D718-C19D-4242-BB65-04FA54F8ABB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http://baklanova.moy.su/gif-knopka/neznaika-animate.gif"/>
          <p:cNvPicPr/>
          <p:nvPr/>
        </p:nvPicPr>
        <p:blipFill>
          <a:blip r:embed="rId1"/>
          <a:stretch/>
        </p:blipFill>
        <p:spPr>
          <a:xfrm flipH="1" rot="20308200">
            <a:off x="1198080" y="4183200"/>
            <a:ext cx="1730520" cy="19555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1116000" y="549360"/>
            <a:ext cx="7343640" cy="576000"/>
          </a:xfrm>
          <a:prstGeom prst="rect">
            <a:avLst/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65656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a743a"/>
                </a:solidFill>
                <a:latin typeface="Arial"/>
              </a:rPr>
              <a:t>МБОУ «СОШ № 7» (дошкольное образов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8040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8365a"/>
                </a:solidFill>
                <a:latin typeface="Arial"/>
              </a:rPr>
              <a:t>Физминутка</a:t>
            </a:r>
            <a:endParaRPr b="1" lang="en-US" sz="54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C5F9-A517-49C8-98A3-49707191B67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550800" y="1125360"/>
            <a:ext cx="77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В старом дереве дуп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Это домик буквы О.  </a:t>
            </a:r>
            <a:r>
              <a:rPr b="1" lang="ru-RU" sz="1800" spc="-1" strike="noStrike">
                <a:solidFill>
                  <a:srgbClr val="48365a"/>
                </a:solidFill>
                <a:latin typeface="Times New Roman"/>
              </a:rPr>
              <a:t>(Дети делают круговые движения рукам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Рядом с нею на су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Примостилась буква У.  </a:t>
            </a:r>
            <a:r>
              <a:rPr b="1" lang="ru-RU" sz="1800" spc="-1" strike="noStrike">
                <a:solidFill>
                  <a:srgbClr val="48365a"/>
                </a:solidFill>
                <a:latin typeface="Times New Roman"/>
              </a:rPr>
              <a:t>(Садятся на корточк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В гости к ним изда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Прибежала буква А. </a:t>
            </a:r>
            <a:r>
              <a:rPr b="0" lang="ru-RU" sz="1800" spc="-1" strike="noStrike">
                <a:solidFill>
                  <a:srgbClr val="48365a"/>
                </a:solidFill>
                <a:latin typeface="Times New Roman"/>
              </a:rPr>
              <a:t>(Бегут на мест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Прилетела   буква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На спине у воробья. </a:t>
            </a:r>
            <a:r>
              <a:rPr b="1" lang="ru-RU" sz="1800" spc="-1" strike="noStrike">
                <a:solidFill>
                  <a:srgbClr val="48365a"/>
                </a:solidFill>
                <a:latin typeface="Times New Roman"/>
              </a:rPr>
              <a:t>(Машут руками, как крыльям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Буквы стали весели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И смеяться, и круж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То попрыгают немнож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То похлопают в ладо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То присядут отдохн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141b"/>
                </a:solidFill>
                <a:latin typeface="Times New Roman"/>
              </a:rPr>
              <a:t>То опять плясать нач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480960" y="2903400"/>
            <a:ext cx="81820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639720"/>
            <a:ext cx="81835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             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«Ребусы»</a:t>
            </a:r>
            <a:endParaRPr b="1" lang="en-US" sz="48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5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7410-A123-47D4-893F-5503F174F37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Прямоугольник 2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674200" cy="446256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6" descr=""/>
          <p:cNvPicPr/>
          <p:nvPr/>
        </p:nvPicPr>
        <p:blipFill>
          <a:blip r:embed="rId2"/>
          <a:stretch/>
        </p:blipFill>
        <p:spPr>
          <a:xfrm>
            <a:off x="476280" y="4943520"/>
            <a:ext cx="955800" cy="82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3"/>
          <p:cNvSpPr/>
          <p:nvPr/>
        </p:nvSpPr>
        <p:spPr>
          <a:xfrm>
            <a:off x="2520" y="-367200"/>
            <a:ext cx="64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Прямоугольник 8" descr=""/>
          <p:cNvPicPr/>
          <p:nvPr/>
        </p:nvPicPr>
        <p:blipFill>
          <a:blip r:embed="rId3"/>
          <a:stretch/>
        </p:blipFill>
        <p:spPr>
          <a:xfrm>
            <a:off x="755640" y="1646280"/>
            <a:ext cx="5907240" cy="3187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http://ladu-lad.ru/images/stories/rebus/stolb.jpg"/>
          <p:cNvPicPr/>
          <p:nvPr/>
        </p:nvPicPr>
        <p:blipFill>
          <a:blip r:embed="rId4"/>
          <a:stretch/>
        </p:blipFill>
        <p:spPr>
          <a:xfrm>
            <a:off x="1332000" y="1757520"/>
            <a:ext cx="6408720" cy="34002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92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6853-54FF-40C6-AA02-1AE169EE2A4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826920" y="1522440"/>
            <a:ext cx="3602160" cy="3300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root\Pictures\i22.jpeg"/>
          <p:cNvPicPr/>
          <p:nvPr/>
        </p:nvPicPr>
        <p:blipFill>
          <a:blip r:embed="rId2"/>
          <a:stretch/>
        </p:blipFill>
        <p:spPr>
          <a:xfrm>
            <a:off x="4383000" y="1844640"/>
            <a:ext cx="30607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5044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1" lang="en-US" sz="79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96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0CF6-E5E7-4B39-BA85-8F4C6E12ED5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Овальная выноска 7"/>
          <p:cNvGrpSpPr/>
          <p:nvPr/>
        </p:nvGrpSpPr>
        <p:grpSpPr>
          <a:xfrm>
            <a:off x="3895560" y="853920"/>
            <a:ext cx="4005360" cy="1986120"/>
            <a:chOff x="3895560" y="853920"/>
            <a:chExt cx="4005360" cy="1986120"/>
          </a:xfrm>
        </p:grpSpPr>
        <p:pic>
          <p:nvPicPr>
            <p:cNvPr id="298" name="Овальная выноска 7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895560" y="853920"/>
              <a:ext cx="4005360" cy="19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932360" y="1108080"/>
              <a:ext cx="24354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0" spc="-1" strike="noStrike">
                  <a:solidFill>
                    <a:srgbClr val="ffffff"/>
                  </a:solidFill>
                  <a:latin typeface="Cambria"/>
                </a:rPr>
                <a:t>?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Прямоугольник 8" descr=""/>
          <p:cNvPicPr/>
          <p:nvPr/>
        </p:nvPicPr>
        <p:blipFill>
          <a:blip r:embed="rId3"/>
          <a:stretch/>
        </p:blipFill>
        <p:spPr>
          <a:xfrm>
            <a:off x="1328760" y="1670040"/>
            <a:ext cx="3035160" cy="6462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0" descr=""/>
          <p:cNvPicPr/>
          <p:nvPr/>
        </p:nvPicPr>
        <p:blipFill>
          <a:blip r:embed="rId4"/>
          <a:stretch/>
        </p:blipFill>
        <p:spPr>
          <a:xfrm>
            <a:off x="3565440" y="3103560"/>
            <a:ext cx="4676760" cy="19447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9" descr="картинки для детей незнайки думающего"/>
          <p:cNvPicPr/>
          <p:nvPr/>
        </p:nvPicPr>
        <p:blipFill>
          <a:blip r:embed="rId5"/>
          <a:stretch/>
        </p:blipFill>
        <p:spPr>
          <a:xfrm>
            <a:off x="395280" y="2768760"/>
            <a:ext cx="3456000" cy="32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FE3A-4F04-47DE-A3CE-615B27DDD77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G:\ммп\kidsanddesks.gif"/>
          <p:cNvPicPr/>
          <p:nvPr/>
        </p:nvPicPr>
        <p:blipFill>
          <a:blip r:embed="rId1"/>
          <a:stretch/>
        </p:blipFill>
        <p:spPr>
          <a:xfrm>
            <a:off x="4211640" y="549360"/>
            <a:ext cx="4321080" cy="3166920"/>
          </a:xfrm>
          <a:prstGeom prst="rect">
            <a:avLst/>
          </a:prstGeom>
          <a:ln w="0">
            <a:noFill/>
          </a:ln>
        </p:spPr>
      </p:pic>
      <p:grpSp>
        <p:nvGrpSpPr>
          <p:cNvPr id="305" name="Фигура, имеющая форму буквы L 7"/>
          <p:cNvGrpSpPr/>
          <p:nvPr/>
        </p:nvGrpSpPr>
        <p:grpSpPr>
          <a:xfrm>
            <a:off x="579600" y="3376440"/>
            <a:ext cx="1073160" cy="1073160"/>
            <a:chOff x="579600" y="3376440"/>
            <a:chExt cx="1073160" cy="1073160"/>
          </a:xfrm>
        </p:grpSpPr>
        <p:pic>
          <p:nvPicPr>
            <p:cNvPr id="306" name="Фигура, имеющая форму буквы L 7" descr=""/>
            <p:cNvPicPr/>
            <p:nvPr/>
          </p:nvPicPr>
          <p:blipFill>
            <a:blip r:embed="rId2"/>
            <a:stretch/>
          </p:blipFill>
          <p:spPr>
            <a:xfrm>
              <a:off x="579600" y="3376440"/>
              <a:ext cx="1073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4520" y="3414600"/>
              <a:ext cx="2365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Фигура, имеющая форму буквы L 8"/>
          <p:cNvGrpSpPr/>
          <p:nvPr/>
        </p:nvGrpSpPr>
        <p:grpSpPr>
          <a:xfrm>
            <a:off x="579600" y="4608360"/>
            <a:ext cx="1073160" cy="1073160"/>
            <a:chOff x="579600" y="4608360"/>
            <a:chExt cx="1073160" cy="1073160"/>
          </a:xfrm>
        </p:grpSpPr>
        <p:pic>
          <p:nvPicPr>
            <p:cNvPr id="309" name="Фигура, имеющая форму буквы L 8" descr=""/>
            <p:cNvPicPr/>
            <p:nvPr/>
          </p:nvPicPr>
          <p:blipFill>
            <a:blip r:embed="rId3"/>
            <a:stretch/>
          </p:blipFill>
          <p:spPr>
            <a:xfrm>
              <a:off x="579600" y="4608360"/>
              <a:ext cx="1073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14520" y="4643280"/>
              <a:ext cx="23652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Прямоугольник 10"/>
          <p:cNvGrpSpPr/>
          <p:nvPr/>
        </p:nvGrpSpPr>
        <p:grpSpPr>
          <a:xfrm>
            <a:off x="1792440" y="4170240"/>
            <a:ext cx="1212840" cy="285840"/>
            <a:chOff x="1792440" y="4170240"/>
            <a:chExt cx="1212840" cy="285840"/>
          </a:xfrm>
        </p:grpSpPr>
        <p:pic>
          <p:nvPicPr>
            <p:cNvPr id="312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1792440" y="4170240"/>
              <a:ext cx="12128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827360" y="4205160"/>
              <a:ext cx="1143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Прямоугольник 12"/>
          <p:cNvGrpSpPr/>
          <p:nvPr/>
        </p:nvGrpSpPr>
        <p:grpSpPr>
          <a:xfrm>
            <a:off x="3029040" y="5383080"/>
            <a:ext cx="1218960" cy="285840"/>
            <a:chOff x="3029040" y="5383080"/>
            <a:chExt cx="1218960" cy="285840"/>
          </a:xfrm>
        </p:grpSpPr>
        <p:pic>
          <p:nvPicPr>
            <p:cNvPr id="315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3029040" y="5383080"/>
              <a:ext cx="121896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068640" y="5418000"/>
              <a:ext cx="1143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Прямоугольник 14"/>
          <p:cNvGrpSpPr/>
          <p:nvPr/>
        </p:nvGrpSpPr>
        <p:grpSpPr>
          <a:xfrm>
            <a:off x="1725480" y="5383080"/>
            <a:ext cx="1219320" cy="292320"/>
            <a:chOff x="1725480" y="5383080"/>
            <a:chExt cx="1219320" cy="292320"/>
          </a:xfrm>
        </p:grpSpPr>
        <p:pic>
          <p:nvPicPr>
            <p:cNvPr id="318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1725480" y="5383080"/>
              <a:ext cx="121932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763640" y="5421240"/>
              <a:ext cx="1143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Овал 16"/>
          <p:cNvGrpSpPr/>
          <p:nvPr/>
        </p:nvGrpSpPr>
        <p:grpSpPr>
          <a:xfrm>
            <a:off x="3029040" y="2925720"/>
            <a:ext cx="360360" cy="360360"/>
            <a:chOff x="3029040" y="2925720"/>
            <a:chExt cx="360360" cy="360360"/>
          </a:xfrm>
        </p:grpSpPr>
        <p:pic>
          <p:nvPicPr>
            <p:cNvPr id="321" name="Овал 16" descr=""/>
            <p:cNvPicPr/>
            <p:nvPr/>
          </p:nvPicPr>
          <p:blipFill>
            <a:blip r:embed="rId7"/>
            <a:stretch/>
          </p:blipFill>
          <p:spPr>
            <a:xfrm>
              <a:off x="3029040" y="29257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110040" y="30020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Равнобедренный треугольник 1"/>
          <p:cNvSpPr/>
          <p:nvPr/>
        </p:nvSpPr>
        <p:spPr>
          <a:xfrm>
            <a:off x="3191040" y="4133880"/>
            <a:ext cx="325440" cy="285840"/>
          </a:xfrm>
          <a:prstGeom prst="triangle">
            <a:avLst>
              <a:gd name="adj" fmla="val 5328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Овал 24"/>
          <p:cNvGrpSpPr/>
          <p:nvPr/>
        </p:nvGrpSpPr>
        <p:grpSpPr>
          <a:xfrm>
            <a:off x="6089760" y="5334120"/>
            <a:ext cx="360360" cy="360360"/>
            <a:chOff x="6089760" y="5334120"/>
            <a:chExt cx="360360" cy="360360"/>
          </a:xfrm>
        </p:grpSpPr>
        <p:pic>
          <p:nvPicPr>
            <p:cNvPr id="325" name="Овал 24" descr=""/>
            <p:cNvPicPr/>
            <p:nvPr/>
          </p:nvPicPr>
          <p:blipFill>
            <a:blip r:embed="rId8"/>
            <a:stretch/>
          </p:blipFill>
          <p:spPr>
            <a:xfrm>
              <a:off x="6089760" y="53341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168960" y="541188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Прямоугольник 27"/>
          <p:cNvGrpSpPr/>
          <p:nvPr/>
        </p:nvGrpSpPr>
        <p:grpSpPr>
          <a:xfrm>
            <a:off x="4821120" y="5383080"/>
            <a:ext cx="1214640" cy="292320"/>
            <a:chOff x="4821120" y="5383080"/>
            <a:chExt cx="1214640" cy="292320"/>
          </a:xfrm>
        </p:grpSpPr>
        <p:pic>
          <p:nvPicPr>
            <p:cNvPr id="328" name="Прямоугольник 27" descr=""/>
            <p:cNvPicPr/>
            <p:nvPr/>
          </p:nvPicPr>
          <p:blipFill>
            <a:blip r:embed="rId9"/>
            <a:stretch/>
          </p:blipFill>
          <p:spPr>
            <a:xfrm>
              <a:off x="4821120" y="5383080"/>
              <a:ext cx="121464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856040" y="5421240"/>
              <a:ext cx="1143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Равнобедренный треугольник 28"/>
          <p:cNvSpPr/>
          <p:nvPr/>
        </p:nvSpPr>
        <p:spPr>
          <a:xfrm>
            <a:off x="4367160" y="5370480"/>
            <a:ext cx="325440" cy="285840"/>
          </a:xfrm>
          <a:prstGeom prst="triangle">
            <a:avLst>
              <a:gd name="adj" fmla="val 5328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Фигура, имеющая форму буквы L 29"/>
          <p:cNvGrpSpPr/>
          <p:nvPr/>
        </p:nvGrpSpPr>
        <p:grpSpPr>
          <a:xfrm>
            <a:off x="579600" y="2176560"/>
            <a:ext cx="1073160" cy="1073160"/>
            <a:chOff x="579600" y="2176560"/>
            <a:chExt cx="1073160" cy="1073160"/>
          </a:xfrm>
        </p:grpSpPr>
        <p:pic>
          <p:nvPicPr>
            <p:cNvPr id="332" name="Фигура, имеющая форму буквы L 29" descr=""/>
            <p:cNvPicPr/>
            <p:nvPr/>
          </p:nvPicPr>
          <p:blipFill>
            <a:blip r:embed="rId10"/>
            <a:stretch/>
          </p:blipFill>
          <p:spPr>
            <a:xfrm>
              <a:off x="579600" y="2176560"/>
              <a:ext cx="1073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" y="2209680"/>
              <a:ext cx="2365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Прямоугольник 30"/>
          <p:cNvGrpSpPr/>
          <p:nvPr/>
        </p:nvGrpSpPr>
        <p:grpSpPr>
          <a:xfrm>
            <a:off x="1762200" y="2962440"/>
            <a:ext cx="1212840" cy="287280"/>
            <a:chOff x="1762200" y="2962440"/>
            <a:chExt cx="1212840" cy="287280"/>
          </a:xfrm>
        </p:grpSpPr>
        <p:pic>
          <p:nvPicPr>
            <p:cNvPr id="335" name="Прямоугольник 30" descr=""/>
            <p:cNvPicPr/>
            <p:nvPr/>
          </p:nvPicPr>
          <p:blipFill>
            <a:blip r:embed="rId11"/>
            <a:stretch/>
          </p:blipFill>
          <p:spPr>
            <a:xfrm>
              <a:off x="1762200" y="2962440"/>
              <a:ext cx="12128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795320" y="2995560"/>
              <a:ext cx="11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Прямоугольник 31"/>
          <p:cNvGrpSpPr/>
          <p:nvPr/>
        </p:nvGrpSpPr>
        <p:grpSpPr>
          <a:xfrm>
            <a:off x="3651120" y="4170240"/>
            <a:ext cx="1219320" cy="285840"/>
            <a:chOff x="3651120" y="4170240"/>
            <a:chExt cx="1219320" cy="285840"/>
          </a:xfrm>
        </p:grpSpPr>
        <p:pic>
          <p:nvPicPr>
            <p:cNvPr id="338" name="Прямоугольник 31" descr=""/>
            <p:cNvPicPr/>
            <p:nvPr/>
          </p:nvPicPr>
          <p:blipFill>
            <a:blip r:embed="rId12"/>
            <a:stretch/>
          </p:blipFill>
          <p:spPr>
            <a:xfrm>
              <a:off x="3651120" y="4170240"/>
              <a:ext cx="121932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3689280" y="4205160"/>
              <a:ext cx="1143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Овал 32"/>
          <p:cNvGrpSpPr/>
          <p:nvPr/>
        </p:nvGrpSpPr>
        <p:grpSpPr>
          <a:xfrm>
            <a:off x="4919760" y="4114800"/>
            <a:ext cx="358560" cy="360360"/>
            <a:chOff x="4919760" y="4114800"/>
            <a:chExt cx="358560" cy="360360"/>
          </a:xfrm>
        </p:grpSpPr>
        <p:pic>
          <p:nvPicPr>
            <p:cNvPr id="341" name="Овал 32" descr=""/>
            <p:cNvPicPr/>
            <p:nvPr/>
          </p:nvPicPr>
          <p:blipFill>
            <a:blip r:embed="rId13"/>
            <a:stretch/>
          </p:blipFill>
          <p:spPr>
            <a:xfrm>
              <a:off x="4919760" y="4114800"/>
              <a:ext cx="3585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000760" y="41925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4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5BF5-287F-4C13-B109-0F2B11B3206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images.myshared.ru/9/847130/slide_15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2A47-F039-4D1B-B564-B5BF4B178A7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3" descr="http://fs1.ppt4web.ru/images/95231/145299/640/img0.jpg"/>
          <p:cNvPicPr/>
          <p:nvPr/>
        </p:nvPicPr>
        <p:blipFill>
          <a:blip r:embed="rId1"/>
          <a:stretch/>
        </p:blipFill>
        <p:spPr>
          <a:xfrm>
            <a:off x="284040" y="333360"/>
            <a:ext cx="85932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45f07"/>
                </a:solidFill>
                <a:latin typeface="Arial"/>
              </a:rPr>
              <a:t>«Дорогие ребята! Для того, чтобы хорошо учиться в школе, надо много знать, уметь, думать, догадываться. Вот и мне задали такие задания, а я затрудняюсь их выполнить. Помогите, мне, пожалуйста»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5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2634-839D-4DDE-A803-6E7C8A625D1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http://baklanova.moy.su/gif-knopka/neznaika-animate.gif"/>
          <p:cNvPicPr/>
          <p:nvPr/>
        </p:nvPicPr>
        <p:blipFill>
          <a:blip r:embed="rId1"/>
          <a:stretch/>
        </p:blipFill>
        <p:spPr>
          <a:xfrm flipH="1" rot="20308200">
            <a:off x="6515280" y="4043520"/>
            <a:ext cx="173016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183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45f07"/>
                </a:solidFill>
                <a:latin typeface="Arial"/>
              </a:rPr>
              <a:t>Назови первый звук, который есть в названии предметов группы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8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A119-FE73-46BC-AA2F-CCDB6FC4FDE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C:\Users\root\Pictures\i17.jpeg"/>
          <p:cNvPicPr/>
          <p:nvPr/>
        </p:nvPicPr>
        <p:blipFill>
          <a:blip r:embed="rId1"/>
          <a:stretch/>
        </p:blipFill>
        <p:spPr>
          <a:xfrm>
            <a:off x="3492360" y="2787480"/>
            <a:ext cx="935280" cy="1290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root\Pictures\i38.jpeg"/>
          <p:cNvPicPr/>
          <p:nvPr/>
        </p:nvPicPr>
        <p:blipFill>
          <a:blip r:embed="rId2"/>
          <a:stretch/>
        </p:blipFill>
        <p:spPr>
          <a:xfrm>
            <a:off x="4414680" y="278748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C:\Users\root\Pictures\i42.jpeg"/>
          <p:cNvPicPr/>
          <p:nvPr/>
        </p:nvPicPr>
        <p:blipFill>
          <a:blip r:embed="rId3"/>
          <a:stretch/>
        </p:blipFill>
        <p:spPr>
          <a:xfrm>
            <a:off x="7094520" y="2779560"/>
            <a:ext cx="1428840" cy="122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root\Pictures\i35.jpeg"/>
          <p:cNvPicPr/>
          <p:nvPr/>
        </p:nvPicPr>
        <p:blipFill>
          <a:blip r:embed="rId4"/>
          <a:stretch/>
        </p:blipFill>
        <p:spPr>
          <a:xfrm>
            <a:off x="1763640" y="2924280"/>
            <a:ext cx="11048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https://img2.freepng.ru/20180313/ifw/kisspng-cartoon-royalty-free-illustration-cute-little-gray-like-5aa76553adf852.9596063415209198917126.jpg"/>
          <p:cNvPicPr/>
          <p:nvPr/>
        </p:nvPicPr>
        <p:blipFill>
          <a:blip r:embed="rId5"/>
          <a:stretch/>
        </p:blipFill>
        <p:spPr>
          <a:xfrm>
            <a:off x="684360" y="2924280"/>
            <a:ext cx="934920" cy="1082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https://i.pinimg.com/originals/2c/82/b6/2c82b609c6aad535a3248ad4c49a63c7.png"/>
          <p:cNvPicPr/>
          <p:nvPr/>
        </p:nvPicPr>
        <p:blipFill>
          <a:blip r:embed="rId6"/>
          <a:stretch/>
        </p:blipFill>
        <p:spPr>
          <a:xfrm>
            <a:off x="971640" y="40766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https://i2.multilisting.su/system/photos/entity/152/737/422/medium/img.jpg?1567119827"/>
          <p:cNvPicPr/>
          <p:nvPr/>
        </p:nvPicPr>
        <p:blipFill>
          <a:blip r:embed="rId7"/>
          <a:stretch/>
        </p:blipFill>
        <p:spPr>
          <a:xfrm>
            <a:off x="3780000" y="414972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0" descr="http://www.corhelp.ru/wp-content/uploads/2015/03/Kotyonok.jpg"/>
          <p:cNvPicPr/>
          <p:nvPr/>
        </p:nvPicPr>
        <p:blipFill>
          <a:blip r:embed="rId8"/>
          <a:stretch/>
        </p:blipFill>
        <p:spPr>
          <a:xfrm>
            <a:off x="5796000" y="2708280"/>
            <a:ext cx="1297080" cy="131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2" descr="https://rc-today.ru/UserFiles/Image/4b/ac/myach_myakishi_008_futbol_008_5a7201160a091_6234_big.jpg"/>
          <p:cNvPicPr/>
          <p:nvPr/>
        </p:nvPicPr>
        <p:blipFill>
          <a:blip r:embed="rId9"/>
          <a:stretch/>
        </p:blipFill>
        <p:spPr>
          <a:xfrm>
            <a:off x="6300720" y="4149720"/>
            <a:ext cx="16876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9499-472A-4E1B-BF60-3E4CAA6E60D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334800"/>
            <a:ext cx="8723160" cy="132264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16"/>
          <p:cNvSpPr/>
          <p:nvPr/>
        </p:nvSpPr>
        <p:spPr>
          <a:xfrm>
            <a:off x="684360" y="2608200"/>
            <a:ext cx="1726920" cy="914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7"/>
          <p:cNvSpPr/>
          <p:nvPr/>
        </p:nvSpPr>
        <p:spPr>
          <a:xfrm>
            <a:off x="2843280" y="2637000"/>
            <a:ext cx="2016000" cy="9363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292720" y="2660760"/>
            <a:ext cx="2808360" cy="914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Равнобедренный треугольник 19"/>
          <p:cNvSpPr/>
          <p:nvPr/>
        </p:nvSpPr>
        <p:spPr>
          <a:xfrm>
            <a:off x="684360" y="1703520"/>
            <a:ext cx="1726920" cy="91440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Равнобедренный треугольник 20"/>
          <p:cNvSpPr/>
          <p:nvPr/>
        </p:nvSpPr>
        <p:spPr>
          <a:xfrm>
            <a:off x="2746440" y="1779480"/>
            <a:ext cx="2160360" cy="86364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Равнобедренный треугольник 21"/>
          <p:cNvSpPr/>
          <p:nvPr/>
        </p:nvSpPr>
        <p:spPr>
          <a:xfrm>
            <a:off x="5264280" y="1746360"/>
            <a:ext cx="2881080" cy="91440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8" descr="C:\Users\root\Pictures\i11.jpeg"/>
          <p:cNvPicPr/>
          <p:nvPr/>
        </p:nvPicPr>
        <p:blipFill>
          <a:blip r:embed="rId2"/>
          <a:stretch/>
        </p:blipFill>
        <p:spPr>
          <a:xfrm>
            <a:off x="498600" y="4162320"/>
            <a:ext cx="1428480" cy="140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C:\Users\root\Pictures\i12.jpeg"/>
          <p:cNvPicPr/>
          <p:nvPr/>
        </p:nvPicPr>
        <p:blipFill>
          <a:blip r:embed="rId3"/>
          <a:stretch/>
        </p:blipFill>
        <p:spPr>
          <a:xfrm>
            <a:off x="2205000" y="407664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0" descr="C:\Users\root\Pictures\i13.jpeg"/>
          <p:cNvPicPr/>
          <p:nvPr/>
        </p:nvPicPr>
        <p:blipFill>
          <a:blip r:embed="rId4"/>
          <a:stretch/>
        </p:blipFill>
        <p:spPr>
          <a:xfrm>
            <a:off x="3478320" y="4410000"/>
            <a:ext cx="1428480" cy="1095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C:\Users\root\Pictures\i15.jpeg"/>
          <p:cNvPicPr/>
          <p:nvPr/>
        </p:nvPicPr>
        <p:blipFill>
          <a:blip r:embed="rId5"/>
          <a:stretch/>
        </p:blipFill>
        <p:spPr>
          <a:xfrm>
            <a:off x="5486400" y="4005360"/>
            <a:ext cx="990720" cy="1428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3" descr="C:\Users\root\Pictures\i16.jpeg"/>
          <p:cNvPicPr/>
          <p:nvPr/>
        </p:nvPicPr>
        <p:blipFill>
          <a:blip r:embed="rId6"/>
          <a:stretch/>
        </p:blipFill>
        <p:spPr>
          <a:xfrm>
            <a:off x="7164360" y="3970440"/>
            <a:ext cx="936720" cy="142848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0.53542 -0.18889 E">
                                      <p:cBhvr>
                                        <p:cTn id="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7268 L -0.16129 -0.23009 E">
                                      <p:cBhvr>
                                        <p:cTn id="1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75 L 0.00851 -0.25833 E">
                                      <p:cBhvr>
                                        <p:cTn id="1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0.05521 -0.31274 E">
                                      <p:cBhvr>
                                        <p:cTn id="1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1135 L -0.61823 -0.19861 E">
                                      <p:cBhvr>
                                        <p:cTn id="2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8F1A-7003-43D3-BF1D-292DCB1C59A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Прямоугольник 2" descr=""/>
          <p:cNvPicPr/>
          <p:nvPr/>
        </p:nvPicPr>
        <p:blipFill>
          <a:blip r:embed="rId1"/>
          <a:stretch/>
        </p:blipFill>
        <p:spPr>
          <a:xfrm>
            <a:off x="1011240" y="476280"/>
            <a:ext cx="7589880" cy="23702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4" descr=""/>
          <p:cNvPicPr/>
          <p:nvPr/>
        </p:nvPicPr>
        <p:blipFill>
          <a:blip r:embed="rId2"/>
          <a:stretch/>
        </p:blipFill>
        <p:spPr>
          <a:xfrm>
            <a:off x="755640" y="1914480"/>
            <a:ext cx="7345440" cy="612612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2B7F-75A7-402F-B7AA-600A7AF65AC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Прямоугольник 3" descr=""/>
          <p:cNvPicPr/>
          <p:nvPr/>
        </p:nvPicPr>
        <p:blipFill>
          <a:blip r:embed="rId1"/>
          <a:stretch/>
        </p:blipFill>
        <p:spPr>
          <a:xfrm>
            <a:off x="901800" y="1054080"/>
            <a:ext cx="5657760" cy="1628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s://i.mycdn.me/i?r=AyH4iRPQ2q0otWIFepML2LxRHyehMtxYwCtkw1ZtmNR-pA"/>
          <p:cNvPicPr/>
          <p:nvPr/>
        </p:nvPicPr>
        <p:blipFill>
          <a:blip r:embed="rId2"/>
          <a:stretch/>
        </p:blipFill>
        <p:spPr>
          <a:xfrm>
            <a:off x="5003640" y="306864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06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365a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48365a"/>
                </a:solidFill>
                <a:latin typeface="Arial"/>
              </a:rPr>
              <a:t>Игра</a:t>
            </a:r>
            <a:br>
              <a:rPr sz="3600"/>
            </a:br>
            <a:r>
              <a:rPr b="1" lang="ru-RU" sz="3600" spc="-1" strike="noStrike">
                <a:solidFill>
                  <a:srgbClr val="48365a"/>
                </a:solidFill>
                <a:latin typeface="Arial"/>
              </a:rPr>
              <a:t> </a:t>
            </a:r>
            <a:r>
              <a:rPr b="1" lang="ru-RU" sz="4900" spc="-1" strike="noStrike">
                <a:solidFill>
                  <a:srgbClr val="48365a"/>
                </a:solidFill>
                <a:latin typeface="Arial"/>
              </a:rPr>
              <a:t>«Потерялись животные»</a:t>
            </a:r>
            <a:endParaRPr b="1" lang="en-US" sz="49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68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347-09AA-4B1D-B89B-6AD94F9CF34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7B2E-7CE5-4DBA-A2D8-19ED9A6623C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4"/>
          <p:cNvSpPr/>
          <p:nvPr/>
        </p:nvSpPr>
        <p:spPr>
          <a:xfrm>
            <a:off x="1009800" y="2319480"/>
            <a:ext cx="1935000" cy="1752480"/>
          </a:xfrm>
          <a:prstGeom prst="rect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3924360" y="2492280"/>
            <a:ext cx="1800000" cy="1513080"/>
          </a:xfrm>
          <a:prstGeom prst="rect">
            <a:avLst/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6437160" y="2457360"/>
            <a:ext cx="1346400" cy="158292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Равнобедренный треугольник 7"/>
          <p:cNvSpPr/>
          <p:nvPr/>
        </p:nvSpPr>
        <p:spPr>
          <a:xfrm>
            <a:off x="944640" y="1405080"/>
            <a:ext cx="207000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Равнобедренный треугольник 8"/>
          <p:cNvSpPr/>
          <p:nvPr/>
        </p:nvSpPr>
        <p:spPr>
          <a:xfrm>
            <a:off x="3924360" y="1557360"/>
            <a:ext cx="1800000" cy="91440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Равнобедренный треугольник 9"/>
          <p:cNvSpPr/>
          <p:nvPr/>
        </p:nvSpPr>
        <p:spPr>
          <a:xfrm>
            <a:off x="6389640" y="1533600"/>
            <a:ext cx="144000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C:\Users\root\Pictures\i13.jpeg"/>
          <p:cNvPicPr/>
          <p:nvPr/>
        </p:nvPicPr>
        <p:blipFill>
          <a:blip r:embed="rId1"/>
          <a:stretch/>
        </p:blipFill>
        <p:spPr>
          <a:xfrm>
            <a:off x="755640" y="5013360"/>
            <a:ext cx="1224000" cy="1095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C:\Users\root\Pictures\i17.jpeg"/>
          <p:cNvPicPr/>
          <p:nvPr/>
        </p:nvPicPr>
        <p:blipFill>
          <a:blip r:embed="rId2"/>
          <a:stretch/>
        </p:blipFill>
        <p:spPr>
          <a:xfrm>
            <a:off x="2340000" y="4869000"/>
            <a:ext cx="1295280" cy="1284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C:\Users\root\Pictures\i28.jpeg"/>
          <p:cNvPicPr/>
          <p:nvPr/>
        </p:nvPicPr>
        <p:blipFill>
          <a:blip r:embed="rId3"/>
          <a:stretch/>
        </p:blipFill>
        <p:spPr>
          <a:xfrm>
            <a:off x="4067280" y="4941720"/>
            <a:ext cx="1368360" cy="1454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Users\root\Pictures\i31.jpeg"/>
          <p:cNvPicPr/>
          <p:nvPr/>
        </p:nvPicPr>
        <p:blipFill>
          <a:blip r:embed="rId4"/>
          <a:stretch/>
        </p:blipFill>
        <p:spPr>
          <a:xfrm>
            <a:off x="6372360" y="472428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05116 L -0.03542 -0.38449 E">
                                      <p:cBhvr>
                                        <p:cTn id="28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-0.11435 L 0.18107 -0.31389 E">
                                      <p:cBhvr>
                                        <p:cTn id="32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-0.01134 L -0.24792 -0.36852 E">
                                      <p:cBhvr>
                                        <p:cTn id="36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8 -0.04121 L 0.01736 -0.36667 E">
                                      <p:cBhvr>
                                        <p:cTn id="4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9:39:39Z</dcterms:created>
  <dc:creator>Проценко</dc:creator>
  <dc:description/>
  <dc:language>en-US</dc:language>
  <cp:lastModifiedBy>Алексей Ямщиков</cp:lastModifiedBy>
  <dcterms:modified xsi:type="dcterms:W3CDTF">2022-11-17T05:11:43Z</dcterms:modified>
  <cp:revision>204</cp:revision>
  <dc:subject/>
  <dc:title>Игры по обучению грамоте</dc:title>
</cp:coreProperties>
</file>