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10080625" cy="7559675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1960" y="758520"/>
            <a:ext cx="498636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2200" y="4739760"/>
            <a:ext cx="54673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653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dt" idx="4"/>
          </p:nvPr>
        </p:nvSpPr>
        <p:spPr>
          <a:xfrm>
            <a:off x="3866760" y="-360"/>
            <a:ext cx="29653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53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66760" y="9478440"/>
            <a:ext cx="29653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D8625-91C3-41B8-9251-0CE92A76C60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867120" y="9478800"/>
            <a:ext cx="2965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2ADF1-B4B8-4F87-811C-A69B8039E72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86360" cy="3740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2200" y="4739760"/>
            <a:ext cx="54673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67120" y="9478800"/>
            <a:ext cx="2965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5A9F7-2073-4776-A17C-05F4D69C57A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86360" cy="3740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2200" y="4739760"/>
            <a:ext cx="54673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67120" y="9478800"/>
            <a:ext cx="2965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74416-9F76-42BE-A6B9-C0B725DDB3B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2320" y="758880"/>
            <a:ext cx="4986360" cy="3740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2200" y="4739760"/>
            <a:ext cx="54673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67120" y="9478800"/>
            <a:ext cx="2965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50F88-2484-4374-86B7-32EFD6EE319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2A2-4D84-4F39-927B-3A821FFD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F33-918C-4AAD-9101-8E61371E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7AC-2B85-41D0-93F5-2D769A32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86B-CAB9-4DD8-B4A0-95BCDA91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D5C-37D7-403B-ABF9-7D601D77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1A0-8E29-4D0C-AB84-158B547E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9EE-78EF-47F5-A3C1-C13300C4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3EE-2F4E-4EE9-ADFB-A4D2FE14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7CA-FA14-40B6-9069-44EF3515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08A-C654-4A6A-929F-9508B37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ED4-0555-47FC-A903-AA1BEAE2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2D1-2E3D-4C8F-9F73-C9FBE9C7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A96B9-2B3B-43D5-9E2F-F647266851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русского языка в 1 класс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111120" y="4993920"/>
            <a:ext cx="5457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512720" y="5636880"/>
            <a:ext cx="7056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Заголовок 6"/>
          <p:cNvSpPr/>
          <p:nvPr/>
        </p:nvSpPr>
        <p:spPr>
          <a:xfrm>
            <a:off x="755640" y="922320"/>
            <a:ext cx="85694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Ш.шка, ёж.к, маш.на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ыж., ж.раф, камыш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825200" y="1636200"/>
            <a:ext cx="5643720" cy="300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шка         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а        лы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ыши       жи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921960"/>
            <a:ext cx="906948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Содержимое 6" descr="image-10.jpg"/>
          <p:cNvPicPr/>
          <p:nvPr/>
        </p:nvPicPr>
        <p:blipFill>
          <a:blip r:embed="rId1"/>
          <a:stretch/>
        </p:blipFill>
        <p:spPr>
          <a:xfrm>
            <a:off x="896760" y="922320"/>
            <a:ext cx="86439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9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199368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Ёжик топал по тропинк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И грибочек нёс на спин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Ёжик топал не спеш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Тихо листьями шурш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А навстречу скачет зай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Длинноухий попрыгай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В огороде чьём-то ловк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Раздобыл косой морков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ёлкой, под, ёжик, жи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03280" y="2279160"/>
            <a:ext cx="868032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ёлкой жил ёж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ть –Родине служит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2920" y="1922400"/>
            <a:ext cx="818028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одержимое 2" descr="image-8.jpg"/>
          <p:cNvPicPr/>
          <p:nvPr/>
        </p:nvPicPr>
        <p:blipFill>
          <a:blip r:embed="rId1"/>
          <a:stretch/>
        </p:blipFill>
        <p:spPr>
          <a:xfrm>
            <a:off x="601560" y="993600"/>
            <a:ext cx="887256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564840"/>
            <a:ext cx="856944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т улыбки станет всем светлей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т улыбки в небе радуга проснётся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делись улыбкою своей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и она к тебе не раз еще вернётс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ернитесь друг к другу, посмотрите друг другу в глаза, улыбнитесь и пожелайте хорошего настро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69560" y="922320"/>
            <a:ext cx="8569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есть мышат в шалаше шуршат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д Жорой жук, жужжа, кружит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12720" y="1207800"/>
            <a:ext cx="70567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сть мышат в шалаше шурш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д Жорой жук, жужжа, кру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3" descr="image-5 (1).jpg"/>
          <p:cNvPicPr/>
          <p:nvPr/>
        </p:nvPicPr>
        <p:blipFill>
          <a:blip r:embed="rId1"/>
          <a:stretch/>
        </p:blipFill>
        <p:spPr>
          <a:xfrm>
            <a:off x="976320" y="73188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нояб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одержимое 2" descr="2020-02-21 19-20-03.JPG"/>
          <p:cNvPicPr/>
          <p:nvPr/>
        </p:nvPicPr>
        <p:blipFill>
          <a:blip r:embed="rId1"/>
          <a:stretch/>
        </p:blipFill>
        <p:spPr>
          <a:xfrm>
            <a:off x="2111400" y="1565280"/>
            <a:ext cx="57150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2" descr="2020-02-21 19-19-06.JPG"/>
          <p:cNvPicPr/>
          <p:nvPr/>
        </p:nvPicPr>
        <p:blipFill>
          <a:blip r:embed="rId1"/>
          <a:stretch/>
        </p:blipFill>
        <p:spPr>
          <a:xfrm>
            <a:off x="1682640" y="922320"/>
            <a:ext cx="6650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3" descr="image.jpg"/>
          <p:cNvPicPr/>
          <p:nvPr/>
        </p:nvPicPr>
        <p:blipFill>
          <a:blip r:embed="rId1"/>
          <a:stretch/>
        </p:blipFill>
        <p:spPr>
          <a:xfrm>
            <a:off x="1712880" y="1768320"/>
            <a:ext cx="664992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2" descr="2020-02-21-14-08-58.jpg"/>
          <p:cNvPicPr/>
          <p:nvPr/>
        </p:nvPicPr>
        <p:blipFill>
          <a:blip r:embed="rId1"/>
          <a:stretch/>
        </p:blipFill>
        <p:spPr>
          <a:xfrm>
            <a:off x="1712880" y="1768320"/>
            <a:ext cx="664992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2020-03-02-12-15-25.jpg"/>
          <p:cNvPicPr/>
          <p:nvPr/>
        </p:nvPicPr>
        <p:blipFill>
          <a:blip r:embed="rId1"/>
          <a:stretch/>
        </p:blipFill>
        <p:spPr>
          <a:xfrm>
            <a:off x="468360" y="351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9:34:18Z</dcterms:created>
  <dc:creator>пк</dc:creator>
  <dc:description/>
  <dc:language>en-US</dc:language>
  <cp:lastModifiedBy>maksimus</cp:lastModifiedBy>
  <dcterms:modified xsi:type="dcterms:W3CDTF">2022-11-17T12:05:47Z</dcterms:modified>
  <cp:revision>137</cp:revision>
  <dc:subject/>
  <dc:title>Слайд 1</dc:title>
</cp:coreProperties>
</file>