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0E9-B282-4B89-9E81-A4C1BC4E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88F-1A31-479B-91AF-097A4FCE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FEF-09DB-406C-9D31-3F146666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D5E-A15F-49EC-9FA5-68EE0CD7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1DB-0265-4DC5-B456-8A36EB2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4EB-4B37-4551-A94C-6A5358A7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D83-D6D5-4FD0-B599-65650FF1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7BC-EEE3-4240-ADDB-11ED30E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C54-2141-4E31-9C8B-0DD1929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67C-6580-4DFE-88C9-3370693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D7-E9D0-4D84-A029-83F6F2F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D10-119E-4089-8873-2B533A3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CED-5BEF-458B-ADE3-A8D4D7651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6920" y="357120"/>
            <a:ext cx="65725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профессиональная программа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валификации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истема наставничества в образовательных организациях: проектирование и внедре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280" y="4714920"/>
            <a:ext cx="36003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яснянская  Наталья  Алексеевна, заместитель директора по учебно-методической раб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hape 176"/>
          <p:cNvSpPr/>
          <p:nvPr/>
        </p:nvSpPr>
        <p:spPr>
          <a:xfrm>
            <a:off x="3203640" y="6165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иски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hape 125"/>
          <p:cNvSpPr/>
          <p:nvPr/>
        </p:nvSpPr>
        <p:spPr>
          <a:xfrm>
            <a:off x="357120" y="221472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14240" y="257184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571840" y="2500200"/>
            <a:ext cx="61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осударственное бюджетное профессиональное образовательное учреждение  Воронеж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 аграрно-технологический технику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357120" y="1880280"/>
            <a:ext cx="8572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3. Этапы програм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еализация программы наставничества в ГБПОУ ВО «ЛАТТ» включает семь основных этап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1. Подготовка условий для запуска программы наставниче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2. Формирование базы наставляемых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3. Формирование базы наставник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 Отбор и обучение наставник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5. Формирование наставнических пар или груп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6. Организация работы наставнических пар или груп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7. Завершение наставниче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еализация программы наставничества в ГБПОУ ВО «ЛАТТ» производится последовательно по двум контурам,</a:t>
            </a:r>
            <a:r>
              <a:rPr b="0" lang="ru-RU" sz="1300" spc="-1" strike="noStrike">
                <a:solidFill>
                  <a:srgbClr val="000000"/>
                </a:solidFill>
                <a:latin typeface="Lucida Sans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обеспечивающим внешнюю и внутреннюю поддержку всех процесс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нешний контур образуют сотрудники некоммерческих организаций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редств массовой информации, участники бизнес-сообщества (корпораци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малый бизнес, трудовые и профессиональные ассоциации), в том числ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аботодатели, представители образовательных организаций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офессиональных ассоциаций психологов и педагогов, сотрудники органо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ласти в сфере здравоохранения и социального развития, представители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егиональной власти и органов местного самоуправления и другие субъекты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и организации, которые заинтересованы в реализации программ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наставничест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нутренний контур представляют руководитель и администрац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ГБПОУ ВО «ЛАТТ», обучающиеся и их родители, молоды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пециалисты, педагоги, педагоги-психологи, методис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9" descr=""/>
          <p:cNvPicPr/>
          <p:nvPr/>
        </p:nvPicPr>
        <p:blipFill>
          <a:blip r:embed="rId3"/>
          <a:stretch/>
        </p:blipFill>
        <p:spPr>
          <a:xfrm>
            <a:off x="1500120" y="2071800"/>
            <a:ext cx="5969160" cy="4208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8760" y="2214720"/>
          <a:ext cx="8215200" cy="4070160"/>
        </p:xfrm>
        <a:graphic>
          <a:graphicData uri="http://schemas.openxmlformats.org/drawingml/2006/table">
            <a:tbl>
              <a:tblPr/>
              <a:tblGrid>
                <a:gridCol w="614160"/>
                <a:gridCol w="4624560"/>
                <a:gridCol w="1220760"/>
                <a:gridCol w="1755720"/>
              </a:tblGrid>
              <a:tr h="32220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8160"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условий для запуска программы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запуске программы наставничества; сбор предварительных запросов от потенциальных наставляемых и выбор соответствующих этим запросам аудитории для поиска наставни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ы необходимые ресурсы (кадровые, методические, материально-техническая база и т. д.) и возможные источники их привлечения (внутренние и внешние) для организации функционирования целевой модели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педагогического сообщества образовательной организации о реализации программы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ай А.А., директор технику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ьского сообщества о планируемой реализации программы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ай А.А, директор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директора по УВРиС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 с сообществом выпускников и/или представителями региональных организаций и предприятий с целью информирования о реализации программы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 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ай А.А, директор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lIns="30960" rIns="30960" tIns="30960" bIns="309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 с обучающимися образовательной организации с информированием о реализуемой программе наставнич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 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ай А.А., директор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71680" y="2286000"/>
          <a:ext cx="8001000" cy="4064040"/>
        </p:xfrm>
        <a:graphic>
          <a:graphicData uri="http://schemas.openxmlformats.org/drawingml/2006/table">
            <a:tbl>
              <a:tblPr/>
              <a:tblGrid>
                <a:gridCol w="642600"/>
                <a:gridCol w="4459320"/>
                <a:gridCol w="1189080"/>
                <a:gridCol w="1710000"/>
              </a:tblGrid>
              <a:tr h="110016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1400" rIns="41400" tIns="41400" bIns="414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наставляем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конкретных проблем, обучающихся и педагогов образовательной организации, которые можно решить с помощью наставнич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а база наставляемых с перечнем запросов, необходимая для подбора кандидатов в наставники на следующем этап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60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анкетирования среди обучающихся/педагогов, желающих принять участие в программе наставничества. Сбор согласий на сбор и обработку персональных данных от совершеннолетних участников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директора по УВРиС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008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дополнительной информации о запросах, наставляемых (обучающиеся/педагоги) от третьих лиц: классный руководитель, психолог, социальный педагог, родител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согласий на сбор и обработку персональных данных от законных представителей несовершеннолетних учас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 Ю.П., педагог-психолог, Мартеха А.А, соц. педаг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200">
                <a:tc>
                  <a:txBody>
                    <a:bodyPr lIns="41400" rIns="41400" tIns="41400" bIns="414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олученных от наставляемых и третьих лиц данных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наставляем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41400" bIns="4140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директора по УВРиС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85880" y="1857240"/>
          <a:ext cx="7786800" cy="4064040"/>
        </p:xfrm>
        <a:graphic>
          <a:graphicData uri="http://schemas.openxmlformats.org/drawingml/2006/table">
            <a:tbl>
              <a:tblPr/>
              <a:tblGrid>
                <a:gridCol w="581040"/>
                <a:gridCol w="4384440"/>
                <a:gridCol w="1155960"/>
                <a:gridCol w="1665360"/>
              </a:tblGrid>
              <a:tr h="1305000">
                <a:tc>
                  <a:txBody>
                    <a:bodyPr lIns="37440" rIns="37440" tIns="37440" bIns="374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7440" rIns="37440" tIns="37440" bIns="3744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настав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отенциальных наставников для формирования базы настав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с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ы базы наставников, которые потенциально могут участвовать как в текущей программе наставничества, так и в будущих программах этой и иных (по запросу и с разрешения наставников) образовательных организа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7440" rIns="37440" tIns="37440" bIns="374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форм наставничества, реализуемых в рамках текущей программы наставниче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37440" rIns="37440" tIns="37440" bIns="374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участников-наставляемых по заданным параметрам, необходимым для будущего сравнения и мониторинга влияния программ на всех участ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директора по УВРиС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37440" rIns="37440" tIns="37440" bIns="374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анкетирования среди потенциальных наставников, желающих принять участие в программе наставничеств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согласий на сбор и обработку персональных дан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кач Л.Е., зам.директора по УППи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37440" rIns="37440" tIns="37440" bIns="374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заполненных анкет потенциальных наставников и сопоставление данных с анкетами наставляемых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настав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7440" rIns="37440" tIns="37440" bIns="3744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286000"/>
          <a:ext cx="7715520" cy="4064040"/>
        </p:xfrm>
        <a:graphic>
          <a:graphicData uri="http://schemas.openxmlformats.org/drawingml/2006/table">
            <a:tbl>
              <a:tblPr/>
              <a:tblGrid>
                <a:gridCol w="576360"/>
                <a:gridCol w="4345200"/>
                <a:gridCol w="1144440"/>
                <a:gridCol w="1649520"/>
              </a:tblGrid>
              <a:tr h="117144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ор и обучение наставни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наставников, входящих в базу потенциальных наставников, подходящих для конкретной программы, и их подготовку к работе с наставляемы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а база готовых к работе наставников, подходящая для конкретной программы и запросов наставляемых конкретной образовательной организ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участников-наставников по заданным параметрам, необходимым для будущего сравнения и мониторинга влияния программ на всех участни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беседования с наставниками (в некоторых случаях с привлечением психоло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, зам. директора по У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экспертов и материалов для проведения обучения наставни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9680">
                <a:tc>
                  <a:txBody>
                    <a:bodyPr lIns="33480" rIns="33480" tIns="33480" bIns="334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наставни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480" rIns="33480" tIns="33480" bIns="334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кач Л.Е, зам. директора по УППи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директора по УВРиС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480" marR="33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760" y="2214720"/>
          <a:ext cx="7858080" cy="4071960"/>
        </p:xfrm>
        <a:graphic>
          <a:graphicData uri="http://schemas.openxmlformats.org/drawingml/2006/table">
            <a:tbl>
              <a:tblPr/>
              <a:tblGrid>
                <a:gridCol w="587160"/>
                <a:gridCol w="4424400"/>
                <a:gridCol w="1166760"/>
                <a:gridCol w="1679760"/>
              </a:tblGrid>
              <a:tr h="1171440">
                <a:tc>
                  <a:txBody>
                    <a:bodyPr lIns="47160" rIns="47160" tIns="47160" bIns="4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7160" rIns="47160" tIns="47160" bIns="471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ставнических пар или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р «наставник – наставляемый» либо группы из наставника и нескольких наставляемых, подходящих друг другу по крите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ы наставнические пары или группы, готовые продолжить работу в рамках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>
                  <a:txBody>
                    <a:bodyPr lIns="47160" rIns="47160" tIns="47160" bIns="4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групповой встречи наставников и наставляем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440">
                <a:tc>
                  <a:txBody>
                    <a:bodyPr lIns="47160" rIns="47160" tIns="47160" bIns="4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анкетирования на предмет предпочитаемого наставника/наставляемого после завершения групповой вст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47160" rIns="47160" tIns="47160" bIns="4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анкет групповой встречи и соединение наставников и наставляемых в па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0120">
                <a:tc>
                  <a:txBody>
                    <a:bodyPr lIns="47160" rIns="47160" tIns="47160" bIns="4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участников о сложившихся парах/группах. Закрепление пар/групп распоряжением руководителя образовательной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160" rIns="47160" tIns="47160" bIns="471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 директора по УМ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14240" y="2000160"/>
          <a:ext cx="7572600" cy="4064040"/>
        </p:xfrm>
        <a:graphic>
          <a:graphicData uri="http://schemas.openxmlformats.org/drawingml/2006/table">
            <a:tbl>
              <a:tblPr/>
              <a:tblGrid>
                <a:gridCol w="565200"/>
                <a:gridCol w="4264200"/>
                <a:gridCol w="1123920"/>
                <a:gridCol w="1619280"/>
              </a:tblGrid>
              <a:tr h="9050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наставнических пар или гру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Lucida Sans"/>
                          <a:ea typeface="Tahoma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гармоничных и продуктивных отношений в наставнической паре или групп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: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ы стабильные наставнические отношения, доведенные до логического завершения, реализована цель программы наставничества для конкретной наставнической пары или групп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ервой, организационной, встречи наставника и наставляем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второй, пробной рабочей, встречи наставника и наставляем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встречи-планирования рабочего процесса в рамках программы наставничества с наставником и наставляемы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ые встречи наставника и наставляем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-июнь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сбора обратной связи от участников программы наставниче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-июнь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заключительной встречи наставника и наставляем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групповой заключительной встречи всех пар и групп наставников и наставляемы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участников. Проведение мониторинга личной удовлетворенности участием в программе наставниче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720" rIns="27720" tIns="27720" bIns="277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2481120" y="-115200"/>
            <a:ext cx="418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4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внедр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евой модели наставниче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106720"/>
          <a:ext cx="9144000" cy="5103720"/>
        </p:xfrm>
        <a:graphic>
          <a:graphicData uri="http://schemas.openxmlformats.org/drawingml/2006/table">
            <a:tbl>
              <a:tblPr/>
              <a:tblGrid>
                <a:gridCol w="682560"/>
                <a:gridCol w="5149800"/>
                <a:gridCol w="1357560"/>
                <a:gridCol w="1954080"/>
              </a:tblGrid>
              <a:tr h="129672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ние наставнич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силить программу наставничества и расширить базу лояльных к программам наставничества людей, привлечь потенциальных наставников, будущих кураторов, потенциальных компаний-партне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дведение итогов работы каждой пары или группы и всей программы в целом в формате личной и групповой рефлексии, а также проведение открытого публичного мероприятия для популяризации практик наставничества и награждения лучших наставни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достигнуты цели программы наставничества, собраны лучшие наставнические практики, внимание общественности привлечено к деятельности образовательных организаций, запущен процесс пополнения базы наставников и наставляе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на торжественное мероприятие всех участников программы наставничества, их родных, представителей организаций-партнеров, представителей администрации города и района, представителей иных образовательных организаций и некоммерческих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 директора по УВРиС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оржественного мероприятия для подведения итогов программы наставничества и награждения лучших настав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ай А.А., дирек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някова С.В., зам. директора по УВРиС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ониторинга качества реализации программы наставнич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участников по заданным параметрам, проведение второго, заключительного этапа мониторинга влияния программ на всех учас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итогов и процессов совместной работы в рамках программы наставничества в кей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 результатов программы наставничества, лучших наставников, кейсов на сайтах образовательной организации и организаций-партне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е данных об итогах реализации программы наставничества в базу наставников и базу наставляе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20520" rIns="20520" tIns="20520" bIns="2052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олгосрочной базы настав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снянская Н.А., зам.директора по У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6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7168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АТЕРИАЛЬНАЯ  МОТИВ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МЕСЯЧНАЯ ФИКСИРОВАННАЯ НАДБАВКА  К ЗАРАБОТНОЙ ПЛА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ИТЕЛЬНЫЕ БАЛЛЫ В РЕЙТЕНГОВОМ ЛИ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НЫЙ РАЗМЕР ПРЕМЕИИ ПО РЕЗУЛЬТАТАМ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71492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ЕМАТЕРИАЛЬНАЯ МОТИВ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МОТЫ, БЛАГОДАР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БЛИЧНОЕ ПРИЗН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БЩЕНИЕ И ПЕРЕДАЧА НАКОПЛЕННОГО ОПЫ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ЕНИЕ ФОТО НА ДОСКЕ ПОЧ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КОНКУРСА «ЛУЧШИЙ НАСТАВНИК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ЬЕРНЫЙ РОС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сылка на официальный сайт образовательной организации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att36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hape 125"/>
          <p:cNvSpPr/>
          <p:nvPr/>
        </p:nvSpPr>
        <p:spPr>
          <a:xfrm>
            <a:off x="285840" y="171468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hape 125"/>
          <p:cNvSpPr/>
          <p:nvPr/>
        </p:nvSpPr>
        <p:spPr>
          <a:xfrm>
            <a:off x="285840" y="171468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User\Desktop\IMG_1453.JPG"/>
          <p:cNvPicPr/>
          <p:nvPr/>
        </p:nvPicPr>
        <p:blipFill>
          <a:blip r:embed="rId3"/>
          <a:stretch/>
        </p:blipFill>
        <p:spPr>
          <a:xfrm>
            <a:off x="1214280" y="2004840"/>
            <a:ext cx="7715520" cy="43340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07144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Цели и задачи программы наставничества в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hape 125"/>
          <p:cNvSpPr/>
          <p:nvPr/>
        </p:nvSpPr>
        <p:spPr>
          <a:xfrm>
            <a:off x="285840" y="171468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642960" y="292896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Ь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полное раскрытие потенциала личности наставляемого, необходимое для успешной личной и профессиональной самореализации в современных условиях, а также создание условий для формирования эффективной системы поддержки, самоопределения и профессиональной ориентации обучающихся, преподавателей и молодых специалистов ГБПОУ ВО «ЛАТТ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Цели и задачи программы наставничества в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hape 125"/>
          <p:cNvSpPr/>
          <p:nvPr/>
        </p:nvSpPr>
        <p:spPr>
          <a:xfrm>
            <a:off x="214200" y="128592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42960" y="2000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ЧИ 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500040" y="2518200"/>
            <a:ext cx="77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улучшение показателей ГБПОУ В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ЛАТ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  в образовательной, социокультурной, спортивной и других сфера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подготовка обучающегося ГБПОУ В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ЛАТ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 к самостоятельной, осознанной и социально продуктивной деятельности в современном мире, отличительными особенностями которого являются нестабильность, неопределенность, изменчивость, сложность, информационная насыщенн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раскрытие личностного, творческого, профессионального потенциала каждого обучающегося, поддержка формирования и реализации индивидуальной образовательной траектор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создание психологически комфортной среды для развития и повышения квалификации педагогов, увеличение числа закрепившихся в профессии педагогических кадр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создание канала эффективного обмена личностным, жизненным и профессиональным опытом для каждого субъекта образовательной и профессиональ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влечение к подготовке квалифицированных кадров для экономики региона опытных специалистов-практик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формирование открытого и эффективного сообщества вокруг ГБПОУ В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ЛАТ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, способного на комплексную поддержку выстраивание  доверительных  и партнерских отношени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4320" y="1928880"/>
            <a:ext cx="6771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 НАСТАВ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hape 125"/>
          <p:cNvSpPr/>
          <p:nvPr/>
        </p:nvSpPr>
        <p:spPr>
          <a:xfrm>
            <a:off x="28584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857160" y="27626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тудент-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тудент-сту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Педагог-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Работодатель-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428760" y="2449800"/>
            <a:ext cx="800100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эффективности системы образования достигается чере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меримое улучшение показателей образовательной организации : образовательных, спортивных, культур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личности наставляемого, раскрытие его потенци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ост числа обучающихся, способных самостоятельно строить индивидуальные образовательные/ карьерные траекто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лучшение психологического климата в образовательной организации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общества, готового оказывать ей поддерж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плодотворной среды развития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дополнительных ресурсов и инвестиций в развитие  О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57120" y="1923480"/>
            <a:ext cx="85010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НЕДРЕНИЯ ЦЕЛЕВОЙ МОДЕЛИ НАСТАВНИ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ГБПОУ ВО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Лискинский аграрно-технологический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1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Основные полож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лан мероприятий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орожная карт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) разработан в соответствии с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казом департамента образования, науки и молодежной политики Воронежской области  от  18 декабря 2020  № 1242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О внедрении целевой модели наставничества обучающихся в профессиональных образовательных организациях Воронежской област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2. Цели и задачи наставни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Целью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внедрения целевой модели наставничества является максимально полное раскрытие личности наставляемого, необходимое для успешной личной 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офессиональной самореализации в современных условиях неопределенности, 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также создание условий для формирования эффективной системы поддержки, самоопределения и профессиональной ориентации всех обучающихся, педагогических работников (далее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педагоги) в ГБПОУ ВО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ЛАТТ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Задач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внедрения целевой модели наставничеств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улучшение показателей ГБПОУ ВО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ЛАТТ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в образовательной, социокультурной, профессиональной 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ругих сферах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одготовка обучающегося к самостоятельной, осознанной и социально продуктивной деятельности в современном мире, отличительными особенностями которого являются нестабильность, неопределенность, изменчивость, сложность, информационная насыщен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аскрытие личностного, творческого, профессионального потенциала каждого обучающегося, поддержка формирования и реализации индивидуальной образовательной траектор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оздание психологически комфортной среды для развития и повышения квалификации педагогов, увеличение числа закрепившихся в профессии педагогических кадр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оздание канала эффективного обмена личностным, жизненным 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офессиональным опытом для каждого субъекта образовательной 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офессиональной деятельност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формирование открытого и эффективного сообщества вокруг образовательной организации, способного на комплексную поддержку е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ятельности, в котором выстроены доверительные и партнерские отноше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РОЖНАЯ 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60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hape 125"/>
          <p:cNvSpPr/>
          <p:nvPr/>
        </p:nvSpPr>
        <p:spPr>
          <a:xfrm>
            <a:off x="214200" y="1428840"/>
            <a:ext cx="8643960" cy="7128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Герб ЛАТТ.jpg"/>
          <p:cNvPicPr/>
          <p:nvPr/>
        </p:nvPicPr>
        <p:blipFill>
          <a:blip r:embed="rId1"/>
          <a:stretch/>
        </p:blipFill>
        <p:spPr>
          <a:xfrm>
            <a:off x="7523280" y="0"/>
            <a:ext cx="1347840" cy="1341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4643280" y="14292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БПОУ 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«Лиск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грарно-технолог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85724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428760" y="2429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357120" y="1875960"/>
            <a:ext cx="85726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2.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Формы наставни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Фор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наставничества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это способ реализации целевой модели через организацию работы наставнической пары или группы, участники которой находятся в определенной ролевой ситуации, определяемой их основной деятельностью и позици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 числе самых распространенных форм наставничества, включающих множественные вариации в зависимости от условий реализации программы наставничества, могут быть выделены четыр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тудент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студент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студент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ученик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едагог - педагог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работодатель - студент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Все представленные формы могут быть использованы не тольк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для индивидуального взаимодействия (наставник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наставляемый),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но и для групповой работы (один наставник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группа наставляемых),</a:t>
            </a:r>
            <a:r>
              <a:rPr b="0" lang="ru-RU" sz="1300" spc="-1" strike="noStrike">
                <a:solidFill>
                  <a:srgbClr val="000000"/>
                </a:solidFill>
                <a:latin typeface="Lucida Sans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 которой круг задач, решаемых с помощью программы наставничества и конкретной формы, остается прежним, но меняется формат взаимодействи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ahoma"/>
              </a:rPr>
              <a:t>–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 все мероприятия проводятся коллективно с возможностью дополнительной индивидуальной консультаци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Организация работы в рамках всех четырех форм не потребует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большого привлечения ресурсов и финансирования, так как все программы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едполагают использование внутренних ресурсов (кадровых,</a:t>
            </a:r>
            <a:r>
              <a:rPr b="0" lang="ru-RU" sz="1300" spc="-1" strike="noStrike">
                <a:solidFill>
                  <a:srgbClr val="000000"/>
                </a:solidFill>
                <a:latin typeface="Lucida Sans"/>
                <a:ea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офессиональных) образовательных организаций, за исключением возможного привлечения экспертов для проведения первичного обучения наставник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06:37:21Z</dcterms:created>
  <dc:creator>Ирина</dc:creator>
  <dc:description/>
  <dc:language>en-US</dc:language>
  <cp:lastModifiedBy>123</cp:lastModifiedBy>
  <dcterms:modified xsi:type="dcterms:W3CDTF">2022-11-17T07:33:22Z</dcterms:modified>
  <cp:revision>73</cp:revision>
  <dc:subject/>
  <dc:title>Выпускная квалификационная работа на тему: «_________________________________»</dc:title>
</cp:coreProperties>
</file>