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6C4-FE77-4745-9370-68C49AC5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042-0145-4EBB-AF7F-D5968357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C2B-539C-4C46-BEBB-FDFD4AC6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D74-D60E-4409-A91E-E55110B8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44F4-80F4-40FB-BB28-CD3E4966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B897-A526-4C19-B59A-CA408503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DE2E-B2E9-4272-A813-52979D24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14E3-83D1-4840-86BB-EE344FF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6FA6-A796-4E0C-847B-E1AF5E41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4372-A5CD-4B72-979E-D09109F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928E-805E-47A7-8257-1BB73905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775-7422-460F-A2A6-99339361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2CDA-7143-421E-B50E-E5D1B0F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E0DD-5D9C-439F-AA9C-A9C07FC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5473-1289-4903-B0EA-33847BDF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1C79-8AB7-4237-A2C1-D2A8E08C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880F-B44A-4B13-B256-ACC2C46C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36E-8669-48B4-9455-4C14C262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8F1-C37E-479E-86F0-A5AA32EE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AFF-066E-4EFB-A3E4-56162009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352-54B1-4390-89BB-D05A805D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9F3-B22D-4C3D-98B8-6CA7136D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85E-6F52-4710-892B-E8F5946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D78-8F3D-4960-B5F9-7C594CD5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860F-5116-488D-9DD7-BF17F26DE66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23FF-4107-4FDF-B8AE-DB5BB979FE5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ХНИКА РУЧНОЙ ДУГОВОЙ СВАР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908000" y="333360"/>
            <a:ext cx="49676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митет по образованию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Пб ПО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«ОБУХОВСКОЕ УЧИЛИЩЕ № 4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403280" y="59468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астер производственного обучения  первой категории Политов Александр Сергееви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збуждение (возникновение) и горение дуг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5805000"/>
            <a:ext cx="403848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Verdana"/>
              </a:rPr>
              <a:t>ВПРИТЫ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2920" y="5838840"/>
            <a:ext cx="403884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Verdana"/>
              </a:rPr>
              <a:t>ЧИРКАНЬЕ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5" descr="впритык"/>
          <p:cNvPicPr/>
          <p:nvPr/>
        </p:nvPicPr>
        <p:blipFill>
          <a:blip r:embed="rId1"/>
          <a:stretch/>
        </p:blipFill>
        <p:spPr>
          <a:xfrm>
            <a:off x="1116000" y="1268280"/>
            <a:ext cx="2887560" cy="432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чиркан"/>
          <p:cNvPicPr/>
          <p:nvPr/>
        </p:nvPicPr>
        <p:blipFill>
          <a:blip r:embed="rId2"/>
          <a:stretch/>
        </p:blipFill>
        <p:spPr>
          <a:xfrm>
            <a:off x="5219640" y="1268280"/>
            <a:ext cx="28688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Горение дуги"/>
          <p:cNvPicPr/>
          <p:nvPr/>
        </p:nvPicPr>
        <p:blipFill>
          <a:blip r:embed="rId1"/>
          <a:stretch/>
        </p:blipFill>
        <p:spPr>
          <a:xfrm>
            <a:off x="1116000" y="1125360"/>
            <a:ext cx="6913440" cy="4131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збуждение (возникновение) и горение дуг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616360"/>
            <a:ext cx="40384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9a5"/>
                </a:solidFill>
                <a:latin typeface="Times New Roman"/>
              </a:rPr>
              <a:t>1. КОРОТКОЕ ЗАМЫКАНИ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9a5"/>
                </a:solidFill>
                <a:latin typeface="Times New Roman"/>
              </a:rPr>
              <a:t>2. ОБРАЗОВАНИЕ ПРОСЛОЙКИ ИЗ ЖИДКОГО МЕТАЛЛ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13520" y="5587560"/>
            <a:ext cx="40384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9a5"/>
                </a:solidFill>
                <a:latin typeface="Times New Roman"/>
              </a:rPr>
              <a:t>3. ОБРАЗОВАНИЕ ШЕЙ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9a5"/>
                </a:solidFill>
                <a:latin typeface="Times New Roman"/>
              </a:rPr>
              <a:t>4. ВОЗНИКНОВЕНИЕ ДУГИ И СВАРОЧНОЙ ВАНН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6" descr="4"/>
          <p:cNvPicPr/>
          <p:nvPr/>
        </p:nvPicPr>
        <p:blipFill>
          <a:blip r:embed="rId2"/>
          <a:stretch/>
        </p:blipFill>
        <p:spPr>
          <a:xfrm>
            <a:off x="5076720" y="6021360"/>
            <a:ext cx="141480" cy="212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"/>
          <p:cNvPicPr/>
          <p:nvPr/>
        </p:nvPicPr>
        <p:blipFill>
          <a:blip r:embed="rId3"/>
          <a:stretch/>
        </p:blipFill>
        <p:spPr>
          <a:xfrm>
            <a:off x="5076720" y="5734080"/>
            <a:ext cx="138240" cy="212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2"/>
          <p:cNvPicPr/>
          <p:nvPr/>
        </p:nvPicPr>
        <p:blipFill>
          <a:blip r:embed="rId4"/>
          <a:stretch/>
        </p:blipFill>
        <p:spPr>
          <a:xfrm>
            <a:off x="324000" y="6021360"/>
            <a:ext cx="14436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1"/>
          <p:cNvPicPr/>
          <p:nvPr/>
        </p:nvPicPr>
        <p:blipFill>
          <a:blip r:embed="rId5"/>
          <a:stretch/>
        </p:blipFill>
        <p:spPr>
          <a:xfrm>
            <a:off x="324000" y="5661000"/>
            <a:ext cx="1126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6 L 0.175 -0.08912 E">
                                      <p:cBhvr>
                                        <p:cTn id="7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022E-016 L 0.33871 -0.14167 E">
                                      <p:cBhvr>
                                        <p:cTn id="8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00816 -0.09954 E">
                                      <p:cBhvr>
                                        <p:cTn id="10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5.55556E-006 L 0.20469 -0.147 E">
                                      <p:cBhvr>
                                        <p:cTn id="11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мещение (движение) электр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Picture 3" descr="с лев на пр"/>
          <p:cNvPicPr/>
          <p:nvPr/>
        </p:nvPicPr>
        <p:blipFill>
          <a:blip r:embed="rId1"/>
          <a:stretch/>
        </p:blipFill>
        <p:spPr>
          <a:xfrm>
            <a:off x="250920" y="1700280"/>
            <a:ext cx="4176720" cy="1119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с пр на лев"/>
          <p:cNvPicPr/>
          <p:nvPr/>
        </p:nvPicPr>
        <p:blipFill>
          <a:blip r:embed="rId2"/>
          <a:stretch/>
        </p:blipFill>
        <p:spPr>
          <a:xfrm>
            <a:off x="4716360" y="1700280"/>
            <a:ext cx="4176720" cy="1108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на с"/>
          <p:cNvPicPr/>
          <p:nvPr/>
        </p:nvPicPr>
        <p:blipFill>
          <a:blip r:embed="rId3"/>
          <a:stretch/>
        </p:blipFill>
        <p:spPr>
          <a:xfrm>
            <a:off x="6149880" y="3141720"/>
            <a:ext cx="1517760" cy="338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от себя"/>
          <p:cNvPicPr/>
          <p:nvPr/>
        </p:nvPicPr>
        <p:blipFill>
          <a:blip r:embed="rId4"/>
          <a:stretch/>
        </p:blipFill>
        <p:spPr>
          <a:xfrm>
            <a:off x="1492200" y="3141720"/>
            <a:ext cx="1495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39640" y="4508280"/>
            <a:ext cx="5761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Многослойна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Многослойная многопроходна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Стыковые соединени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Угловые швы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В лодочку (сварка только угловых швов)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углы 30, 45, 6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2" descr="в лодочку"/>
          <p:cNvPicPr/>
          <p:nvPr/>
        </p:nvPicPr>
        <p:blipFill>
          <a:blip r:embed="rId1"/>
          <a:stretch/>
        </p:blipFill>
        <p:spPr>
          <a:xfrm>
            <a:off x="5003640" y="4921200"/>
            <a:ext cx="3194280" cy="1316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Times New Roman"/>
              </a:rPr>
              <a:t>Схема заполнения многослойных швов по уровню поперечного сече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многосл"/>
          <p:cNvPicPr/>
          <p:nvPr/>
        </p:nvPicPr>
        <p:blipFill>
          <a:blip r:embed="rId2"/>
          <a:stretch/>
        </p:blipFill>
        <p:spPr>
          <a:xfrm>
            <a:off x="324000" y="1413000"/>
            <a:ext cx="1731960" cy="165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мн многопрох"/>
          <p:cNvPicPr/>
          <p:nvPr/>
        </p:nvPicPr>
        <p:blipFill>
          <a:blip r:embed="rId3"/>
          <a:stretch/>
        </p:blipFill>
        <p:spPr>
          <a:xfrm>
            <a:off x="3419640" y="1341360"/>
            <a:ext cx="1785600" cy="3084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стык соед"/>
          <p:cNvPicPr/>
          <p:nvPr/>
        </p:nvPicPr>
        <p:blipFill>
          <a:blip r:embed="rId4"/>
          <a:stretch/>
        </p:blipFill>
        <p:spPr>
          <a:xfrm>
            <a:off x="324000" y="3789360"/>
            <a:ext cx="1733400" cy="25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Угл швы"/>
          <p:cNvPicPr/>
          <p:nvPr/>
        </p:nvPicPr>
        <p:blipFill>
          <a:blip r:embed="rId5"/>
          <a:stretch/>
        </p:blipFill>
        <p:spPr>
          <a:xfrm>
            <a:off x="6588000" y="1341360"/>
            <a:ext cx="1698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44444E-006 L -0.22899 -0.203 E">
                                      <p:cBhvr>
                                        <p:cTn id="16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8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1.48148E-006 L 0.00608 -0.06736 E">
                                      <p:cBhvr>
                                        <p:cTn id="183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59259E-006 L -0.26545 0.1838 E">
                                      <p:cBhvr>
                                        <p:cTn id="194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8 -0.13634 E">
                                      <p:cBhvr>
                                        <p:cTn id="205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15729 0.02385 E">
                                      <p:cBhvr>
                                        <p:cTn id="223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15747 0.02315 E">
                                      <p:cBhvr>
                                        <p:cTn id="225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-2700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Times New Roman"/>
              </a:rPr>
              <a:t>Сварка в различных основных положения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49520" y="11970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ертикально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00000" y="5805360"/>
            <a:ext cx="48960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Угол наклона покрытого электрода при сварке на подъем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Угол наклона и колебательные движения покрытым электродом при сварке на спуск (сварка тонких деталей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5" descr="вертик 1"/>
          <p:cNvPicPr/>
          <p:nvPr/>
        </p:nvPicPr>
        <p:blipFill>
          <a:blip r:embed="rId1"/>
          <a:stretch/>
        </p:blipFill>
        <p:spPr>
          <a:xfrm>
            <a:off x="324000" y="2060640"/>
            <a:ext cx="1457280" cy="3578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угол"/>
          <p:cNvPicPr/>
          <p:nvPr/>
        </p:nvPicPr>
        <p:blipFill>
          <a:blip r:embed="rId2"/>
          <a:stretch/>
        </p:blipFill>
        <p:spPr>
          <a:xfrm>
            <a:off x="2195640" y="2060640"/>
            <a:ext cx="2447640" cy="3529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угол 1"/>
          <p:cNvPicPr/>
          <p:nvPr/>
        </p:nvPicPr>
        <p:blipFill>
          <a:blip r:embed="rId3"/>
          <a:stretch/>
        </p:blipFill>
        <p:spPr>
          <a:xfrm>
            <a:off x="4932360" y="2133720"/>
            <a:ext cx="3743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7.40741E-007 L -0.09445 -0.02107 E">
                                      <p:cBhvr>
                                        <p:cTn id="25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6 L 0.37795 -0.07871 E">
                                      <p:cBhvr>
                                        <p:cTn id="277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варка в различных основных положения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66"/>
                </a:solidFill>
                <a:latin typeface="Verdana"/>
              </a:rPr>
              <a:t>Горизонтально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1"/>
          <p:cNvPicPr/>
          <p:nvPr/>
        </p:nvPicPr>
        <p:blipFill>
          <a:blip r:embed="rId1"/>
          <a:stretch/>
        </p:blipFill>
        <p:spPr>
          <a:xfrm>
            <a:off x="539640" y="2023920"/>
            <a:ext cx="8136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аргон"/>
          <p:cNvPicPr/>
          <p:nvPr/>
        </p:nvPicPr>
        <p:blipFill>
          <a:blip r:embed="rId1"/>
          <a:stretch/>
        </p:blipFill>
        <p:spPr>
          <a:xfrm>
            <a:off x="468360" y="422100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гол наклона покрытого электрода, горелки для дуговой сварки и присадочной проволок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75120" y="5876640"/>
            <a:ext cx="79423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ff66"/>
                </a:solidFill>
                <a:latin typeface="Times New Roman"/>
              </a:rPr>
              <a:t>При сварке покрытым электродом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ff66"/>
                </a:solidFill>
                <a:latin typeface="Times New Roman"/>
              </a:rPr>
              <a:t>При ручной аргонодуговой сварке правым способом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ff66"/>
                </a:solidFill>
                <a:latin typeface="Times New Roman"/>
              </a:rPr>
              <a:t>При сварке присадочной проволок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5" descr="ручная"/>
          <p:cNvPicPr/>
          <p:nvPr/>
        </p:nvPicPr>
        <p:blipFill>
          <a:blip r:embed="rId2"/>
          <a:stretch/>
        </p:blipFill>
        <p:spPr>
          <a:xfrm>
            <a:off x="468360" y="1413000"/>
            <a:ext cx="3095640" cy="2408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присад провол"/>
          <p:cNvPicPr/>
          <p:nvPr/>
        </p:nvPicPr>
        <p:blipFill>
          <a:blip r:embed="rId3"/>
          <a:stretch/>
        </p:blipFill>
        <p:spPr>
          <a:xfrm>
            <a:off x="5408640" y="1413000"/>
            <a:ext cx="2835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48148E-006 L -0.40521 -0.30787 E">
                                      <p:cBhvr>
                                        <p:cTn id="322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43143 0.00625 E">
                                      <p:cBhvr>
                                        <p:cTn id="339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5 -0.09445 E">
                                      <p:cBhvr>
                                        <p:cTn id="350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движ электро"/>
          <p:cNvPicPr/>
          <p:nvPr/>
        </p:nvPicPr>
        <p:blipFill>
          <a:blip r:embed="rId1"/>
          <a:stretch/>
        </p:blipFill>
        <p:spPr>
          <a:xfrm>
            <a:off x="396720" y="4292640"/>
            <a:ext cx="8352000" cy="2149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Times New Roman"/>
              </a:rPr>
              <a:t>Схема зажигания дуги после её обрыв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3573000"/>
            <a:ext cx="79200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Техника движения торцом электрода</a:t>
            </a:r>
            <a:r>
              <a:rPr b="1" lang="ru-RU" sz="21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5" descr="съх зажиг"/>
          <p:cNvPicPr/>
          <p:nvPr/>
        </p:nvPicPr>
        <p:blipFill>
          <a:blip r:embed="rId2"/>
          <a:stretch/>
        </p:blipFill>
        <p:spPr>
          <a:xfrm>
            <a:off x="2627280" y="1197000"/>
            <a:ext cx="36003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1:24:50Z</dcterms:created>
  <dc:creator>user</dc:creator>
  <dc:description/>
  <dc:language>en-US</dc:language>
  <cp:lastModifiedBy>Екатерина</cp:lastModifiedBy>
  <cp:lastPrinted>2022-11-13T16:20:02Z</cp:lastPrinted>
  <dcterms:modified xsi:type="dcterms:W3CDTF">2022-11-13T16:20:25Z</dcterms:modified>
  <cp:revision>166</cp:revision>
  <dc:subject/>
  <dc:title>СВАРКА МЕТАЛЛОВ</dc:title>
</cp:coreProperties>
</file>