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355-1B1D-485C-85ED-F54753E9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618-E877-4939-B4F1-B24B0E32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89A-FF26-4A5C-8081-1D15B0C3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ECA-228A-412C-92DA-012FB9C5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93E-765C-4C33-8A3A-D3DB084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012-F1F0-4478-963B-4B042FD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DAD-EEBC-4179-89B9-63F8470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EFC-7DCE-46F5-AA4B-7E987009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B09-D552-4333-9236-DC28037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00D-357E-4F7A-A500-D4A148E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C5E-2827-4DBF-B7BB-1A16F7B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F04-17F9-4637-9CDF-8231A9C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2AC2-17B4-47BB-BE3E-5B65FD524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0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978696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Солнечная система.</a:t>
            </a: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Солнц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венера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554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Вен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20" y="53733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Размер и внутреннее строение ка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14280" y="0"/>
            <a:ext cx="1080612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4"/>
          <p:cNvSpPr/>
          <p:nvPr/>
        </p:nvSpPr>
        <p:spPr>
          <a:xfrm>
            <a:off x="5076720" y="1052640"/>
            <a:ext cx="449748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Жизнь из всех планет Солнечной системы существует только на Земле. Её окружают слои воздуха, они составляют атмосферу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10_4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Земля и ее спутник Лу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марс"/>
          <p:cNvPicPr/>
          <p:nvPr/>
        </p:nvPicPr>
        <p:blipFill>
          <a:blip r:embed="rId1"/>
          <a:stretch/>
        </p:blipFill>
        <p:spPr>
          <a:xfrm>
            <a:off x="0" y="-316080"/>
            <a:ext cx="10001160" cy="717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М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2760" y="5445000"/>
            <a:ext cx="8821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расная планета из-за содержания жел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планеты 2"/>
          <p:cNvPicPr/>
          <p:nvPr/>
        </p:nvPicPr>
        <p:blipFill>
          <a:blip r:embed="rId1">
            <a:lum contrast="-20000"/>
          </a:blip>
          <a:srcRect l="0" t="5142" r="44107" b="22773"/>
          <a:stretch/>
        </p:blipFill>
        <p:spPr>
          <a:xfrm>
            <a:off x="0" y="-10800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Юпи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524304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Самая большая планета Солнечной систем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lanets_005"/>
          <p:cNvPicPr/>
          <p:nvPr/>
        </p:nvPicPr>
        <p:blipFill>
          <a:blip r:embed="rId1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атур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40000" y="4797360"/>
            <a:ext cx="822960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Это гигантский газовый шар окружё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ольц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-7858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786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Ур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811080" y="461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Уран окружают тонкие кольца и он состоит из газа и пы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нептун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Непту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9360" y="4797000"/>
            <a:ext cx="89740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Самая далёкая от солнца планета. Состоит из газа и пыл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астерои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56811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стероид – это маленькие небесные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Adrift"/>
          <p:cNvPicPr/>
          <p:nvPr/>
        </p:nvPicPr>
        <p:blipFill>
          <a:blip r:embed="rId1"/>
          <a:stretch/>
        </p:blipFill>
        <p:spPr>
          <a:xfrm>
            <a:off x="0" y="-13968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0040" y="-357480"/>
            <a:ext cx="828216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Домашнее задание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9-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шр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олнце это звезда – это небесное тело, которое излучает свет и теп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-6480" y="4589640"/>
            <a:ext cx="2678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сходишь – все ож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ходишь – и все умир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214960" y="52149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ы жизни мерило      и первопричина ее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олнце – основа жизни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s01113i"/>
          <p:cNvPicPr/>
          <p:nvPr/>
        </p:nvPicPr>
        <p:blipFill>
          <a:blip r:embed="rId1"/>
          <a:stretch/>
        </p:blipFill>
        <p:spPr>
          <a:xfrm>
            <a:off x="0" y="1052640"/>
            <a:ext cx="5516640" cy="5805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5724360" y="1212840"/>
            <a:ext cx="34196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везда, самая ближайшая к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- это гигантский пылающий газовый ш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- это источник энергии для всех процессов, происходящих на поверхности Земли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476360" y="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бесные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4140360" y="12938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1209240" y="141300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5935680" y="762120"/>
            <a:ext cx="64764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976480" y="28576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977080" y="28576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лан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-22320" y="244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тер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3600" y="260280"/>
            <a:ext cx="9026640" cy="3009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208080" y="4005360"/>
            <a:ext cx="884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лнечная система состоит из Солнца и вращающихся вокруг него 8 планет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-33480"/>
            <a:ext cx="7425000" cy="68914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1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57120" y="285840"/>
            <a:ext cx="842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man Old Style"/>
              </a:rPr>
              <a:t>Планета – небесное тело, которое не светится и не гори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57120" y="333360"/>
            <a:ext cx="842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Bookman Old Style"/>
              </a:rPr>
              <a:t>К планетам Земной группы относят: Меркурий, Венер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Bookman Old Style"/>
              </a:rPr>
              <a:t>Землю и М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К планетам-гигантам относятся: Юпитер Сатурн Уран и Непт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меркурий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7818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33"/>
                </a:solidFill>
                <a:latin typeface="Times New Roman"/>
              </a:rPr>
              <a:t>Мерку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5937120"/>
            <a:ext cx="8686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Самая близкая к Солнцу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6:49:34Z</dcterms:created>
  <dc:creator>Tycoon</dc:creator>
  <dc:description/>
  <dc:language>en-US</dc:language>
  <cp:lastModifiedBy>Чудакова Нина Владимировна</cp:lastModifiedBy>
  <dcterms:modified xsi:type="dcterms:W3CDTF">2022-09-12T13:43:17Z</dcterms:modified>
  <cp:revision>26</cp:revision>
  <dc:subject/>
  <dc:title>Тема урока: «Солнечная система»</dc:title>
</cp:coreProperties>
</file>