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D01E-89F3-46F5-916E-52326A8F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78EA-F63B-4B30-AC3C-C220FCEB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DF05-8972-42DE-A67E-84E2258C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60F4-A242-4104-AD4E-23941642A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A4F7-32E8-4E32-9AAA-203AA53EC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AF75-03FB-489A-BA68-28B1D3E7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6283-B844-46B2-B090-5637724D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9DD4-80B9-4DE0-A73D-CA837B15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362D-0D61-4EE7-B1F8-5AED09BA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E01E-5665-4CCA-A007-B20C07E4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71C3-9756-4D64-99E5-49E2E13C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264E-9F88-47C9-9A05-0E537E24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4141-4334-4E99-B247-779EF594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8231-161D-4EE4-9391-7A029F10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6CCA-8BF8-43EF-A462-D0C33226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CCD3-6050-4132-BE74-F3CBFCE8B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87A8-9328-4409-930B-E7308F818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122D-770B-46C4-AA58-8C0BA75D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BB7D-CD4F-4B48-9D8C-A26327A2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7E68-53BE-47A6-8FA8-71DDC68A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E973-08B2-4434-B2F6-26015BB8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5832-9954-4B3F-8290-E38B3C4B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43CB-854A-4D6B-8BBE-BCBFD05B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DD82-BA7A-4A72-8647-1BAF2213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27B6-55BA-4B02-9CF5-159A6D46E85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96C0-B210-443A-ABA7-504A57CA1DA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ru.wikipedia.org/w/index.php?title=&#1044;&#1072;&#1088;&#1080;&#1090;&#1077;&#1083;&#1100;&amp;action=edit&amp;redlink=1" TargetMode="External"/><Relationship Id="rId2" Type="http://schemas.openxmlformats.org/officeDocument/2006/relationships/hyperlink" Target="https://ru.wikipedia.org/wiki/&#1043;&#1086;&#1089;&#1091;&#1076;&#1072;&#1088;&#1089;&#1090;&#1074;&#1086;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Страны мира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одготови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Якунова Е.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оролевство Тонг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211640" y="1341360"/>
            <a:ext cx="4537080" cy="3240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95280" y="3573360"/>
            <a:ext cx="5715000" cy="3000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98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Международное сотрудничеств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добровольная помощь 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дарителя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 одной страны (будь то 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государство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, местные власти или общественная организация) населению другой страны.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ООН       организация объединенных наций    194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56000" y="3716280"/>
            <a:ext cx="3295440" cy="279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98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98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98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Страна - э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то территория, имеющая собственное государственное управлени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Задачи урока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А мы с вами сегодня будем говорить, что каждая страна расположена на определённом материке и занимает в нём определённую территорию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литическая карта ми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497800" cy="4969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Государственная границ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Государственная граница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 — линия и проходящая по этой линии вертикальная плоскость, определяющие пределы государственной территории (суши, вод, недр и воздушного пространства) страны, то есть пространственный предел действия государственного суверенитета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9280" y="2997360"/>
            <a:ext cx="3959280" cy="1950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140360" y="3284640"/>
            <a:ext cx="4824360" cy="27334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971640" y="4653000"/>
            <a:ext cx="3600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Россия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993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На каком материке расположена наша страна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Назовите столицу нашей Родины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В какой части света находится столица нашей Родины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А в какой части света мы живём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ывод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33cc"/>
                </a:solidFill>
                <a:latin typeface="Verdana"/>
              </a:rPr>
              <a:t>наша страна расположена на материке Евразия. Это один из самых больших материков и наша страна из всех стран расположена в двух частях света в Европе и в Аз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атика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064360" cy="482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няжество Монак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4271760" cy="49305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003640" y="3716280"/>
            <a:ext cx="381024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260280"/>
            <a:ext cx="8820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Исландия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5292720" cy="4149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562200" y="3357720"/>
            <a:ext cx="5581800" cy="3287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1T18:12:49Z</dcterms:created>
  <dc:creator>IvanovIvanii@hotmail.com</dc:creator>
  <dc:description/>
  <dc:language>en-US</dc:language>
  <cp:lastModifiedBy>IvanovIvanii@hotmail.com</cp:lastModifiedBy>
  <dcterms:modified xsi:type="dcterms:W3CDTF">2017-04-21T19:43:09Z</dcterms:modified>
  <cp:revision>3</cp:revision>
  <dc:subject/>
  <dc:title>Страны</dc:title>
</cp:coreProperties>
</file>