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466-D12C-4622-94A1-90322C3E64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21AC-B8CE-4E09-A890-FDA20FC98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117-32D3-45E8-86CA-4C41103F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C20-C317-4B37-90EE-638DDA4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7C1-1543-40D7-B105-D0CC352E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2E7-6A60-445C-8240-EA9421AF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28C-C125-49C4-A285-E10C74C9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2B9F-C99D-4635-8E56-87E110C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C549-F8EA-496E-818D-B3056586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9687-EE8A-48FE-9A3D-8F835EF1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02AF-A52A-446E-9D66-507CECDA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CCF3-07B9-4794-8FD8-42C49A72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56B-6909-4234-A619-778C022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E31-C527-41A5-BA5F-E522B5CF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B37A-0042-47E1-857F-DE2892B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0B1E-838F-4919-A791-480CB08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BCE7-6AC2-4AC5-B4F0-4FE63BD7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2CB-768E-4F66-9B7E-5603B31A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A31-D7BC-495D-B077-3D8F497D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5E8-7239-487E-BEA3-DF43921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9D9-C32C-496C-9A08-505F1AF8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B78-E8DC-4C53-A2CC-47FB464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E5B-BDF5-4949-B4ED-023DE8D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3A3-4EA8-475B-A8CE-1FC9CE9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CC4-2DE1-464E-AC99-604CAA6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273-195A-4A4B-8E6D-5E48EC4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F72-3CF2-4865-A9B9-722FFE3B8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12BD-E5B3-4DC4-BD46-9571BEC2C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специфика деятельности учителя – дефектолога в Д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280" y="4221000"/>
            <a:ext cx="6769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БДОУ ЦРР – д/с №12 г. Росс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ь – дефекто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. Н. Солома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- дефектолог - это специалист, который занимается изучением, обучением, воспитанием и социализацией детей с ограниченными возможностями здоровья и детей, имеющих особые образовательные потреб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user\Рабочий стол\фотографии\20201103_112523.jpg"/>
          <p:cNvPicPr/>
          <p:nvPr/>
        </p:nvPicPr>
        <p:blipFill>
          <a:blip r:embed="rId1"/>
          <a:srcRect l="0" t="26088" r="0" b="0"/>
          <a:stretch/>
        </p:blipFill>
        <p:spPr>
          <a:xfrm>
            <a:off x="1554120" y="2781360"/>
            <a:ext cx="60357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е ученые - дефектол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. М. Бехтере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усский невролог, психиатр и психолог, основатель научной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Н. Грабор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снователь системы воспитания сенсорной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. В. Занк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ечественный психолог, дефектолог и педагог, ученик Л. С. Выго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 С. Певзнер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оссийский ученый, врач-психиатр, психолог, дефектолог и педаг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. П. Кащенк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уководитель первого санатория-школы для особенных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. С. Выготск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фектолог-экспериментатор, исследователь дефект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 Ф. Гнездил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ечественный олигофренопедаг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работы учителя-дефектолога является создание условий для развития и адаптации ребёнка в различных сферах жизни: социальной, учебной, бытовой и максимальная компенсация отклоняющегося разви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user\Рабочий стол\фотографии\20201029_102050.jpg"/>
          <p:cNvPicPr/>
          <p:nvPr/>
        </p:nvPicPr>
        <p:blipFill>
          <a:blip r:embed="rId1"/>
          <a:srcRect l="13010" t="8590" r="0" b="0"/>
          <a:stretch/>
        </p:blipFill>
        <p:spPr>
          <a:xfrm>
            <a:off x="2340000" y="1989000"/>
            <a:ext cx="5249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ия работы учителя - дефекто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ыявление уровня актуального развития и зоны ближайше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одоление и компенсация отклонений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авнение и обработка результатов успешности программ коррекционных зан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 – просветительское и профилактиче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казание помощи педагогам и родителям в воспитании и обучени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– методиче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астие в подготовке и проведении ТПМПК, консилиумах, методических объедин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нкции учителя - дефекто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альное обследование ребенка и диагностирование его способности к обу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рное проведение занятий с целью развития основных психических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коммуникативных способностей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кульминационных видов деятельности ребенка определенной возрастной 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ные качества учителя - дефекто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уровень интелл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уитивные 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ательность и внима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б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моциональная непоколебимость и терпели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зывч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фектол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рдопедагог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игофренопедагог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флопедагог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ого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42920" y="1052640"/>
          <a:ext cx="7488360" cy="540072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34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фект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ев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ет с детьми, которые имеют определенные отклонения в психическом и физическом разви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ет с детьми, которые имеют проблемы с речью и произнош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чь ребенку научиться высказывать свои мысли, восстановить пробелы в знаниях, применять меры по коррекции умственн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речевого аппарата и коррекци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граничения в возрастной категори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ет с детьми от 2 меся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ет с детьми с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ропрофильный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зконаправленный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-93600"/>
            <a:ext cx="9144000" cy="95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952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и дефектолог: в чем состоят основные разли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6:40:25Z</dcterms:created>
  <dc:creator>Helen</dc:creator>
  <dc:description/>
  <dc:language>en-US</dc:language>
  <cp:lastModifiedBy>root</cp:lastModifiedBy>
  <dcterms:modified xsi:type="dcterms:W3CDTF">2021-06-17T18:59:35Z</dcterms:modified>
  <cp:revision>25</cp:revision>
  <dc:subject/>
  <dc:title>Слайд 1</dc:title>
</cp:coreProperties>
</file>