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applause.wav" ContentType="audio/x-wav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733E-BFF2-44FF-904C-90786595F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67A-3EEE-42BF-BF75-8B793B3C1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EBDE-7F79-4FEC-AFE2-1A81E8C9A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3611-40B4-42C9-96BD-D6C50A68D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710-BBAB-42CF-9F18-EA172C3A2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8A00-CF01-4299-8F5D-41BA39FE2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AF19-5803-4A38-9458-9B74B9DFA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E05F-55EA-4DA1-809D-65840D4E0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88E-652E-4A0F-B10E-62F6F5A7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237-61EB-4826-B495-2DB55FE9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031-498F-4EB9-8BCA-D5956B56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355-D3E9-4E66-8B33-A5498F3F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0FA-616A-4D9F-A092-0D4A90F1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0069-65D3-4375-9237-110DA662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D518-B5B3-47DE-B591-ED46F897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5B89-6CD1-43F7-8BA7-4C290FD6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A882-7012-4722-AA8B-70B8331C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5B26-BFE0-4EC7-A7EF-03744AE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E46D-BFF1-4B09-81C4-424A6DE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DCA-FE9E-4B7B-9AF1-66F56C6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2DD-4E5C-4C51-A898-ADFA9AC9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EB3-FF75-4483-9F33-B262D9E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914E-BDB2-4CD4-91F9-CEE5A92A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E39D-1766-4387-B229-81F7A124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2EF-E6B7-43D5-B1FA-50398FA2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AEA6-C79A-4344-8EB2-C5D78921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85B0-2110-4679-8FCB-D6FF662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0DD3-01A3-4B45-B63F-5239214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5B86-EC2D-4D7C-A0B5-4EA6A390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8ACB-3BD4-4601-BAC4-1385726B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554-5072-4F90-AA83-042C741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79ED-40DA-4BA9-BFF8-209C4A5A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F3D5-2058-496C-95E9-07CF922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EF4B-8B1C-44D3-A9FE-465D148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F465-9C8F-4448-A222-EA42C28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A29A-B203-4A83-8C22-69AF836B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5288-44A9-4A5F-A81D-AC25B036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8273-EEAF-4C23-86BB-82E609B1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86ED-A34C-4041-92AA-CCFD7A90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0424-A4D9-4A31-B6E0-F0B819D4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3BBF-2D40-4D2E-BA5A-88D2FA7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FF6-28A5-4957-81E7-E51D98AC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35F0-B045-40C6-9F92-0204FBA9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14BC-453C-4540-8B14-889ED6AF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851B-B183-42F8-B2D2-51E6D48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E9EC-8A8B-44EA-A622-F755BF4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BDC8-742A-43B2-B4DF-5AB8FE2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7970-D9AD-426C-9FD6-DFCE3A2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F4F6-C689-446E-98AA-BE1E20B1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9EC2-BFB9-4A98-A1BB-2A56799F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59B2-A394-4EC1-A707-8B92B189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9286-FEBD-4142-8AF5-880272D3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B25-869E-47AF-A796-9A16EE0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35F9-B600-4DDD-86B8-DA85842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0643-658A-4586-B37B-1063EFA4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8E81-1FDA-473B-90EE-F74DE60F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76FD-6EFE-4A24-AEB0-838D3E9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64C2-E2EE-4526-85D5-DA0253B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E945A-E5E7-47A8-8C7C-12924950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6250-1400-4A35-9941-5147103D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D2464-CDDE-48FB-9CFF-21FBDE6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0E905-A195-44E7-A6CF-BC157BBF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A2D4-A5E6-482D-AD20-437C1175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F61-AD29-4E26-847D-F33F4F6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5026-D3BA-48A2-9190-3206B3DD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424-BCA7-4077-BEC2-D18E1A2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C63-11CE-4484-9727-45CB077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B82-C25E-44D7-853E-8EA3A4C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E982-196E-4BEF-A3CF-54EA6C71844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Мотырева Ирина Фёдоровна МОУ "СОШ №15" Краснотурь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3C3A-86A9-45CD-987F-476DCC30967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E35E-7559-4144-A57B-C131C72EA36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Мотырева Ирина Фёдоровна МОУ "СОШ №15" Краснотурь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25A-5866-4823-BCAB-DE4568D82FC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A10B-BC59-4A45-9640-1AE60F3FE9E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Мотырева Ирина Фёдоровна МОУ "СОШ №15" Краснотурь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8B4E-CCDD-4189-BBBB-6B1865B23B3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340-795D-4B23-994A-E2E6FCC6B45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Мотырева Ирина Фёдоровна МОУ "СОШ №15" Краснотурь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2A3-4136-4685-8C01-4DD3ED874A4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5610-13FF-498B-B572-E353D2232E0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Мотырева Ирина Фёдоровна МОУ "СОШ №15" Краснотурь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8F9E-531B-4A7C-B5BC-A43DD76034B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base.com/upload/view/6b167cc2c382_1265818665_acdghlrvy6.jpg" TargetMode="External"/><Relationship Id="rId2" Type="http://schemas.openxmlformats.org/officeDocument/2006/relationships/hyperlink" Target="http://forum.sibmama.ru/usrpx/22493/22493_800x600_photos0800x600_1.jpg" TargetMode="External"/><Relationship Id="rId3" Type="http://schemas.openxmlformats.org/officeDocument/2006/relationships/hyperlink" Target="http://i053.radikal.ru/1102/7e/fdb5c442e250.jpg" TargetMode="External"/><Relationship Id="rId4" Type="http://schemas.openxmlformats.org/officeDocument/2006/relationships/hyperlink" Target="http://fafka.ru/wp-content/uploads/2009/09/kirlson-big.png" TargetMode="External"/><Relationship Id="rId5" Type="http://schemas.openxmlformats.org/officeDocument/2006/relationships/hyperlink" Target="http://www.stihi.ru/pics/2011/03/10/1282.jpg" TargetMode="External"/><Relationship Id="rId6" Type="http://schemas.openxmlformats.org/officeDocument/2006/relationships/hyperlink" Target="http://myphoto.nnov.ru/img/27Qod.jpg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C:\Users\Сергей\Desktop\432661_zamok_fentezi_skazka_1680x1050_(www.GdeFon.ru)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2268360" y="541008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готовила учитель начальных классов  МОБУ СОШ №5 г. Мелеу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дигамова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extBox 2" descr=""/>
          <p:cNvPicPr/>
          <p:nvPr/>
        </p:nvPicPr>
        <p:blipFill>
          <a:blip r:embed="rId2"/>
          <a:stretch/>
        </p:blipFill>
        <p:spPr>
          <a:xfrm>
            <a:off x="1206360" y="274680"/>
            <a:ext cx="84502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У бабы Яг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У ко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28195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190512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баба яга"/>
          <p:cNvPicPr/>
          <p:nvPr/>
        </p:nvPicPr>
        <p:blipFill>
          <a:blip r:embed="rId1"/>
          <a:stretch/>
        </p:blipFill>
        <p:spPr>
          <a:xfrm>
            <a:off x="4572000" y="152280"/>
            <a:ext cx="2241720" cy="3276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кот"/>
          <p:cNvPicPr/>
          <p:nvPr/>
        </p:nvPicPr>
        <p:blipFill>
          <a:blip r:embed="rId2"/>
          <a:stretch/>
        </p:blipFill>
        <p:spPr>
          <a:xfrm>
            <a:off x="3657600" y="3581280"/>
            <a:ext cx="356220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560" y="475920"/>
            <a:ext cx="7859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У Золуш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У Снежной королев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Line 4"/>
          <p:cNvSpPr/>
          <p:nvPr/>
        </p:nvSpPr>
        <p:spPr>
          <a:xfrm>
            <a:off x="26668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472428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туфель"/>
          <p:cNvPicPr/>
          <p:nvPr/>
        </p:nvPicPr>
        <p:blipFill>
          <a:blip r:embed="rId1"/>
          <a:stretch/>
        </p:blipFill>
        <p:spPr>
          <a:xfrm>
            <a:off x="5148360" y="1052640"/>
            <a:ext cx="2662200" cy="2208240"/>
          </a:xfrm>
          <a:prstGeom prst="rect">
            <a:avLst/>
          </a:prstGeom>
          <a:ln w="0">
            <a:noFill/>
          </a:ln>
        </p:spPr>
      </p:pic>
      <p:sp>
        <p:nvSpPr>
          <p:cNvPr id="286" name="WordArt 8"/>
          <p:cNvSpPr txBox="1"/>
          <p:nvPr/>
        </p:nvSpPr>
        <p:spPr>
          <a:xfrm>
            <a:off x="6705720" y="3581280"/>
            <a:ext cx="190476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287" name="Picture 9" descr="http://www.allposters.com/images/MCG/D1742.jpg"/>
          <p:cNvPicPr/>
          <p:nvPr/>
        </p:nvPicPr>
        <p:blipFill>
          <a:blip r:embed="rId2"/>
          <a:stretch/>
        </p:blipFill>
        <p:spPr>
          <a:xfrm>
            <a:off x="826920" y="903240"/>
            <a:ext cx="2271960" cy="2506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http://bm.img.com.ua/videoimg/16/118016_s608x342.jpg?1265537189"/>
          <p:cNvPicPr/>
          <p:nvPr/>
        </p:nvPicPr>
        <p:blipFill>
          <a:blip r:embed="rId3"/>
          <a:stretch/>
        </p:blipFill>
        <p:spPr>
          <a:xfrm>
            <a:off x="684360" y="3933720"/>
            <a:ext cx="42703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Calibri"/>
              </a:rPr>
              <a:t>Удивительные превращения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В кого превращались или были заколдованы сказочные герои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Князь Гвидо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В комара,в муху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в шмеля.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Picture 4" descr="гвидон"/>
          <p:cNvPicPr/>
          <p:nvPr/>
        </p:nvPicPr>
        <p:blipFill>
          <a:blip r:embed="rId1"/>
          <a:stretch/>
        </p:blipFill>
        <p:spPr>
          <a:xfrm>
            <a:off x="4643280" y="2133720"/>
            <a:ext cx="311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Братец Ивануш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(в козленка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4" name="Picture 4" descr="козёл"/>
          <p:cNvPicPr/>
          <p:nvPr/>
        </p:nvPicPr>
        <p:blipFill>
          <a:blip r:embed="rId1"/>
          <a:stretch/>
        </p:blipFill>
        <p:spPr>
          <a:xfrm>
            <a:off x="3906720" y="2514600"/>
            <a:ext cx="31035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Чудище из сказки Аксакова «Аленький цветочек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(в принца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7" name="Picture 4" descr="принц"/>
          <p:cNvPicPr/>
          <p:nvPr/>
        </p:nvPicPr>
        <p:blipFill>
          <a:blip r:embed="rId1"/>
          <a:stretch/>
        </p:blipFill>
        <p:spPr>
          <a:xfrm>
            <a:off x="297180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Одиннадцать братьев- принцев из сказки Андерсена «Дикие лебеди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(в лебедей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0" name="Picture 4" descr="лебеди"/>
          <p:cNvPicPr/>
          <p:nvPr/>
        </p:nvPicPr>
        <p:blipFill>
          <a:blip r:embed="rId1"/>
          <a:stretch/>
        </p:blipFill>
        <p:spPr>
          <a:xfrm>
            <a:off x="3886200" y="2666880"/>
            <a:ext cx="3097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Гадкий утён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В лебед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3" name="Picture 4" descr="Картонка"/>
          <p:cNvPicPr/>
          <p:nvPr/>
        </p:nvPicPr>
        <p:blipFill>
          <a:blip r:embed="rId1"/>
          <a:stretch/>
        </p:blipFill>
        <p:spPr>
          <a:xfrm>
            <a:off x="762120" y="3124080"/>
            <a:ext cx="2814480" cy="3162600"/>
          </a:xfrm>
          <a:prstGeom prst="rect">
            <a:avLst/>
          </a:prstGeom>
          <a:ln w="0">
            <a:noFill/>
          </a:ln>
        </p:spPr>
      </p:pic>
      <p:sp>
        <p:nvSpPr>
          <p:cNvPr id="304" name="Line 10"/>
          <p:cNvSpPr/>
          <p:nvPr/>
        </p:nvSpPr>
        <p:spPr>
          <a:xfrm>
            <a:off x="3886200" y="4724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0_5e91_7c8e710e_XL"/>
          <p:cNvPicPr/>
          <p:nvPr/>
        </p:nvPicPr>
        <p:blipFill>
          <a:blip r:embed="rId2"/>
          <a:stretch/>
        </p:blipFill>
        <p:spPr>
          <a:xfrm>
            <a:off x="5029200" y="3276720"/>
            <a:ext cx="3886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684360" y="115920"/>
            <a:ext cx="81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н и весел и незлобен этот милый чуда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 ним хозяин мальчик Ро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 приятель пята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179280" y="587700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инни П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myltia.com/files/gallery/vinipyh/big/vinipyh14.jpg"/>
          <p:cNvPicPr/>
          <p:nvPr/>
        </p:nvPicPr>
        <p:blipFill>
          <a:blip r:embed="rId1"/>
          <a:stretch/>
        </p:blipFill>
        <p:spPr>
          <a:xfrm>
            <a:off x="2817720" y="217800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Заголовок 3"/>
          <p:cNvSpPr/>
          <p:nvPr/>
        </p:nvSpPr>
        <p:spPr>
          <a:xfrm>
            <a:off x="900000" y="274680"/>
            <a:ext cx="77868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У Алёнушки-сестрицы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Унесли братишку птицы.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Высоко они летят,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Далеко они гляд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C:\Documents and Settings\учитель\Мои документы\Мои рисунки\gusi-lebedi.jpg"/>
          <p:cNvPicPr/>
          <p:nvPr/>
        </p:nvPicPr>
        <p:blipFill>
          <a:blip r:embed="rId1"/>
          <a:stretch/>
        </p:blipFill>
        <p:spPr>
          <a:xfrm>
            <a:off x="2195640" y="2781360"/>
            <a:ext cx="4653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C:\Documents and Settings\учитель\Мои документы\Мои рисунки\duimovochka_0-06-29.jpg"/>
          <p:cNvPicPr/>
          <p:nvPr/>
        </p:nvPicPr>
        <p:blipFill>
          <a:blip r:embed="rId1"/>
          <a:stretch/>
        </p:blipFill>
        <p:spPr>
          <a:xfrm>
            <a:off x="3513240" y="2506680"/>
            <a:ext cx="5622840" cy="4078440"/>
          </a:xfrm>
          <a:prstGeom prst="rect">
            <a:avLst/>
          </a:prstGeom>
          <a:ln w="0">
            <a:noFill/>
          </a:ln>
        </p:spPr>
      </p:pic>
      <p:sp>
        <p:nvSpPr>
          <p:cNvPr id="312" name="Заголовок 3"/>
          <p:cNvSpPr/>
          <p:nvPr/>
        </p:nvSpPr>
        <p:spPr>
          <a:xfrm>
            <a:off x="0" y="260280"/>
            <a:ext cx="89168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Появилась девочка в чашечке цветка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И была та девочка не больше ноготк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Кто читал такую книжку?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Знает девочку-малыш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250920" y="3789360"/>
            <a:ext cx="304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Г. Х. Андерс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Дюймов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C:\Documents and Settings\учитель\Мои документы\Мои рисунки\93317986.jpg"/>
          <p:cNvPicPr/>
          <p:nvPr/>
        </p:nvPicPr>
        <p:blipFill>
          <a:blip r:embed="rId1"/>
          <a:stretch/>
        </p:blipFill>
        <p:spPr>
          <a:xfrm>
            <a:off x="4967280" y="1628640"/>
            <a:ext cx="3960720" cy="4950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79280" y="26028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сех на свете он доб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Лечит он больных зве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И однажды бегемота вытащил он из бо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1130400" y="4437000"/>
            <a:ext cx="353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орней Чуко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Доктор Айб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9" descr="C:\Documents and Settings\учитель\Мои документы\Мои рисунки\22493_800x600_photos0800x600_1.jpg"/>
          <p:cNvPicPr/>
          <p:nvPr/>
        </p:nvPicPr>
        <p:blipFill>
          <a:blip r:embed="rId1"/>
          <a:stretch/>
        </p:blipFill>
        <p:spPr>
          <a:xfrm>
            <a:off x="2124000" y="2671920"/>
            <a:ext cx="5396040" cy="40464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6"/>
          <p:cNvSpPr/>
          <p:nvPr/>
        </p:nvSpPr>
        <p:spPr>
          <a:xfrm>
            <a:off x="324000" y="330120"/>
            <a:ext cx="836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Он сиреневый такой,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Машет весело рукой.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Он свалился к нам с луны –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Знают, любят мал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C:\Documents and Settings\учитель\Мои документы\Мои рисунки\fdb5c442e250.jpg"/>
          <p:cNvPicPr/>
          <p:nvPr/>
        </p:nvPicPr>
        <p:blipFill>
          <a:blip r:embed="rId1"/>
          <a:stretch/>
        </p:blipFill>
        <p:spPr>
          <a:xfrm>
            <a:off x="1781280" y="2565360"/>
            <a:ext cx="5648400" cy="410364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6"/>
          <p:cNvSpPr/>
          <p:nvPr/>
        </p:nvSpPr>
        <p:spPr>
          <a:xfrm>
            <a:off x="179280" y="18900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Возле леса, на опушке,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Трое их живет в избушке.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Там три стула и три кружки,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Три кроватки, три подуш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250920" y="290520"/>
            <a:ext cx="3744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Человек немолодой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 очень длинной бородой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Обижает Буратино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Артемона и Мальвину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И вообще для всех людей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Он отъявленный зло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kozlov.ru/upload/images/0701/0701151727410.jpg"/>
          <p:cNvPicPr/>
          <p:nvPr/>
        </p:nvPicPr>
        <p:blipFill>
          <a:blip r:embed="rId1"/>
          <a:stretch/>
        </p:blipFill>
        <p:spPr>
          <a:xfrm>
            <a:off x="3851280" y="668160"/>
            <a:ext cx="525636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6"/>
          <p:cNvSpPr/>
          <p:nvPr/>
        </p:nvSpPr>
        <p:spPr>
          <a:xfrm>
            <a:off x="0" y="144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Все девчонки и мальчишки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Полюбить его успели.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Он - герой веселой книжки,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За спиной его - пропеллер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http://img-fotki.yandex.ru/get/5600/elena-komarov.1b4/0_4feda_2ce570a9_-1-XL.jpg"/>
          <p:cNvPicPr/>
          <p:nvPr/>
        </p:nvPicPr>
        <p:blipFill>
          <a:blip r:embed="rId1"/>
          <a:stretch/>
        </p:blipFill>
        <p:spPr>
          <a:xfrm>
            <a:off x="1332000" y="2205000"/>
            <a:ext cx="6912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6"/>
          <p:cNvSpPr/>
          <p:nvPr/>
        </p:nvSpPr>
        <p:spPr>
          <a:xfrm>
            <a:off x="324000" y="260280"/>
            <a:ext cx="3168360" cy="667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сик круглый, пятачком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м в земле удобно рыться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востик маленький крючком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место туфелек — копытца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ое их — и до чего ж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ратья дружные похожи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гадайте без подсказки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то герои этой сказки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C:\Documents and Settings\учитель\Мои документы\Мои рисунки\tri-porosenka.jpg"/>
          <p:cNvPicPr/>
          <p:nvPr/>
        </p:nvPicPr>
        <p:blipFill>
          <a:blip r:embed="rId1"/>
          <a:stretch/>
        </p:blipFill>
        <p:spPr>
          <a:xfrm>
            <a:off x="3584520" y="1557360"/>
            <a:ext cx="5380200" cy="401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4364280" y="907920"/>
            <a:ext cx="27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Три порос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6"/>
          <p:cNvSpPr/>
          <p:nvPr/>
        </p:nvSpPr>
        <p:spPr>
          <a:xfrm>
            <a:off x="324000" y="115920"/>
            <a:ext cx="8713800" cy="180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Ждали маму с моло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А пустили волк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Кем же были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Маленькие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C:\Documents and Settings\учитель\Мои документы\Мои рисунки\1267009523_3.jpg"/>
          <p:cNvPicPr/>
          <p:nvPr/>
        </p:nvPicPr>
        <p:blipFill>
          <a:blip r:embed="rId1"/>
          <a:stretch/>
        </p:blipFill>
        <p:spPr>
          <a:xfrm>
            <a:off x="1292400" y="2060640"/>
            <a:ext cx="6278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6"/>
          <p:cNvSpPr/>
          <p:nvPr/>
        </p:nvSpPr>
        <p:spPr>
          <a:xfrm>
            <a:off x="409680" y="187200"/>
            <a:ext cx="8423280" cy="2288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Постучался в нашу дверь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Необычный чудо-зверь -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Он в коричневой рубашке,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Ушки-блюдца нараспа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http://onfillm.ru/uploads/posts/Cheburashka_1.jpg"/>
          <p:cNvPicPr/>
          <p:nvPr/>
        </p:nvPicPr>
        <p:blipFill>
          <a:blip r:embed="rId1"/>
          <a:stretch/>
        </p:blipFill>
        <p:spPr>
          <a:xfrm>
            <a:off x="1763640" y="2484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6"/>
          <p:cNvSpPr/>
          <p:nvPr/>
        </p:nvSpPr>
        <p:spPr>
          <a:xfrm>
            <a:off x="324000" y="765000"/>
            <a:ext cx="367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Летит стрела к одной лягушке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Пронзит сердечко у квакушки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Лягушка эта не простая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На ней корона золотая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http://znatok.ua/data/image/fairy_tales/tsarevna_lyagushka_1.jpg"/>
          <p:cNvPicPr/>
          <p:nvPr/>
        </p:nvPicPr>
        <p:blipFill>
          <a:blip r:embed="rId1"/>
          <a:stretch/>
        </p:blipFill>
        <p:spPr>
          <a:xfrm>
            <a:off x="4284720" y="404640"/>
            <a:ext cx="4359240" cy="61484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"/>
          <p:cNvSpPr/>
          <p:nvPr/>
        </p:nvSpPr>
        <p:spPr>
          <a:xfrm>
            <a:off x="1213920" y="630864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Царевна 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4"/>
          <p:cNvSpPr/>
          <p:nvPr/>
        </p:nvSpPr>
        <p:spPr>
          <a:xfrm>
            <a:off x="179280" y="40464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Жил на свете кроха мальчик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Был малютка ростом с пальчик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Под дождем он танцевал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С солнечным лучом игр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C:\Documents and Settings\учитель\Мои документы\Мои рисунки\27Qod.jpg"/>
          <p:cNvPicPr/>
          <p:nvPr/>
        </p:nvPicPr>
        <p:blipFill>
          <a:blip r:embed="rId1"/>
          <a:stretch/>
        </p:blipFill>
        <p:spPr>
          <a:xfrm>
            <a:off x="2050920" y="2328840"/>
            <a:ext cx="5624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4"/>
          <p:cNvSpPr/>
          <p:nvPr/>
        </p:nvSpPr>
        <p:spPr>
          <a:xfrm>
            <a:off x="108000" y="692280"/>
            <a:ext cx="4219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В красной шапочке идет,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Пирожки с собой несет.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За кустами волк сидит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И за девочкой след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C:\Documents and Settings\учитель\Мои документы\Мои рисунки\po_71246.jpg"/>
          <p:cNvPicPr/>
          <p:nvPr/>
        </p:nvPicPr>
        <p:blipFill>
          <a:blip r:embed="rId1"/>
          <a:stretch/>
        </p:blipFill>
        <p:spPr>
          <a:xfrm>
            <a:off x="4716360" y="476280"/>
            <a:ext cx="4000680" cy="57783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"/>
          <p:cNvSpPr/>
          <p:nvPr/>
        </p:nvSpPr>
        <p:spPr>
          <a:xfrm>
            <a:off x="122400" y="5445000"/>
            <a:ext cx="459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Ш. Перро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расная шап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324000" y="649440"/>
            <a:ext cx="403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Бабусю знает целы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Ей от роду лишь триста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Там на неведомых дорож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Дом ее на курьих нож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 (446x624, 87Kb)"/>
          <p:cNvPicPr/>
          <p:nvPr/>
        </p:nvPicPr>
        <p:blipFill>
          <a:blip r:embed="rId1"/>
          <a:stretch/>
        </p:blipFill>
        <p:spPr>
          <a:xfrm>
            <a:off x="4464000" y="677880"/>
            <a:ext cx="42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4"/>
          <p:cNvSpPr/>
          <p:nvPr/>
        </p:nvSpPr>
        <p:spPr>
          <a:xfrm>
            <a:off x="468360" y="758880"/>
            <a:ext cx="387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mic Sans MS"/>
              </a:rPr>
              <a:t>Мальчик луковичка я!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Comic Sans MS"/>
              </a:rPr>
              <a:t>Интересна жизнь моя.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Comic Sans MS"/>
              </a:rPr>
              <a:t>Стрелы я пущу из лука,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Comic Sans MS"/>
              </a:rPr>
              <a:t>Их возьму у папы-лука</a:t>
            </a:r>
            <a:r>
              <a:rPr b="1" lang="en-US" sz="4000" spc="-1" strike="noStrike">
                <a:solidFill>
                  <a:srgbClr val="4e161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http://im7-tub-ru.yandex.net/i?id=289292076-21-72&amp;n=21"/>
          <p:cNvPicPr/>
          <p:nvPr/>
        </p:nvPicPr>
        <p:blipFill>
          <a:blip r:embed="rId1"/>
          <a:stretch/>
        </p:blipFill>
        <p:spPr>
          <a:xfrm>
            <a:off x="4338720" y="47520"/>
            <a:ext cx="4410000" cy="6423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702000" y="5800680"/>
            <a:ext cx="471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Джанни Род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ключения Чиполл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4"/>
          <p:cNvSpPr/>
          <p:nvPr/>
        </p:nvSpPr>
        <p:spPr>
          <a:xfrm>
            <a:off x="320760" y="0"/>
            <a:ext cx="87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На цветочных лепесточках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Веселилась я всю ночку!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Самовар большой достала,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Со шмелями пировала</a:t>
            </a: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C:\Documents and Settings\учитель\Мои документы\Мои рисунки\61452956_cokotuha01.gif"/>
          <p:cNvPicPr/>
          <p:nvPr/>
        </p:nvPicPr>
        <p:blipFill>
          <a:blip r:embed="rId1"/>
          <a:stretch/>
        </p:blipFill>
        <p:spPr>
          <a:xfrm>
            <a:off x="3389400" y="2303640"/>
            <a:ext cx="5325840" cy="4365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"/>
          <p:cNvSpPr/>
          <p:nvPr/>
        </p:nvSpPr>
        <p:spPr>
          <a:xfrm>
            <a:off x="121680" y="5084640"/>
            <a:ext cx="343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орней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Муха Цоко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4"/>
          <p:cNvSpPr/>
          <p:nvPr/>
        </p:nvSpPr>
        <p:spPr>
          <a:xfrm>
            <a:off x="250920" y="404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В детстве все над ним смеял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Оттолкнуть его старал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Ведь никто не знал, что 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Белым лебедем рожд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C:\Documents and Settings\учитель\Мои документы\Мои рисунки\gadkii_utenok.jpg"/>
          <p:cNvPicPr/>
          <p:nvPr/>
        </p:nvPicPr>
        <p:blipFill>
          <a:blip r:embed="rId1"/>
          <a:stretch/>
        </p:blipFill>
        <p:spPr>
          <a:xfrm>
            <a:off x="3132000" y="2349360"/>
            <a:ext cx="5702400" cy="42483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392400" y="3357720"/>
            <a:ext cx="27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Г. Х. Андер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Гадкий ут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353880" y="177840"/>
            <a:ext cx="86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Уплетая калачи,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Едет парень на печи.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Едет прямо во дворец,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Кто же этот </a:t>
            </a: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молодец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http://img0.liveinternet.ru/images/attach/c/2/68/167/68167644_104294063.jpg"/>
          <p:cNvPicPr/>
          <p:nvPr/>
        </p:nvPicPr>
        <p:blipFill>
          <a:blip r:embed="rId1"/>
          <a:stretch/>
        </p:blipFill>
        <p:spPr>
          <a:xfrm>
            <a:off x="2879640" y="2295360"/>
            <a:ext cx="6048360" cy="448344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119520" y="2978280"/>
            <a:ext cx="25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Ем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«По щучь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Велень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179280" y="189000"/>
            <a:ext cx="39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Сидит в корзинке девочка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У мишки за спиной.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Он сам, того не ведая,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Несёт её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C:\Documents and Settings\учитель\Мои документы\Мои рисунки\C3C0397CC3F5.jpg"/>
          <p:cNvPicPr/>
          <p:nvPr/>
        </p:nvPicPr>
        <p:blipFill>
          <a:blip r:embed="rId1"/>
          <a:stretch/>
        </p:blipFill>
        <p:spPr>
          <a:xfrm>
            <a:off x="4211640" y="333360"/>
            <a:ext cx="4392720" cy="62071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769320" y="62373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Маша и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4"/>
          <p:cNvSpPr/>
          <p:nvPr/>
        </p:nvSpPr>
        <p:spPr>
          <a:xfrm>
            <a:off x="250920" y="1628640"/>
            <a:ext cx="273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Рыбка не про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Чешуёй сверк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Плавает, ныря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mic Sans MS"/>
              </a:rPr>
              <a:t>Желанья исполняет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9" descr="http://www.internationaltoys.com/pictures/129666_1.jpg"/>
          <p:cNvPicPr/>
          <p:nvPr/>
        </p:nvPicPr>
        <p:blipFill>
          <a:blip r:embed="rId1"/>
          <a:stretch/>
        </p:blipFill>
        <p:spPr>
          <a:xfrm>
            <a:off x="4262400" y="244440"/>
            <a:ext cx="444996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108000" y="404640"/>
            <a:ext cx="4167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В шляпе с круглыми по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И в штанишках до колен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Занят разными дел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Лишь учиться ему лень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http://mistergid.ru/image/upload/2011-08-08/330026694634_267299936_pl_032.jpg"/>
          <p:cNvPicPr/>
          <p:nvPr/>
        </p:nvPicPr>
        <p:blipFill>
          <a:blip r:embed="rId1"/>
          <a:stretch/>
        </p:blipFill>
        <p:spPr>
          <a:xfrm>
            <a:off x="4165560" y="6825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195120" y="33336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Я старушка хоть куда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И умна, и молода!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о мною всюду крыс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По имени Ларис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C:\Documents and Settings\учитель\Мои документы\Мои рисунки\ph3.jpg"/>
          <p:cNvPicPr/>
          <p:nvPr/>
        </p:nvPicPr>
        <p:blipFill>
          <a:blip r:embed="rId1"/>
          <a:stretch/>
        </p:blipFill>
        <p:spPr>
          <a:xfrm>
            <a:off x="1835280" y="2311560"/>
            <a:ext cx="57625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496360" cy="207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Нет ни речки, ни пруда –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Где воды напиться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Очень вкусная вода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В ямке от копытца</a:t>
            </a: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65" name="Picture 5" descr="C:\Documents and Settings\учитель\Мои документы\Мои рисунки\43333504_2702.jpg"/>
          <p:cNvPicPr/>
          <p:nvPr/>
        </p:nvPicPr>
        <p:blipFill>
          <a:blip r:embed="rId1"/>
          <a:stretch/>
        </p:blipFill>
        <p:spPr>
          <a:xfrm>
            <a:off x="1692360" y="2192400"/>
            <a:ext cx="6092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14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Был друг у Ивана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Немного  горбатым,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но сделал счастливым его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И богатым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68" name="Picture 5" descr="C:\Documents and Settings\учитель\Мои документы\Мои рисунки\184858.jpg"/>
          <p:cNvPicPr/>
          <p:nvPr/>
        </p:nvPicPr>
        <p:blipFill>
          <a:blip r:embed="rId1"/>
          <a:stretch/>
        </p:blipFill>
        <p:spPr>
          <a:xfrm>
            <a:off x="2627280" y="2689200"/>
            <a:ext cx="6046920" cy="3930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"/>
          <p:cNvSpPr/>
          <p:nvPr/>
        </p:nvSpPr>
        <p:spPr>
          <a:xfrm>
            <a:off x="111600" y="2852640"/>
            <a:ext cx="26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Ер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Конек -Горб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252360" y="54936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бежали от гряз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ашки, ложки и кастрю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щет их она, з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 в дороге слезы ль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http://audioskazki.net/wp-content/gallery/chukovsky/fedorino_gore/0008.jpg"/>
          <p:cNvPicPr/>
          <p:nvPr/>
        </p:nvPicPr>
        <p:blipFill>
          <a:blip r:embed="rId1"/>
          <a:stretch/>
        </p:blipFill>
        <p:spPr>
          <a:xfrm>
            <a:off x="4357800" y="117360"/>
            <a:ext cx="4762440" cy="6734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478440" y="5373720"/>
            <a:ext cx="24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К. Чу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Федорино г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25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А теперь про чей-то дом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разговор мы заведём.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В нём богатая хозяйка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Припеваючи жила,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Но пришла беда нежданно –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Этот дом сгорел дотла</a:t>
            </a:r>
            <a:r>
              <a:rPr b="1" lang="en-US" sz="2800" spc="-1" strike="noStrike">
                <a:solidFill>
                  <a:srgbClr val="353232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72" name="Picture 5" descr="C:\Documents and Settings\учитель\Мои документы\Мои рисунки\b971d385644d2ae9418c11ed83c.jpg"/>
          <p:cNvPicPr/>
          <p:nvPr/>
        </p:nvPicPr>
        <p:blipFill>
          <a:blip r:embed="rId1"/>
          <a:stretch/>
        </p:blipFill>
        <p:spPr>
          <a:xfrm>
            <a:off x="1979640" y="2565360"/>
            <a:ext cx="5511600" cy="41324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"/>
          <p:cNvSpPr/>
          <p:nvPr/>
        </p:nvSpPr>
        <p:spPr>
          <a:xfrm>
            <a:off x="6898680" y="1125360"/>
            <a:ext cx="20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Кошкин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"/>
          <p:cNvSpPr/>
          <p:nvPr/>
        </p:nvSpPr>
        <p:spPr>
          <a:xfrm>
            <a:off x="324000" y="98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imagesbase.com/upload/view/6b167cc2c382_1265818665_acdghlrvy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324000" y="1341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forum.sibmama.ru/usrpx/22493/22493_800x600_photos0800x600_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9"/>
          <p:cNvSpPr/>
          <p:nvPr/>
        </p:nvSpPr>
        <p:spPr>
          <a:xfrm>
            <a:off x="324000" y="1700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http://i053.radikal.ru/1102/7e/fdb5c442e25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0"/>
          <p:cNvSpPr/>
          <p:nvPr/>
        </p:nvSpPr>
        <p:spPr>
          <a:xfrm>
            <a:off x="324000" y="2276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http://fafka.ru/wp-content/uploads/2009/09/kirlson-big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1"/>
          <p:cNvSpPr/>
          <p:nvPr/>
        </p:nvSpPr>
        <p:spPr>
          <a:xfrm>
            <a:off x="324000" y="1989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http://www.stihi.ru/pics/2011/03/10/128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2"/>
          <p:cNvSpPr/>
          <p:nvPr/>
        </p:nvSpPr>
        <p:spPr>
          <a:xfrm>
            <a:off x="324000" y="25653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6"/>
              </a:rPr>
              <a:t>http://myphoto.nnov.ru/img/27Qo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3"/>
          <p:cNvSpPr/>
          <p:nvPr/>
        </p:nvSpPr>
        <p:spPr>
          <a:xfrm>
            <a:off x="324000" y="28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ezumie.com/puzzle2/puzzles/po_7124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4"/>
          <p:cNvSpPr/>
          <p:nvPr/>
        </p:nvSpPr>
        <p:spPr>
          <a:xfrm>
            <a:off x="324000" y="3141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ashkiev.ua/style/u/afisha/4718/big_poster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5"/>
          <p:cNvSpPr/>
          <p:nvPr/>
        </p:nvSpPr>
        <p:spPr>
          <a:xfrm>
            <a:off x="324000" y="3429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rum.materinstvo.ru/uploads/1252863141/post-160198-1252929093_thumb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6"/>
          <p:cNvSpPr/>
          <p:nvPr/>
        </p:nvSpPr>
        <p:spPr>
          <a:xfrm>
            <a:off x="324000" y="400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nz39.edu.vn.ua/uploads/tiger-1288015001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324000" y="43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0.liveinternet.ru/images/attach/c/1/61/452/61452956_cokotuha01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324000" y="4653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ci.oakley.ca.us/UserFiles/Image/Parks/Weather%20Keys/j043820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8"/>
          <p:cNvSpPr/>
          <p:nvPr/>
        </p:nvSpPr>
        <p:spPr>
          <a:xfrm>
            <a:off x="324000" y="49417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0.liveinternet.ru/images/attach/c/0/43/333/43333504_270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9"/>
          <p:cNvSpPr/>
          <p:nvPr/>
        </p:nvSpPr>
        <p:spPr>
          <a:xfrm>
            <a:off x="324000" y="5229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.allday.ru/uploads/posts/2008-09/1221162506_v-gostjakh-u-skazki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Источник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24000" y="5599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libri"/>
              </a:rPr>
              <a:t>Волшебные слов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380196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   </a:t>
            </a: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Кто говорил в какой сказке следующие слов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   </a:t>
            </a: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Сивка-Бурка, вещий каурка!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   </a:t>
            </a: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Стань передо мной, как лист перед траво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5" descr="http://www.karusel-toys.ru/images/catalog/image_b.php?namephoto=s_64283.jpg"/>
          <p:cNvPicPr/>
          <p:nvPr/>
        </p:nvPicPr>
        <p:blipFill>
          <a:blip r:embed="rId1"/>
          <a:stretch/>
        </p:blipFill>
        <p:spPr>
          <a:xfrm>
            <a:off x="4572000" y="333360"/>
            <a:ext cx="4060800" cy="6288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"/>
          <p:cNvSpPr/>
          <p:nvPr/>
        </p:nvSpPr>
        <p:spPr>
          <a:xfrm>
            <a:off x="395280" y="55897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Иванушка дур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80880" y="260280"/>
            <a:ext cx="8583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Лети- лети , лепесток, через запад на восток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Через север, через юг, возвращайся, сделав круг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Лишь коснешься ты земли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ambria"/>
              </a:rPr>
              <a:t>Быть по моему вел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8" name="Picture 5" descr="http://viki.rdf.ru/media/upload/preview/717950.jpg"/>
          <p:cNvPicPr/>
          <p:nvPr/>
        </p:nvPicPr>
        <p:blipFill>
          <a:blip r:embed="rId1"/>
          <a:stretch/>
        </p:blipFill>
        <p:spPr>
          <a:xfrm>
            <a:off x="3203640" y="206064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324000" y="2997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Ж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Валентин Кат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Назови друзей сказочных герое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                              </a:t>
            </a: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Пятачок, Кролик, Иа-И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                          </a:t>
            </a: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Рыбки, мотылёк, ласточка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2" name="Picture 4" descr="вин"/>
          <p:cNvPicPr/>
          <p:nvPr/>
        </p:nvPicPr>
        <p:blipFill>
          <a:blip r:embed="rId1"/>
          <a:stretch/>
        </p:blipFill>
        <p:spPr>
          <a:xfrm>
            <a:off x="1066680" y="838080"/>
            <a:ext cx="142560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Line 5"/>
          <p:cNvSpPr/>
          <p:nvPr/>
        </p:nvSpPr>
        <p:spPr>
          <a:xfrm>
            <a:off x="28195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дюйм"/>
          <p:cNvPicPr/>
          <p:nvPr/>
        </p:nvPicPr>
        <p:blipFill>
          <a:blip r:embed="rId2"/>
          <a:stretch/>
        </p:blipFill>
        <p:spPr>
          <a:xfrm>
            <a:off x="228600" y="3962520"/>
            <a:ext cx="2362320" cy="2006640"/>
          </a:xfrm>
          <a:prstGeom prst="rect">
            <a:avLst/>
          </a:prstGeom>
          <a:ln w="0">
            <a:noFill/>
          </a:ln>
        </p:spPr>
      </p:pic>
      <p:sp>
        <p:nvSpPr>
          <p:cNvPr id="265" name="Line 7"/>
          <p:cNvSpPr/>
          <p:nvPr/>
        </p:nvSpPr>
        <p:spPr>
          <a:xfrm>
            <a:off x="27432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alibri"/>
              </a:rPr>
              <a:t>Назовите друзей  литературных персонаж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                                  </a:t>
            </a: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Вишенка и Редис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                                    </a:t>
            </a:r>
            <a:r>
              <a:rPr b="0" lang="ru-RU" sz="2600" spc="-1" strike="noStrike">
                <a:solidFill>
                  <a:srgbClr val="009900"/>
                </a:solidFill>
                <a:latin typeface="Cambria"/>
              </a:rPr>
              <a:t>Карлсо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8" name="Picture 8" descr="чип"/>
          <p:cNvPicPr/>
          <p:nvPr/>
        </p:nvPicPr>
        <p:blipFill>
          <a:blip r:embed="rId1"/>
          <a:stretch/>
        </p:blipFill>
        <p:spPr>
          <a:xfrm>
            <a:off x="914400" y="1523880"/>
            <a:ext cx="2133720" cy="1941480"/>
          </a:xfrm>
          <a:prstGeom prst="rect">
            <a:avLst/>
          </a:prstGeom>
          <a:ln w="0">
            <a:noFill/>
          </a:ln>
        </p:spPr>
      </p:pic>
      <p:sp>
        <p:nvSpPr>
          <p:cNvPr id="269" name="Line 9"/>
          <p:cNvSpPr/>
          <p:nvPr/>
        </p:nvSpPr>
        <p:spPr>
          <a:xfrm>
            <a:off x="320040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мал"/>
          <p:cNvPicPr/>
          <p:nvPr/>
        </p:nvPicPr>
        <p:blipFill>
          <a:blip r:embed="rId2"/>
          <a:stretch/>
        </p:blipFill>
        <p:spPr>
          <a:xfrm>
            <a:off x="990720" y="4191120"/>
            <a:ext cx="2361960" cy="1766880"/>
          </a:xfrm>
          <a:prstGeom prst="rect">
            <a:avLst/>
          </a:prstGeom>
          <a:ln w="0">
            <a:noFill/>
          </a:ln>
        </p:spPr>
      </p:pic>
      <p:sp>
        <p:nvSpPr>
          <p:cNvPr id="271" name="Line 11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alibri"/>
              </a:rPr>
              <a:t>Какие волшебные средства были у сказочных героев.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ambria"/>
              </a:rPr>
              <a:t>У Буратин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28195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буоатино"/>
          <p:cNvPicPr/>
          <p:nvPr/>
        </p:nvPicPr>
        <p:blipFill>
          <a:blip r:embed="rId1"/>
          <a:stretch/>
        </p:blipFill>
        <p:spPr>
          <a:xfrm>
            <a:off x="4800600" y="1981080"/>
            <a:ext cx="3048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6:22:17Z</dcterms:created>
  <dc:creator>учитель</dc:creator>
  <dc:description/>
  <dc:language>en-US</dc:language>
  <cp:lastModifiedBy>Гузель</cp:lastModifiedBy>
  <dcterms:modified xsi:type="dcterms:W3CDTF">2014-11-17T13:12:25Z</dcterms:modified>
  <cp:revision>104</cp:revision>
  <dc:subject/>
  <dc:title>Слайд 1</dc:title>
</cp:coreProperties>
</file>