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3D9-BD16-4809-A431-41370C290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2AF-1198-4DFB-A316-0665A3D7D7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FDD-3AA1-4A51-A7D1-BE2524F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8F2-417C-40A1-A85D-243EB9F0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682-9BC2-44AA-9387-8EA9E02C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592-9895-4474-8CBB-91E18C06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F49-CA97-446A-B73A-3CB9FF26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58A0-62C3-4007-9DBA-97593B3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AEAB-8D3C-426A-88EC-2A1EAF5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003C-398F-419C-93B3-708D3EB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143-68DB-41D7-8E0C-39F4BBA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C50-8E3A-4D95-833A-4925482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C3F-61B6-4ECF-9F45-76ADB9F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827-7FBC-4C18-8984-506CD1C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BF1-D4E9-40AD-B391-5200418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04D3-F234-40D1-BA96-1517901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6976-6FCA-4751-A0BF-EE2272C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4804-F6DD-41B5-8D5E-4A06CDAE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82E8-D9C7-49B5-92CD-6DA36703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679F-8C3A-498A-B9A8-949E8F29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CBAF-4522-4698-BA0A-313E8EEF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5773-1F5E-4A60-8C25-8E36F532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EBFA-C194-43FB-ABC8-57A2B51A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445E-806E-486A-B872-1CDFD8FA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DA3-5E23-4525-8A5A-3F7CEA3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B171-7F1F-4135-9618-7F7C4D3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39D7-0417-4C99-AD68-55E7174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9897-23F1-4EBE-84F2-68306E1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B889-4991-41F3-9999-2D2EF4D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1424-E0DD-4807-9456-DF8F519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3F6F-46C7-476A-A1CC-48D19659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288C-8982-42D9-9A83-9A3CE844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B9BB-14C3-478D-BADB-E1DD332B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25C7-7E18-4A60-BD2F-EBAC054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109C-9DFB-4E01-8FD6-DC2B2B0B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0EC-49D2-4BEB-B5DB-5EA8EA2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A70D-5500-4CA8-9707-632B1F66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75C3-27FF-4821-8CC2-1EA7E93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8861-5010-4F07-AAD8-223F737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D0A1-E33B-4D4A-9E44-5599C859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40BB-5BD4-436C-A5E4-0BBE26F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F4B6-4A8A-4C4F-8A00-1536B80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B3A4-DB79-40AB-BC01-E2AD18C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1057-3B91-45E9-B5C6-03C5BD17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C294-3781-4F12-AE16-0DE9790E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2C70-B1E0-4010-B4C8-C14C63FC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331-1403-45B9-9B0C-982AC94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D6E4-D2F1-42DF-B76C-1318ADB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CFEF-0D68-497B-AC21-F74296F0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4580-0F1B-441E-B157-BDDD1315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BEFD-36A1-41C6-A6B5-419DD98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C7326-9646-49EF-A73F-BDC2F26F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662E-810B-4448-A03D-C6866A1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AA66-EAC9-4541-86F9-A1851F9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CB69-0667-4701-B6BA-CDB38AF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C1C5-3BC0-4909-9C3E-48377F5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2FED-F2B4-4F9F-8275-DE8B6067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8BA-538D-4655-9438-3702EA8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F3D0-B0B9-4354-8D75-2F5A83E2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F4B-9D52-4821-A469-46D595D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136-47E4-4752-98F5-13535C5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0CF-24C0-4DBC-8F02-2BC4CB8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ED7C-4190-404D-83F5-F2D384E8F2FB}" type="slidenum">
              <a:rPr b="0" lang="ru-RU" sz="1000" spc="-1" strike="noStrike">
                <a:solidFill>
                  <a:srgbClr val="a7a3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3A5C-91A2-470A-BBCF-6F0B58ABDD98}" type="slidenum">
              <a:rPr b="0" lang="ru-RU" sz="1000" spc="-1" strike="noStrike">
                <a:solidFill>
                  <a:srgbClr val="a7a3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056-5C8C-4B1C-802A-45FC64197C80}" type="slidenum">
              <a:rPr b="0" lang="ru-RU" sz="1000" spc="-1" strike="noStrike">
                <a:solidFill>
                  <a:srgbClr val="a7a3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4305-4858-4FFC-A1E5-837027DF42B1}" type="slidenum">
              <a:rPr b="0" lang="ru-RU" sz="1000" spc="-1" strike="noStrike">
                <a:solidFill>
                  <a:srgbClr val="a7a3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4F28-5FDE-4483-A06F-DC3C8C3A6E59}" type="slidenum">
              <a:rPr b="0" lang="ru-RU" sz="1000" spc="-1" strike="noStrike">
                <a:solidFill>
                  <a:srgbClr val="a7a3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ема урока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ставление  химических формул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рных соединений по валент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067280" y="4292640"/>
            <a:ext cx="38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мия 8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химии: Петрова Е.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258920" y="14842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ность атомов присоединять к себе определенное число других ат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79280" y="42840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естики-нолик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ыигрышный путь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одновалентные металл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ыигрышный путь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ёхвалентные металл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47865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1785960" y="4214880"/>
            <a:ext cx="482580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643040" y="1214280"/>
          <a:ext cx="7215120" cy="4776840"/>
        </p:xfrm>
        <a:graphic>
          <a:graphicData uri="http://schemas.openxmlformats.org/drawingml/2006/table">
            <a:tbl>
              <a:tblPr/>
              <a:tblGrid>
                <a:gridCol w="1714680"/>
                <a:gridCol w="3095640"/>
                <a:gridCol w="2404800"/>
              </a:tblGrid>
              <a:tr h="70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ентнос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ры формул соеди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постоянной валент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, Na, K, 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, Be, Mg, Ca, Ba, 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,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2O, Na2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O, C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2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переменной валент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и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 и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 и 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 и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, III и 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, IV и 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, Co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,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2O, Cu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O, Fe2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O, Sn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3, P2O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O, Cr2O3, CrO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2S, SO2, S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Box 4"/>
          <p:cNvSpPr/>
          <p:nvPr/>
        </p:nvSpPr>
        <p:spPr>
          <a:xfrm>
            <a:off x="884880" y="42876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валентности некоторых  химических эле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н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ентность II селен имеет в каждом из двух веществ, формулы которы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Sе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и Sе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Sе и СS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Sе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и Sе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6"/>
          <p:cNvSpPr/>
          <p:nvPr/>
        </p:nvSpPr>
        <p:spPr>
          <a:xfrm>
            <a:off x="250920" y="112536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ьте формул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ног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з химических соединений, определив валентности  и построй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остержневую модель из пластилина и спич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TextBox 7" descr=""/>
          <p:cNvPicPr/>
          <p:nvPr/>
        </p:nvPicPr>
        <p:blipFill>
          <a:blip r:embed="rId1"/>
          <a:stretch/>
        </p:blipFill>
        <p:spPr>
          <a:xfrm>
            <a:off x="2840040" y="2766960"/>
            <a:ext cx="8145360" cy="26463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197964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7680" y="1500120"/>
            <a:ext cx="5943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/з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§17 упр. Стр.59-60, изучить алгоритм. Выполнить упр 5, стр. 58; упр.2, стр. 60; принести поваренную соль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1</cp:lastModifiedBy>
  <dcterms:modified xsi:type="dcterms:W3CDTF">2022-11-17T12:47:42Z</dcterms:modified>
  <cp:revision>26</cp:revision>
  <dc:subject/>
  <dc:title>Шаблон презентации</dc:title>
</cp:coreProperties>
</file>